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DE1-C41F-4D3C-B3B5-E7FEBFE8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BC6-8A73-4A8D-B739-DE6E5778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529-D5B2-417E-A0DC-F26878B3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490-7DDF-4846-A090-5A2C7B37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E97-C8A9-4634-AF6D-15202E14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BBC-F22C-4A4A-BE89-ACCFFE63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B8C-9910-477D-B9E1-A077946F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A80-EF7C-4CBC-860C-A036C6AF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1CA9-486B-4B93-898D-EF324857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8D7-67F0-4F60-8198-2DD9158D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06B-4D8D-4BB4-9C1B-503EF82E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081-3AFF-49BB-8F6C-ECCA8AE4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1FF2-E4D5-44F0-B2CC-8CE609CC36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1030320" y="1596960"/>
            <a:ext cx="7162920" cy="2371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6588000" y="573264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боту 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ка группы 3-11П Бугрова Ка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5"/>
          <p:cNvSpPr/>
          <p:nvPr/>
        </p:nvSpPr>
        <p:spPr>
          <a:xfrm>
            <a:off x="0" y="11253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Немецкий, крупный композитор XX века, сделавший большой вклад в области музыкаль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250920" y="18900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Карл Генрих Мария О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1895-19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s://avt-7.foto.mail.ru/community/carl_orff/_avatarbig"/>
          <p:cNvPicPr/>
          <p:nvPr/>
        </p:nvPicPr>
        <p:blipFill>
          <a:blip r:embed="rId1"/>
          <a:stretch/>
        </p:blipFill>
        <p:spPr>
          <a:xfrm>
            <a:off x="324000" y="2706840"/>
            <a:ext cx="3814560" cy="381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record-music.ru/img/2015/062921/5042096"/>
          <p:cNvPicPr/>
          <p:nvPr/>
        </p:nvPicPr>
        <p:blipFill>
          <a:blip r:embed="rId2"/>
          <a:stretch/>
        </p:blipFill>
        <p:spPr>
          <a:xfrm>
            <a:off x="4359240" y="2206800"/>
            <a:ext cx="44308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826920" y="490680"/>
            <a:ext cx="63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 педагогических кругах он лучше всего известен своей работой «Шульверк» 1930-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Её простая музыкальная инструментовка позволяла даже необученным детям-музыкатам исполнять части произведений с относительной лёг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://www.recordsale.de/cdpix/c/carlorff.gunildkeetman-orff-schulwerk.jpg"/>
          <p:cNvPicPr/>
          <p:nvPr/>
        </p:nvPicPr>
        <p:blipFill>
          <a:blip r:embed="rId1"/>
          <a:stretch/>
        </p:blipFill>
        <p:spPr>
          <a:xfrm rot="353400">
            <a:off x="2101680" y="2389320"/>
            <a:ext cx="3959280" cy="3990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324000" y="47628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Слово «Schulwerk» было создано самим Карлом Орфом и обозначает «обучение в действ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Главный принцип его педагогики – «учимся, делая и творя» – это позволяет детям, исполняя и создавая музыку вместе, познать ее в реальном, живом действии. Каждая небольшая пьеса из Шульверка доступна в исполнении даже маленьким детям.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cs626429.vk.me/v626429129/17da3/lLu3lwcs4PI.jpg"/>
          <p:cNvPicPr/>
          <p:nvPr/>
        </p:nvPicPr>
        <p:blipFill>
          <a:blip r:embed="rId1"/>
          <a:stretch/>
        </p:blipFill>
        <p:spPr>
          <a:xfrm>
            <a:off x="2700360" y="2494080"/>
            <a:ext cx="40291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179280" y="0"/>
            <a:ext cx="640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  <a:ea typeface="Arial"/>
              </a:rPr>
              <a:t>Главной заботой Орфа – воспитать «открытый миру» слух и вкус, не замыкать ребенка в кругу европейской музыкальной классики XVIII-XIX ве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  <a:ea typeface="Arial"/>
              </a:rPr>
              <a:t>Карл Орф был убежден, что для детей нужна своя особая музыка. Она должна быть доступна переживанию в детском возрасте и соответствовать психологии ребенка. Это не чистая музыка, а музыка неразрывно связанная с речью и движением: петь и одновременно приплясывать, выкрикивать дразнилку и чем-нибудь звенеть, чередовать речь и пение для детей также естественно, как и просто играть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mue6080.wikispaces.com/file/view/Orff5.jpg/210112250/598x388/Orff5.jpg"/>
          <p:cNvPicPr/>
          <p:nvPr/>
        </p:nvPicPr>
        <p:blipFill>
          <a:blip r:embed="rId1"/>
          <a:stretch/>
        </p:blipFill>
        <p:spPr>
          <a:xfrm>
            <a:off x="1620720" y="3359160"/>
            <a:ext cx="50421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250920" y="9079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Карл Орф, создавая свою музыкально-педагогическую концепцию, адресовал её прежде всего педагогам, работающим с детьми в сфере музыкального воспитания. Поэтому его система максимально приближена к возможностям и интересам обыкновенного ребёнка. Податливый материал для занятий побуждает детей фантазировать, сочинять и импровизировать. Таким образом, на музыкальных занятиях достигается цель развития творческого начал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mue6080.wikispaces.com/file/view/Orff2.jpg/210119302/Orff2.jpg"/>
          <p:cNvPicPr/>
          <p:nvPr/>
        </p:nvPicPr>
        <p:blipFill>
          <a:blip r:embed="rId1"/>
          <a:stretch/>
        </p:blipFill>
        <p:spPr>
          <a:xfrm>
            <a:off x="4718160" y="1914480"/>
            <a:ext cx="40654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egoe Script"/>
              </a:rPr>
              <a:t>Достоинства метод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684360" y="1413000"/>
            <a:ext cx="523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для организации музыкальных занятий не требуется специального музыкального образования педагог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система легко сочетается с другими методиками раннего развития детей за счет своей универсальности и экономичности</a:t>
            </a:r>
            <a:r>
              <a:rPr b="1" lang="en-US" sz="1800" spc="-1" strike="noStrike">
                <a:solidFill>
                  <a:srgbClr val="ffffff"/>
                </a:solidFill>
                <a:latin typeface="Segoe Print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учитывает индивидуальные особенности ребенка и позволяет эффективно взаимодействовать детям с различными навыками, способностями и потребностя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методика закладывает огромный потенциал для развития детей раннего возраста и дальнейшей твор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4T15:39:30Z</dcterms:created>
  <dc:creator>Катюшенька</dc:creator>
  <dc:description/>
  <dc:language>en-US</dc:language>
  <cp:lastModifiedBy>RePack by Diakov</cp:lastModifiedBy>
  <dcterms:modified xsi:type="dcterms:W3CDTF">2019-10-13T12:04:37Z</dcterms:modified>
  <cp:revision>8</cp:revision>
  <dc:subject/>
  <dc:title>Слайд 1</dc:title>
</cp:coreProperties>
</file>