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961-611B-4742-BEA0-113DA305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4A2-D266-4F37-8C60-99A43B1C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AF1-302B-497D-9FAB-B216A5DC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7B1-3E17-4677-85EF-28CB5854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63FC-AD32-4CEF-8412-C11D570F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72D0-8891-4425-8D44-E5F2172A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0E2B-549E-42B8-B88F-EB40F53D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7D77-A95A-4327-8AF7-7BBD2731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4985-A55A-4A6C-AD26-466FE9FE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66D8-6DCC-4671-BBAC-3AEE0D00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B6C4-D905-48A2-993D-94C87EAF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EBC-55E8-429D-9242-CBFC8724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96E1-F812-4CF8-B265-A893EE11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1E18-C5EC-411A-9770-67B22362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EFC3-123C-4C80-810F-3D463C76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0120-F65E-4BB9-8075-30BA7E73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D473-4D80-420F-9350-2BA7E27B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F9C10-EEC0-477C-BA26-79AA3ABC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3A427-B001-4E7E-81AC-C7E68A2F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F1EB8-2F74-4711-9150-82D3B07C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2B119-D158-4A42-A10F-5227E42C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12408-65E4-48B5-9C97-12D23E43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47D-96DE-4868-BCAA-EF1365C6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E7CE7-322B-4A72-887C-0DB81265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C0239-5657-4D4E-A44A-F4B9C64F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F704B-31AE-4991-A39C-F7CC860E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D6F22-AF70-4498-AF9E-ED8ABF4C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F9CB1-D1B9-4571-9419-A09FB4C8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F3190-D768-42D4-A23C-2D2F78CB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4E4C2-C334-416F-A94C-F5CB4216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A254-E503-48D2-BDE3-1F697872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79061-C438-4529-88DC-5029CB92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4129F-295C-4F08-A471-A1434CB3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AA9-8928-44A9-9490-68E67BB7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50C94-624A-4891-9BF2-1BC89B9A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C7876-BAD0-4A48-8389-50ADB21F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7E02-3F7F-4049-9372-489E9DE8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DC3F-06F6-42C2-8EAE-ABDF1943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DC026-42A1-4DCD-A23D-E9A4B6E7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E965-5771-4B61-AD26-90AFBD31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C9EC-22D7-4C2A-BF1A-053F79BB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3303B-64C4-4BB3-9F14-AD0738D8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BE013-E791-472E-A858-69F328EA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AE554-19E1-46D8-95CB-DE98EB44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A6E-1AA4-4CDA-8268-152A6011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93F3E-C89D-4EC2-960F-1BD81E5A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A1509-B6C2-49C2-9B53-9438F8DB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DD6E2-FE1A-4B70-AE3D-7C49C720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05A5E-484E-4AAF-B306-E0DC8A6D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70C89-BEBA-4B4B-94EE-089586E2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20EB1-AFFA-4EA4-99F7-4392B0B0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A61DB-8908-458F-BC25-74E0B2BC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9AA22-CA43-42A5-8F79-5D4F77C0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811FA-2B85-44C9-A714-E78777AC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B563B-2A11-44B0-9793-8037C24A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AE2-FC45-4F8B-9532-B74ED97D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A2EED-16AE-4940-A179-250E5CAB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48C68-AC2E-4532-9D58-A1E9AFD2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5E782F-54F9-4BF0-949E-3A26BA36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E3561-E8B3-44A7-990A-C6B55BBF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E9642-34DE-4E42-8BFB-27DCD693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F2DD6-2AAE-4B1A-9BB5-EF42E08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D69D1-A0F9-43D9-8515-B992BA23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80227-683B-4BF9-8E98-A3EF751B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5D240-7F8E-4D09-9A14-E040F3D2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B6BF3-37DA-4818-8D8D-9886425F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2B8-C645-43F0-9BC3-47B7DF85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6B465-B8DB-42F1-88CB-4BC53263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81B0B-3EBA-44F5-B8AF-D46396B9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36AE9-3BED-437A-9B39-3FB86760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F1001-5CA5-42B5-87B1-BA274BE9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7E491-5FD8-47DC-BE50-7ACC24C2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7BC2D-5E57-4E7D-94E4-394F6A96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31C95-182F-4D54-89A2-7ED7619B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72CB7-93D6-4353-97C5-D90F7DB4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EE8A1-8927-441C-B550-F911CF6F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BEFE1-3BDF-49BA-8B0D-731B98ED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129-0770-473C-AA87-2D3C608A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C14AE-59F4-4D9B-A564-EEA7F89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B1CE8-EECB-4BB8-BFBF-D63CBDD9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50526-F5A9-4833-89EC-2C4F9E2E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1DA66-5C50-4849-8D52-FA2540DF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31CB7-EB04-44F6-A003-DC2E5D6C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4D0-865E-4C48-9A0B-B2CF5CEA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D820-27D8-423B-902E-CDA13D2DDD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DBEA-59DA-44A2-B19E-671E25CCB1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5634-6F80-4701-B539-024FDB1502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4942-B03E-4808-9DC5-2AA1BFE3D7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C9AC-00AE-4FA7-B3E1-68EFEA1506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BCDD-00F7-4EE7-B87E-8C021D4CC2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09C9-7F0F-49D6-A936-78C3CEC207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5;&#1072;&#1088;&#1084;&#1086;&#1085;&#1080;&#1089;&#1090;%20&#1072;&#1085;&#1080;&#1084;&#1072;&#1094;&#1080;&#1080;&amp;pos=0&amp;uinfo=sw-1263-sh-923-fw-1038-fh-598-pd-1&amp;rpt=simage&amp;img_url=http%3A%2F%2Fbestgif.su%2F_ph%2F38%2F2%2F512275582.gif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5f6d"/>
                </a:solidFill>
                <a:latin typeface="Century Schoolbook"/>
              </a:rPr>
              <a:t>FEMININ ET PLURIEL DES ADJECTIFS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(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ЖЕНСКИЙ РОД И МНОЖЕСТВЕННОЕ ЧИСЛО ПРИЛАГАТЕЛЬНЫХ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132000" y="4365360"/>
            <a:ext cx="583272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итель французского язы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БОУ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имназия№5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. Кызы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брова Илона Александро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TROUVEZ ET CORRIGEZ LES FAUT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J’ai beaucoup de belle robe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Julie et Marie sont les filles heureuse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Mes amis sont curieux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Je vois des souris gri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Ce sont des grand parapluie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ЕГОДНЯ НА УРОКЕ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я узнал … и мне это пригодится для …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мне было интересно…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мне было легко …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мне было сложно…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  <a:ea typeface="ＭＳ Ｐ明朝"/>
              </a:rPr>
              <a:t>СПИСОК ИСПОЛЬЗОВАННЫХ ИСТОЧНИКОВ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ккордеонист на слайде № 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images.yandex.ru/yandsearch?text=%D0%B3%D0%B0%D1%80%D0%BC%D0%BE%D0%BD%D0%B8%D1%81%D1%82%20%D0%B0%D0%BD%D0%B8%D0%BC%D0%B0%D1%86%D0%B8%D0%B8&amp;pos=0&amp;uinfo=sw-1263-sh-923-fw-1038-fh-598-pd-1&amp;rpt=simage&amp;img_url=http%3A%2F%2Fbestgif.su%2F_ph%2F38%2F2%2F512275582.gif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3814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575f6d"/>
                </a:solidFill>
                <a:latin typeface="Century Schoolbook"/>
              </a:rPr>
              <a:t>ON, OM </a:t>
            </a:r>
            <a:endParaRPr b="0" lang="en-US" sz="6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826920" y="1267920"/>
            <a:ext cx="806472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m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on</a:t>
            </a: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 – t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on 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b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on</a:t>
            </a: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 – r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on</a:t>
            </a: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b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on</a:t>
            </a: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jour 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le b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on</a:t>
            </a: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b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on</a:t>
            </a: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la chans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on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ce garç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on</a:t>
            </a: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 est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 </a:t>
            </a: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un champi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on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nous chant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on</a:t>
            </a: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s et nous dans</a:t>
            </a:r>
            <a:r>
              <a:rPr b="1" lang="en-US" sz="3700" spc="-1" strike="noStrike">
                <a:solidFill>
                  <a:srgbClr val="ff00ff"/>
                </a:solidFill>
                <a:latin typeface="Century Schoolbook"/>
              </a:rPr>
              <a:t>on</a:t>
            </a: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4356000" y="765000"/>
            <a:ext cx="1408320" cy="486000"/>
          </a:xfrm>
          <a:prstGeom prst="rightArrow">
            <a:avLst>
              <a:gd name="adj1" fmla="val 50000"/>
              <a:gd name="adj2" fmla="val 72444"/>
            </a:avLst>
          </a:prstGeom>
          <a:solidFill>
            <a:srgbClr val="575f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5148360" y="549360"/>
            <a:ext cx="334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75f6d"/>
                </a:solidFill>
                <a:latin typeface="Times New Roman"/>
              </a:rPr>
              <a:t>           </a:t>
            </a:r>
            <a:r>
              <a:rPr b="1" lang="en-US" sz="7200" spc="-1" strike="noStrike">
                <a:solidFill>
                  <a:srgbClr val="575f6d"/>
                </a:solidFill>
                <a:latin typeface="Times New Roman"/>
              </a:rPr>
              <a:t>[</a:t>
            </a:r>
            <a:r>
              <a:rPr b="1" lang="ru-RU" sz="7200" spc="-1" strike="noStrike">
                <a:solidFill>
                  <a:srgbClr val="575f6d"/>
                </a:solidFill>
                <a:latin typeface="Times New Roman"/>
              </a:rPr>
              <a:t>˜ɔ</a:t>
            </a:r>
            <a:r>
              <a:rPr b="1" lang="en-US" sz="7200" spc="-1" strike="noStrike">
                <a:solidFill>
                  <a:srgbClr val="575f6d"/>
                </a:solidFill>
                <a:latin typeface="Times New Roman"/>
              </a:rPr>
              <a:t>]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360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575f6d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fr-FR" sz="3200" spc="-1" strike="noStrike">
                <a:solidFill>
                  <a:srgbClr val="575f6d"/>
                </a:solidFill>
                <a:latin typeface="Century Schoolbook"/>
              </a:rPr>
              <a:t>BONJOUR EDMOND!</a:t>
            </a:r>
            <a:br>
              <a:rPr sz="3200"/>
            </a:br>
            <a:r>
              <a:rPr b="1" lang="fr-FR" sz="3200" spc="-1" strike="noStrike">
                <a:solidFill>
                  <a:srgbClr val="575f6d"/>
                </a:solidFill>
                <a:latin typeface="Century Schoolbook"/>
              </a:rPr>
              <a:t>- BONJOUR GASTON. QU’EST-CE QUE TU AS?</a:t>
            </a:r>
            <a:br>
              <a:rPr sz="3200"/>
            </a:br>
            <a:r>
              <a:rPr b="1" lang="fr-FR" sz="3200" spc="-1" strike="noStrike">
                <a:solidFill>
                  <a:srgbClr val="575f6d"/>
                </a:solidFill>
                <a:latin typeface="Century Schoolbook"/>
              </a:rPr>
              <a:t>- J’AI UN ACCORDÉON. JE JOUE ET JE CHANTE UNE CHANSON.</a:t>
            </a:r>
            <a:br>
              <a:rPr sz="3200"/>
            </a:b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- UN TALENT – C’EST BON!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22" descr="294473733287304640"/>
          <p:cNvPicPr/>
          <p:nvPr/>
        </p:nvPicPr>
        <p:blipFill>
          <a:blip r:embed="rId1"/>
          <a:stretch/>
        </p:blipFill>
        <p:spPr>
          <a:xfrm>
            <a:off x="5724360" y="2565360"/>
            <a:ext cx="2860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DITES LA FORME CORRECTE 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DES ADJECTIF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433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entury Schoolbook"/>
              </a:rPr>
              <a:t>une (grand) maison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entury Schoolbook"/>
              </a:rPr>
              <a:t>une fin (heureux)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entury Schoolbook"/>
              </a:rPr>
              <a:t>une fille (gentil)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entury Schoolbook"/>
              </a:rPr>
              <a:t>une (gros) dame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→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entury Schoolbook"/>
              </a:rPr>
              <a:t>une (bon) pomme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→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03280" y="1600200"/>
            <a:ext cx="3961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entury Schoolbook"/>
              </a:rPr>
              <a:t>une fleur (bleu)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entury Schoolbook"/>
              </a:rPr>
              <a:t>une voiture (noir)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entury Schoolbook"/>
              </a:rPr>
              <a:t>une rose (blanc)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entury Schoolbook"/>
              </a:rPr>
              <a:t>une (joli) fille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entury Schoolbook"/>
              </a:rPr>
              <a:t>une s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1" lang="fr-FR" sz="3200" spc="-1" strike="noStrike">
                <a:solidFill>
                  <a:srgbClr val="000000"/>
                </a:solidFill>
                <a:latin typeface="Century Schoolbook"/>
              </a:rPr>
              <a:t>uris (gris)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E PLURIEL DES ADJECTI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39280" y="3933720"/>
            <a:ext cx="860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435b"/>
                </a:solidFill>
                <a:latin typeface="Century Schoolbook"/>
              </a:rPr>
              <a:t>2</a:t>
            </a:r>
            <a:r>
              <a:rPr b="1" lang="en-US" sz="2000" spc="-1" strike="noStrike">
                <a:solidFill>
                  <a:srgbClr val="3b435b"/>
                </a:solidFill>
                <a:latin typeface="Century Schoolbook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__________</a:t>
            </a:r>
            <a:r>
              <a:rPr b="0" lang="en-US" sz="4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600" spc="-1" strike="noStrike">
                <a:solidFill>
                  <a:srgbClr val="3b435b"/>
                </a:solidFill>
                <a:latin typeface="Century Schoolbook"/>
              </a:rPr>
              <a:t>-s</a:t>
            </a:r>
            <a:r>
              <a:rPr b="1" lang="ru-RU" sz="4600" spc="-1" strike="noStrike">
                <a:solidFill>
                  <a:srgbClr val="3b435b"/>
                </a:solidFill>
                <a:latin typeface="Century Schoolbook"/>
              </a:rPr>
              <a:t>/</a:t>
            </a:r>
            <a:r>
              <a:rPr b="1" lang="en-US" sz="4600" spc="-1" strike="noStrike">
                <a:solidFill>
                  <a:srgbClr val="3b435b"/>
                </a:solidFill>
                <a:latin typeface="Century Schoolbook"/>
              </a:rPr>
              <a:t>-x</a:t>
            </a:r>
            <a:r>
              <a:rPr b="1" lang="ru-RU" sz="4600" spc="-1" strike="noStrike">
                <a:solidFill>
                  <a:srgbClr val="3b435b"/>
                </a:solidFill>
                <a:latin typeface="Century Schoolbook"/>
              </a:rPr>
              <a:t>/</a:t>
            </a:r>
            <a:r>
              <a:rPr b="1" lang="en-US" sz="4600" spc="-1" strike="noStrike">
                <a:solidFill>
                  <a:srgbClr val="3b435b"/>
                </a:solidFill>
                <a:latin typeface="Century Schoolbook"/>
              </a:rPr>
              <a:t>-z</a:t>
            </a:r>
            <a:r>
              <a:rPr b="0" lang="en-US" sz="4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→</a:t>
            </a:r>
            <a:r>
              <a:rPr b="0" lang="en-US" sz="4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_______</a:t>
            </a:r>
            <a:r>
              <a:rPr b="0" lang="en-US" sz="4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600" spc="-1" strike="noStrike">
                <a:solidFill>
                  <a:srgbClr val="ff00ff"/>
                </a:solidFill>
                <a:latin typeface="Century Schoolbook"/>
              </a:rPr>
              <a:t>-s</a:t>
            </a:r>
            <a:r>
              <a:rPr b="1" lang="ru-RU" sz="4600" spc="-1" strike="noStrike">
                <a:solidFill>
                  <a:srgbClr val="ff00ff"/>
                </a:solidFill>
                <a:latin typeface="Century Schoolbook"/>
              </a:rPr>
              <a:t>/</a:t>
            </a:r>
            <a:r>
              <a:rPr b="1" lang="en-US" sz="4600" spc="-1" strike="noStrike">
                <a:solidFill>
                  <a:srgbClr val="ff00ff"/>
                </a:solidFill>
                <a:latin typeface="Century Schoolbook"/>
              </a:rPr>
              <a:t>-x</a:t>
            </a:r>
            <a:r>
              <a:rPr b="1" lang="ru-RU" sz="4600" spc="-1" strike="noStrike">
                <a:solidFill>
                  <a:srgbClr val="ff00ff"/>
                </a:solidFill>
                <a:latin typeface="Century Schoolbook"/>
              </a:rPr>
              <a:t>/</a:t>
            </a:r>
            <a:r>
              <a:rPr b="1" lang="en-US" sz="4600" spc="-1" strike="noStrike">
                <a:solidFill>
                  <a:srgbClr val="ff00ff"/>
                </a:solidFill>
                <a:latin typeface="Century Schoolbook"/>
              </a:rPr>
              <a:t>-z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n livre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Century Schoolbook"/>
              </a:rPr>
              <a:t>françai</a:t>
            </a:r>
            <a:r>
              <a:rPr b="1" lang="en-US" sz="3400" spc="-1" strike="noStrike" u="sng">
                <a:solidFill>
                  <a:srgbClr val="3b435b"/>
                </a:solidFill>
                <a:uFillTx/>
                <a:latin typeface="Century Schoolbook"/>
              </a:rPr>
              <a:t>s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→ </a:t>
            </a:r>
            <a:r>
              <a:rPr b="1" lang="en-US" sz="3400" spc="-1" strike="noStrike">
                <a:solidFill>
                  <a:srgbClr val="66ff33"/>
                </a:solidFill>
                <a:latin typeface="Century Schoolbook"/>
              </a:rPr>
              <a:t>des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livre</a:t>
            </a:r>
            <a:r>
              <a:rPr b="1" lang="en-US" sz="3400" spc="-1" strike="noStrike">
                <a:solidFill>
                  <a:srgbClr val="66ff33"/>
                </a:solidFill>
                <a:latin typeface="Century Schoolbook"/>
              </a:rPr>
              <a:t>s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Century Schoolbook"/>
              </a:rPr>
              <a:t>françai</a:t>
            </a:r>
            <a:r>
              <a:rPr b="1" lang="en-US" sz="3400" spc="-1" strike="noStrike" u="sng">
                <a:solidFill>
                  <a:srgbClr val="ff00ff"/>
                </a:solidFill>
                <a:uFillTx/>
                <a:latin typeface="Century Schoolbook"/>
              </a:rPr>
              <a:t>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673200" y="181620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500"/>
              </a:spcBef>
              <a:buClr>
                <a:srgbClr val="d2611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  → ____________ </a:t>
            </a: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-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e fleur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ouge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d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fleur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ouge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3964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Century Schoolbook"/>
              </a:rPr>
              <a:t>Les petites mains font Tap Tap Tap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Century Schoolbook"/>
              </a:rPr>
              <a:t>Les petits pieds font Tip Tip Tip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Century Schoolbook"/>
              </a:rPr>
              <a:t>Une par ci, une par là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Century Schoolbook"/>
              </a:rPr>
              <a:t>Un petit tour </a:t>
            </a: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1" lang="fr-FR" sz="3300" spc="-1" strike="noStrike">
                <a:solidFill>
                  <a:srgbClr val="000000"/>
                </a:solidFill>
                <a:latin typeface="Century Schoolbook"/>
              </a:rPr>
              <a:t>t puis voilà !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Century Schoolbook"/>
              </a:rPr>
              <a:t>Les petites têtes font Nic Nic Nic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Century Schoolbook"/>
              </a:rPr>
              <a:t>Les petits doigts font Tic Tic Tic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Century Schoolbook"/>
              </a:rPr>
              <a:t>Une par ci, une par là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Century Schoolbook"/>
              </a:rPr>
              <a:t>Un petit tour </a:t>
            </a: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1" lang="fr-FR" sz="3300" spc="-1" strike="noStrike">
                <a:solidFill>
                  <a:srgbClr val="000000"/>
                </a:solidFill>
                <a:latin typeface="Century Schoolbook"/>
              </a:rPr>
              <a:t>t puis voilà !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DITES AU PLURIEL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une fleur blanche →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un petit chat →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une histoire intéressante →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un ami malade →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un enfant curieux →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ECRIVEZ AU PLURIEL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une belle maison →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un garçon heureux →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une fille triste →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un enfant capricieux→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un poisson jaune →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un pull gris →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LÉ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une belle maison → des </a:t>
            </a:r>
            <a:r>
              <a:rPr b="1" lang="en-US" sz="3300" spc="-1" strike="noStrike">
                <a:solidFill>
                  <a:srgbClr val="3b435b"/>
                </a:solidFill>
                <a:latin typeface="Century Schoolbook"/>
              </a:rPr>
              <a:t>belles</a:t>
            </a: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 maison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un garçon heureux → des garçons </a:t>
            </a:r>
            <a:r>
              <a:rPr b="1" lang="en-US" sz="3300" spc="-1" strike="noStrike">
                <a:solidFill>
                  <a:srgbClr val="3b435b"/>
                </a:solidFill>
                <a:latin typeface="Century Schoolbook"/>
              </a:rPr>
              <a:t>heureux</a:t>
            </a: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une fille triste → des filles </a:t>
            </a:r>
            <a:r>
              <a:rPr b="1" lang="en-US" sz="3300" spc="-1" strike="noStrike">
                <a:solidFill>
                  <a:srgbClr val="3b435b"/>
                </a:solidFill>
                <a:latin typeface="Century Schoolbook"/>
              </a:rPr>
              <a:t>triste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un enfant capricieux→ des enfants </a:t>
            </a:r>
            <a:r>
              <a:rPr b="1" lang="en-US" sz="3300" spc="-1" strike="noStrike">
                <a:solidFill>
                  <a:srgbClr val="3b435b"/>
                </a:solidFill>
                <a:latin typeface="Century Schoolbook"/>
              </a:rPr>
              <a:t>capricieux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un poisson jaune → des poissons </a:t>
            </a:r>
            <a:r>
              <a:rPr b="1" lang="en-US" sz="3300" spc="-1" strike="noStrike">
                <a:solidFill>
                  <a:srgbClr val="3b435b"/>
                </a:solidFill>
                <a:latin typeface="Century Schoolbook"/>
              </a:rPr>
              <a:t>jaune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un pull gris → des pulls </a:t>
            </a:r>
            <a:r>
              <a:rPr b="1" lang="en-US" sz="3300" spc="-1" strike="noStrike">
                <a:solidFill>
                  <a:srgbClr val="3b435b"/>
                </a:solidFill>
                <a:latin typeface="Century Schoolbook"/>
              </a:rPr>
              <a:t>gri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1:04:48Z</dcterms:created>
  <dc:creator>я1</dc:creator>
  <dc:description/>
  <dc:language>en-US</dc:language>
  <cp:lastModifiedBy>user</cp:lastModifiedBy>
  <dcterms:modified xsi:type="dcterms:W3CDTF">2016-08-17T16:24:01Z</dcterms:modified>
  <cp:revision>16</cp:revision>
  <dc:subject/>
  <dc:title>ch —&gt; [ш]</dc:title>
</cp:coreProperties>
</file>