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834-D192-4229-9CF5-C0CF1AE4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D4C-FFC4-41B7-8FE0-FE003011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51C-AC7B-4729-94CF-2BBAB793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406-A3F9-4833-82BB-C1C9EBF1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347-16A0-48EF-B913-6745DFE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894-633F-4D16-96C8-676429C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972-5E37-4CC0-AD27-54EE1E43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AE3-367B-4DB8-B633-57E2CFF3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42A-204C-4FC3-B22B-1EDB6E8C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B02-AFAB-4BF7-AFD2-C176B648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D29-D59A-49F5-8BF3-60FEDA9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590-51B0-447E-AA5F-01C5280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9447-797B-44C5-8653-2F94C54822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coollady.ru/pic/0002/017/10.jpg"/>
          <p:cNvPicPr/>
          <p:nvPr/>
        </p:nvPicPr>
        <p:blipFill>
          <a:blip r:embed="rId2"/>
          <a:stretch/>
        </p:blipFill>
        <p:spPr>
          <a:xfrm>
            <a:off x="3876840" y="3133800"/>
            <a:ext cx="5273640" cy="3730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3"/>
          <a:stretch/>
        </p:blipFill>
        <p:spPr>
          <a:xfrm>
            <a:off x="244440" y="-19080"/>
            <a:ext cx="59119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3" descr=""/>
          <p:cNvPicPr/>
          <p:nvPr/>
        </p:nvPicPr>
        <p:blipFill>
          <a:blip r:embed="rId2"/>
          <a:stretch/>
        </p:blipFill>
        <p:spPr>
          <a:xfrm>
            <a:off x="165240" y="560520"/>
            <a:ext cx="8856360" cy="265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ru.convdocs.org/pars_docs/refs/22/21038/21038_html_6152ad4b.gif"/>
          <p:cNvPicPr/>
          <p:nvPr/>
        </p:nvPicPr>
        <p:blipFill>
          <a:blip r:embed="rId3"/>
          <a:stretch/>
        </p:blipFill>
        <p:spPr>
          <a:xfrm>
            <a:off x="395280" y="3716280"/>
            <a:ext cx="8394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http://compendium.su/mathematics/mathematics5/mathematics5.files/image0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230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2"/>
          <p:cNvSpPr/>
          <p:nvPr/>
        </p:nvSpPr>
        <p:spPr>
          <a:xfrm>
            <a:off x="0" y="4437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отличаются линии одной группы от друг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2"/>
          <p:cNvSpPr/>
          <p:nvPr/>
        </p:nvSpPr>
        <p:spPr>
          <a:xfrm>
            <a:off x="0" y="4179960"/>
            <a:ext cx="94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общего у линий обеих груп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отличаются линии одной группы от линий другой груп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compendium.su/mathematics/mathematics5/mathematics5.files/image004.jpg"/>
          <p:cNvPicPr/>
          <p:nvPr/>
        </p:nvPicPr>
        <p:blipFill>
          <a:blip r:embed="rId2"/>
          <a:stretch/>
        </p:blipFill>
        <p:spPr>
          <a:xfrm>
            <a:off x="17640" y="0"/>
            <a:ext cx="912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замкнутые ли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замкнутые самопересекающиеся ли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мкнутые линии без самопересеч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5" descr=""/>
          <p:cNvPicPr/>
          <p:nvPr/>
        </p:nvPicPr>
        <p:blipFill>
          <a:blip r:embed="rId2"/>
          <a:srcRect l="0" t="0" r="5537" b="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Классификация лини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Текст 2"/>
          <p:cNvGrpSpPr/>
          <p:nvPr/>
        </p:nvGrpSpPr>
        <p:grpSpPr>
          <a:xfrm>
            <a:off x="179280" y="981000"/>
            <a:ext cx="8785080" cy="5615280"/>
            <a:chOff x="179280" y="981000"/>
            <a:chExt cx="8785080" cy="5615280"/>
          </a:xfrm>
        </p:grpSpPr>
        <p:cxnSp>
          <p:nvCxnSpPr>
            <p:cNvPr id="108" name="_s5141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7067160" y="4271040"/>
              <a:ext cx="702360" cy="1139760"/>
            </a:xfrm>
            <a:prstGeom prst="bentConnector3">
              <a:avLst>
                <a:gd name="adj1" fmla="val 162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9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2512080" y="4271040"/>
              <a:ext cx="702360" cy="1139760"/>
            </a:xfrm>
            <a:prstGeom prst="bentConnector3">
              <a:avLst>
                <a:gd name="adj1" fmla="val 162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5137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1373400" y="4271760"/>
              <a:ext cx="702360" cy="1139040"/>
            </a:xfrm>
            <a:prstGeom prst="bentConnector3">
              <a:avLst>
                <a:gd name="adj1" fmla="val 162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5135"/>
            <p:cNvCxnSpPr>
              <a:stCxn id="117" idx="0"/>
              <a:endCxn id="110" idx="2"/>
            </p:cNvCxnSpPr>
            <p:nvPr/>
          </p:nvCxnSpPr>
          <p:spPr>
            <a:xfrm flipH="1" flipV="1" rot="5400000">
              <a:off x="5928840" y="4271760"/>
              <a:ext cx="702360" cy="1139040"/>
            </a:xfrm>
            <a:prstGeom prst="bentConnector3">
              <a:avLst>
                <a:gd name="adj1" fmla="val 162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5131"/>
            <p:cNvCxnSpPr>
              <a:stCxn id="110" idx="0"/>
              <a:endCxn id="119" idx="2"/>
            </p:cNvCxnSpPr>
            <p:nvPr/>
          </p:nvCxnSpPr>
          <p:spPr>
            <a:xfrm flipV="1" rot="16200000">
              <a:off x="5358960" y="1595880"/>
              <a:ext cx="702360" cy="227808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5130"/>
            <p:cNvCxnSpPr>
              <a:stCxn id="113" idx="0"/>
              <a:endCxn id="119" idx="2"/>
            </p:cNvCxnSpPr>
            <p:nvPr/>
          </p:nvCxnSpPr>
          <p:spPr>
            <a:xfrm flipH="1" flipV="1" rot="5400000">
              <a:off x="3081600" y="1596240"/>
              <a:ext cx="702360" cy="227808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5126"/>
            <p:cNvSpPr/>
            <p:nvPr/>
          </p:nvSpPr>
          <p:spPr>
            <a:xfrm>
              <a:off x="3595320" y="98100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Н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5127"/>
            <p:cNvSpPr/>
            <p:nvPr/>
          </p:nvSpPr>
          <p:spPr>
            <a:xfrm>
              <a:off x="1317600" y="308664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мкнут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28"/>
            <p:cNvSpPr/>
            <p:nvPr/>
          </p:nvSpPr>
          <p:spPr>
            <a:xfrm>
              <a:off x="5873040" y="308664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замкнут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5134"/>
            <p:cNvSpPr/>
            <p:nvPr/>
          </p:nvSpPr>
          <p:spPr>
            <a:xfrm>
              <a:off x="4734360" y="519264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амопересе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ющие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5136"/>
            <p:cNvSpPr/>
            <p:nvPr/>
          </p:nvSpPr>
          <p:spPr>
            <a:xfrm>
              <a:off x="179280" y="519264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амопересе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ющие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5138"/>
            <p:cNvSpPr/>
            <p:nvPr/>
          </p:nvSpPr>
          <p:spPr>
            <a:xfrm>
              <a:off x="2456640" y="519264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з сам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сеч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5140"/>
            <p:cNvSpPr/>
            <p:nvPr/>
          </p:nvSpPr>
          <p:spPr>
            <a:xfrm>
              <a:off x="7012080" y="5192640"/>
              <a:ext cx="1952280" cy="1403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з сам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сеч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22"/>
          <p:cNvSpPr/>
          <p:nvPr/>
        </p:nvSpPr>
        <p:spPr>
          <a:xfrm>
            <a:off x="1979640" y="3716280"/>
            <a:ext cx="792000" cy="433440"/>
          </a:xfrm>
          <a:custGeom>
            <a:avLst/>
            <a:gdLst>
              <a:gd name="textAreaLeft" fmla="*/ 164880 w 792000"/>
              <a:gd name="textAreaRight" fmla="*/ 627120 w 792000"/>
              <a:gd name="textAreaTop" fmla="*/ 90360 h 433440"/>
              <a:gd name="textAreaBottom" fmla="*/ 343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24"/>
          <p:cNvSpPr/>
          <p:nvPr/>
        </p:nvSpPr>
        <p:spPr>
          <a:xfrm>
            <a:off x="6156360" y="3789360"/>
            <a:ext cx="1440000" cy="5032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5"/>
          <p:cNvSpPr/>
          <p:nvPr/>
        </p:nvSpPr>
        <p:spPr>
          <a:xfrm>
            <a:off x="495360" y="6124680"/>
            <a:ext cx="1147680" cy="3967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23" h="250">
                <a:moveTo>
                  <a:pt x="145" y="220"/>
                </a:moveTo>
                <a:cubicBezTo>
                  <a:pt x="157" y="207"/>
                  <a:pt x="173" y="198"/>
                  <a:pt x="182" y="183"/>
                </a:cubicBezTo>
                <a:cubicBezTo>
                  <a:pt x="187" y="175"/>
                  <a:pt x="185" y="164"/>
                  <a:pt x="191" y="156"/>
                </a:cubicBezTo>
                <a:cubicBezTo>
                  <a:pt x="204" y="139"/>
                  <a:pt x="237" y="110"/>
                  <a:pt x="237" y="110"/>
                </a:cubicBezTo>
                <a:cubicBezTo>
                  <a:pt x="251" y="69"/>
                  <a:pt x="265" y="78"/>
                  <a:pt x="301" y="55"/>
                </a:cubicBezTo>
                <a:cubicBezTo>
                  <a:pt x="325" y="19"/>
                  <a:pt x="337" y="28"/>
                  <a:pt x="365" y="0"/>
                </a:cubicBezTo>
                <a:cubicBezTo>
                  <a:pt x="405" y="13"/>
                  <a:pt x="434" y="36"/>
                  <a:pt x="474" y="46"/>
                </a:cubicBezTo>
                <a:cubicBezTo>
                  <a:pt x="497" y="68"/>
                  <a:pt x="507" y="82"/>
                  <a:pt x="538" y="92"/>
                </a:cubicBezTo>
                <a:cubicBezTo>
                  <a:pt x="574" y="126"/>
                  <a:pt x="615" y="156"/>
                  <a:pt x="657" y="183"/>
                </a:cubicBezTo>
                <a:cubicBezTo>
                  <a:pt x="668" y="190"/>
                  <a:pt x="674" y="204"/>
                  <a:pt x="685" y="211"/>
                </a:cubicBezTo>
                <a:cubicBezTo>
                  <a:pt x="694" y="217"/>
                  <a:pt x="723" y="227"/>
                  <a:pt x="712" y="229"/>
                </a:cubicBezTo>
                <a:cubicBezTo>
                  <a:pt x="685" y="233"/>
                  <a:pt x="657" y="223"/>
                  <a:pt x="630" y="220"/>
                </a:cubicBezTo>
                <a:cubicBezTo>
                  <a:pt x="600" y="210"/>
                  <a:pt x="544" y="199"/>
                  <a:pt x="520" y="183"/>
                </a:cubicBezTo>
                <a:cubicBezTo>
                  <a:pt x="511" y="177"/>
                  <a:pt x="503" y="168"/>
                  <a:pt x="493" y="165"/>
                </a:cubicBezTo>
                <a:cubicBezTo>
                  <a:pt x="455" y="154"/>
                  <a:pt x="414" y="154"/>
                  <a:pt x="374" y="147"/>
                </a:cubicBezTo>
                <a:cubicBezTo>
                  <a:pt x="333" y="140"/>
                  <a:pt x="295" y="129"/>
                  <a:pt x="255" y="119"/>
                </a:cubicBezTo>
                <a:cubicBezTo>
                  <a:pt x="213" y="92"/>
                  <a:pt x="165" y="79"/>
                  <a:pt x="118" y="64"/>
                </a:cubicBezTo>
                <a:cubicBezTo>
                  <a:pt x="109" y="61"/>
                  <a:pt x="99" y="58"/>
                  <a:pt x="90" y="55"/>
                </a:cubicBezTo>
                <a:cubicBezTo>
                  <a:pt x="81" y="52"/>
                  <a:pt x="63" y="46"/>
                  <a:pt x="63" y="46"/>
                </a:cubicBezTo>
                <a:cubicBezTo>
                  <a:pt x="45" y="49"/>
                  <a:pt x="21" y="42"/>
                  <a:pt x="8" y="55"/>
                </a:cubicBezTo>
                <a:cubicBezTo>
                  <a:pt x="0" y="63"/>
                  <a:pt x="21" y="73"/>
                  <a:pt x="26" y="83"/>
                </a:cubicBezTo>
                <a:cubicBezTo>
                  <a:pt x="60" y="158"/>
                  <a:pt x="26" y="117"/>
                  <a:pt x="63" y="156"/>
                </a:cubicBezTo>
                <a:cubicBezTo>
                  <a:pt x="73" y="185"/>
                  <a:pt x="84" y="209"/>
                  <a:pt x="109" y="229"/>
                </a:cubicBezTo>
                <a:cubicBezTo>
                  <a:pt x="118" y="236"/>
                  <a:pt x="126" y="250"/>
                  <a:pt x="136" y="247"/>
                </a:cubicBezTo>
                <a:cubicBezTo>
                  <a:pt x="145" y="245"/>
                  <a:pt x="142" y="229"/>
                  <a:pt x="145" y="220"/>
                </a:cubicBez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3132000" y="6093000"/>
            <a:ext cx="576360" cy="43164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7"/>
          <p:cNvSpPr/>
          <p:nvPr/>
        </p:nvSpPr>
        <p:spPr>
          <a:xfrm>
            <a:off x="5122800" y="6124680"/>
            <a:ext cx="1204920" cy="4125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759" h="260">
                <a:moveTo>
                  <a:pt x="0" y="0"/>
                </a:moveTo>
                <a:cubicBezTo>
                  <a:pt x="28" y="3"/>
                  <a:pt x="56" y="5"/>
                  <a:pt x="83" y="9"/>
                </a:cubicBezTo>
                <a:cubicBezTo>
                  <a:pt x="95" y="11"/>
                  <a:pt x="107" y="17"/>
                  <a:pt x="119" y="19"/>
                </a:cubicBezTo>
                <a:cubicBezTo>
                  <a:pt x="155" y="26"/>
                  <a:pt x="229" y="37"/>
                  <a:pt x="229" y="37"/>
                </a:cubicBezTo>
                <a:cubicBezTo>
                  <a:pt x="296" y="59"/>
                  <a:pt x="309" y="72"/>
                  <a:pt x="366" y="110"/>
                </a:cubicBezTo>
                <a:cubicBezTo>
                  <a:pt x="384" y="137"/>
                  <a:pt x="402" y="152"/>
                  <a:pt x="412" y="183"/>
                </a:cubicBezTo>
                <a:cubicBezTo>
                  <a:pt x="399" y="238"/>
                  <a:pt x="392" y="234"/>
                  <a:pt x="339" y="247"/>
                </a:cubicBezTo>
                <a:cubicBezTo>
                  <a:pt x="296" y="244"/>
                  <a:pt x="247" y="260"/>
                  <a:pt x="211" y="238"/>
                </a:cubicBezTo>
                <a:cubicBezTo>
                  <a:pt x="193" y="227"/>
                  <a:pt x="216" y="195"/>
                  <a:pt x="220" y="174"/>
                </a:cubicBezTo>
                <a:cubicBezTo>
                  <a:pt x="222" y="165"/>
                  <a:pt x="222" y="154"/>
                  <a:pt x="229" y="147"/>
                </a:cubicBezTo>
                <a:cubicBezTo>
                  <a:pt x="230" y="146"/>
                  <a:pt x="345" y="93"/>
                  <a:pt x="348" y="92"/>
                </a:cubicBezTo>
                <a:cubicBezTo>
                  <a:pt x="444" y="64"/>
                  <a:pt x="540" y="69"/>
                  <a:pt x="640" y="64"/>
                </a:cubicBezTo>
                <a:cubicBezTo>
                  <a:pt x="679" y="58"/>
                  <a:pt x="720" y="46"/>
                  <a:pt x="759" y="46"/>
                </a:cubicBezTo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8"/>
          <p:cNvSpPr/>
          <p:nvPr/>
        </p:nvSpPr>
        <p:spPr>
          <a:xfrm>
            <a:off x="7308720" y="6154560"/>
            <a:ext cx="1511280" cy="2988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952" h="188">
                <a:moveTo>
                  <a:pt x="0" y="143"/>
                </a:moveTo>
                <a:cubicBezTo>
                  <a:pt x="41" y="71"/>
                  <a:pt x="83" y="0"/>
                  <a:pt x="136" y="7"/>
                </a:cubicBezTo>
                <a:cubicBezTo>
                  <a:pt x="189" y="14"/>
                  <a:pt x="257" y="188"/>
                  <a:pt x="317" y="188"/>
                </a:cubicBezTo>
                <a:cubicBezTo>
                  <a:pt x="377" y="188"/>
                  <a:pt x="416" y="7"/>
                  <a:pt x="499" y="7"/>
                </a:cubicBezTo>
                <a:cubicBezTo>
                  <a:pt x="582" y="7"/>
                  <a:pt x="741" y="188"/>
                  <a:pt x="816" y="188"/>
                </a:cubicBezTo>
                <a:cubicBezTo>
                  <a:pt x="891" y="188"/>
                  <a:pt x="929" y="37"/>
                  <a:pt x="952" y="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Тренажё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Выберите замкнутые ли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5">
            <a:hlinkClick r:id="rId1"/>
          </p:cNvPr>
          <p:cNvSpPr/>
          <p:nvPr/>
        </p:nvSpPr>
        <p:spPr>
          <a:xfrm>
            <a:off x="3995640" y="4941720"/>
            <a:ext cx="3600720" cy="1511640"/>
          </a:xfrm>
          <a:prstGeom prst="lightningBol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rId2"/>
          </p:cNvPr>
          <p:cNvSpPr/>
          <p:nvPr/>
        </p:nvSpPr>
        <p:spPr>
          <a:xfrm>
            <a:off x="7093080" y="4437000"/>
            <a:ext cx="1296720" cy="136836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>
            <a:hlinkClick r:id="rId3"/>
          </p:cNvPr>
          <p:cNvSpPr/>
          <p:nvPr/>
        </p:nvSpPr>
        <p:spPr>
          <a:xfrm rot="20101800">
            <a:off x="2771640" y="4581000"/>
            <a:ext cx="936720" cy="2089440"/>
          </a:xfrm>
          <a:prstGeom prst="ellipse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>
            <a:hlinkClick r:id="rId4"/>
          </p:cNvPr>
          <p:cNvSpPr/>
          <p:nvPr/>
        </p:nvSpPr>
        <p:spPr>
          <a:xfrm>
            <a:off x="3059280" y="3068640"/>
            <a:ext cx="2844720" cy="171756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1792" h="1082">
                <a:moveTo>
                  <a:pt x="0" y="401"/>
                </a:moveTo>
                <a:cubicBezTo>
                  <a:pt x="873" y="499"/>
                  <a:pt x="1746" y="597"/>
                  <a:pt x="1769" y="673"/>
                </a:cubicBezTo>
                <a:cubicBezTo>
                  <a:pt x="1792" y="749"/>
                  <a:pt x="249" y="961"/>
                  <a:pt x="136" y="855"/>
                </a:cubicBezTo>
                <a:cubicBezTo>
                  <a:pt x="23" y="749"/>
                  <a:pt x="923" y="0"/>
                  <a:pt x="1089" y="38"/>
                </a:cubicBezTo>
                <a:cubicBezTo>
                  <a:pt x="1255" y="76"/>
                  <a:pt x="1127" y="916"/>
                  <a:pt x="1134" y="108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755640" y="3573360"/>
            <a:ext cx="187164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>
            <a:hlinkClick r:id="rId5"/>
          </p:cNvPr>
          <p:cNvSpPr/>
          <p:nvPr/>
        </p:nvSpPr>
        <p:spPr>
          <a:xfrm>
            <a:off x="826920" y="2133720"/>
            <a:ext cx="2592720" cy="792000"/>
          </a:xfrm>
          <a:prstGeom prst="flowChartCollate">
            <a:avLst/>
          </a:prstGeom>
          <a:solidFill>
            <a:srgbClr val="99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>
            <a:hlinkClick r:id="rId6"/>
          </p:cNvPr>
          <p:cNvSpPr/>
          <p:nvPr/>
        </p:nvSpPr>
        <p:spPr>
          <a:xfrm>
            <a:off x="7308720" y="1773360"/>
            <a:ext cx="1079640" cy="18716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abff8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>
            <a:hlinkClick r:id="rId7"/>
          </p:cNvPr>
          <p:cNvSpPr/>
          <p:nvPr/>
        </p:nvSpPr>
        <p:spPr>
          <a:xfrm rot="20433600">
            <a:off x="5796000" y="1915920"/>
            <a:ext cx="792000" cy="1944360"/>
          </a:xfrm>
          <a:prstGeom prst="flowChartSort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>
            <a:hlinkClick r:id="rId8"/>
          </p:cNvPr>
          <p:cNvSpPr/>
          <p:nvPr/>
        </p:nvSpPr>
        <p:spPr>
          <a:xfrm>
            <a:off x="539640" y="4941720"/>
            <a:ext cx="1656000" cy="1368720"/>
          </a:xfrm>
          <a:custGeom>
            <a:avLst/>
            <a:gdLst>
              <a:gd name="textAreaLeft" fmla="*/ 414000 w 1656000"/>
              <a:gd name="textAreaRight" fmla="*/ 1242000 w 1656000"/>
              <a:gd name="textAreaTop" fmla="*/ 342000 h 1368720"/>
              <a:gd name="textAreaBottom" fmla="*/ 1026720 h 1368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835280" y="3068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1763640" y="4221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1835280" y="602136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3995640" y="616572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6012000" y="6237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8388360" y="54450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5076720" y="436572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6588000" y="342900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8388360" y="3284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Тренажё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ыберите незамкнутые самопересекающиеся ли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4">
            <a:hlinkClick r:id="rId1"/>
          </p:cNvPr>
          <p:cNvSpPr/>
          <p:nvPr/>
        </p:nvSpPr>
        <p:spPr>
          <a:xfrm>
            <a:off x="3995640" y="4941720"/>
            <a:ext cx="3600720" cy="1511640"/>
          </a:xfrm>
          <a:prstGeom prst="lightningBol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rId2"/>
          </p:cNvPr>
          <p:cNvSpPr/>
          <p:nvPr/>
        </p:nvSpPr>
        <p:spPr>
          <a:xfrm>
            <a:off x="7093080" y="4437000"/>
            <a:ext cx="1296720" cy="136836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>
            <a:hlinkClick r:id="rId3"/>
          </p:cNvPr>
          <p:cNvSpPr/>
          <p:nvPr/>
        </p:nvSpPr>
        <p:spPr>
          <a:xfrm rot="20101800">
            <a:off x="2771640" y="4581000"/>
            <a:ext cx="936720" cy="2089440"/>
          </a:xfrm>
          <a:prstGeom prst="ellipse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>
            <a:hlinkClick r:id="rId4"/>
          </p:cNvPr>
          <p:cNvSpPr/>
          <p:nvPr/>
        </p:nvSpPr>
        <p:spPr>
          <a:xfrm>
            <a:off x="3059280" y="3068640"/>
            <a:ext cx="2844720" cy="171756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1792" h="1082">
                <a:moveTo>
                  <a:pt x="0" y="401"/>
                </a:moveTo>
                <a:cubicBezTo>
                  <a:pt x="873" y="499"/>
                  <a:pt x="1746" y="597"/>
                  <a:pt x="1769" y="673"/>
                </a:cubicBezTo>
                <a:cubicBezTo>
                  <a:pt x="1792" y="749"/>
                  <a:pt x="249" y="961"/>
                  <a:pt x="136" y="855"/>
                </a:cubicBezTo>
                <a:cubicBezTo>
                  <a:pt x="23" y="749"/>
                  <a:pt x="923" y="0"/>
                  <a:pt x="1089" y="38"/>
                </a:cubicBezTo>
                <a:cubicBezTo>
                  <a:pt x="1255" y="76"/>
                  <a:pt x="1127" y="916"/>
                  <a:pt x="1134" y="108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755640" y="3573360"/>
            <a:ext cx="187164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5"/>
          </p:cNvPr>
          <p:cNvSpPr/>
          <p:nvPr/>
        </p:nvSpPr>
        <p:spPr>
          <a:xfrm>
            <a:off x="826920" y="2133720"/>
            <a:ext cx="2592720" cy="792000"/>
          </a:xfrm>
          <a:prstGeom prst="flowChartCollate">
            <a:avLst/>
          </a:prstGeom>
          <a:solidFill>
            <a:srgbClr val="99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>
            <a:hlinkClick r:id="rId6"/>
          </p:cNvPr>
          <p:cNvSpPr/>
          <p:nvPr/>
        </p:nvSpPr>
        <p:spPr>
          <a:xfrm>
            <a:off x="7308720" y="1773360"/>
            <a:ext cx="1079640" cy="18716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abff8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>
            <a:hlinkClick r:id="rId7"/>
          </p:cNvPr>
          <p:cNvSpPr/>
          <p:nvPr/>
        </p:nvSpPr>
        <p:spPr>
          <a:xfrm rot="20433600">
            <a:off x="5796000" y="1915920"/>
            <a:ext cx="792000" cy="1944360"/>
          </a:xfrm>
          <a:prstGeom prst="flowChartSort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>
            <a:hlinkClick r:id="rId8"/>
          </p:cNvPr>
          <p:cNvSpPr/>
          <p:nvPr/>
        </p:nvSpPr>
        <p:spPr>
          <a:xfrm>
            <a:off x="539640" y="4941720"/>
            <a:ext cx="1656000" cy="1368720"/>
          </a:xfrm>
          <a:custGeom>
            <a:avLst/>
            <a:gdLst>
              <a:gd name="textAreaLeft" fmla="*/ 414000 w 1656000"/>
              <a:gd name="textAreaRight" fmla="*/ 1242000 w 1656000"/>
              <a:gd name="textAreaTop" fmla="*/ 342000 h 1368720"/>
              <a:gd name="textAreaBottom" fmla="*/ 1026720 h 1368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1835280" y="3068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1763640" y="4221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1835280" y="602136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3995640" y="616572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7"/>
          <p:cNvSpPr/>
          <p:nvPr/>
        </p:nvSpPr>
        <p:spPr>
          <a:xfrm>
            <a:off x="6012000" y="6237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8388360" y="54450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5076720" y="436572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"/>
          <p:cNvSpPr/>
          <p:nvPr/>
        </p:nvSpPr>
        <p:spPr>
          <a:xfrm>
            <a:off x="6588000" y="342900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8388360" y="3284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Тренажё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ыберите замкнутые линии без самопересече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4">
            <a:hlinkClick r:id="rId1"/>
          </p:cNvPr>
          <p:cNvSpPr/>
          <p:nvPr/>
        </p:nvSpPr>
        <p:spPr>
          <a:xfrm>
            <a:off x="3995640" y="4941720"/>
            <a:ext cx="3600720" cy="1511640"/>
          </a:xfrm>
          <a:prstGeom prst="lightningBol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>
            <a:hlinkClick r:id="rId2"/>
          </p:cNvPr>
          <p:cNvSpPr/>
          <p:nvPr/>
        </p:nvSpPr>
        <p:spPr>
          <a:xfrm>
            <a:off x="7093080" y="4437000"/>
            <a:ext cx="1296720" cy="136836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">
            <a:hlinkClick r:id="rId3"/>
          </p:cNvPr>
          <p:cNvSpPr/>
          <p:nvPr/>
        </p:nvSpPr>
        <p:spPr>
          <a:xfrm rot="20101800">
            <a:off x="2771640" y="4581000"/>
            <a:ext cx="936720" cy="2089440"/>
          </a:xfrm>
          <a:prstGeom prst="ellipse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>
            <a:hlinkClick r:id="rId4"/>
          </p:cNvPr>
          <p:cNvSpPr/>
          <p:nvPr/>
        </p:nvSpPr>
        <p:spPr>
          <a:xfrm>
            <a:off x="3059280" y="3068640"/>
            <a:ext cx="2844720" cy="171756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1792" h="1082">
                <a:moveTo>
                  <a:pt x="0" y="401"/>
                </a:moveTo>
                <a:cubicBezTo>
                  <a:pt x="873" y="499"/>
                  <a:pt x="1746" y="597"/>
                  <a:pt x="1769" y="673"/>
                </a:cubicBezTo>
                <a:cubicBezTo>
                  <a:pt x="1792" y="749"/>
                  <a:pt x="249" y="961"/>
                  <a:pt x="136" y="855"/>
                </a:cubicBezTo>
                <a:cubicBezTo>
                  <a:pt x="23" y="749"/>
                  <a:pt x="923" y="0"/>
                  <a:pt x="1089" y="38"/>
                </a:cubicBezTo>
                <a:cubicBezTo>
                  <a:pt x="1255" y="76"/>
                  <a:pt x="1127" y="916"/>
                  <a:pt x="1134" y="108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755640" y="3573360"/>
            <a:ext cx="187164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>
            <a:hlinkClick r:id="rId5"/>
          </p:cNvPr>
          <p:cNvSpPr/>
          <p:nvPr/>
        </p:nvSpPr>
        <p:spPr>
          <a:xfrm>
            <a:off x="826920" y="2133720"/>
            <a:ext cx="2592720" cy="792000"/>
          </a:xfrm>
          <a:prstGeom prst="flowChartCollate">
            <a:avLst/>
          </a:prstGeom>
          <a:solidFill>
            <a:srgbClr val="99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>
            <a:hlinkClick r:id="rId6"/>
          </p:cNvPr>
          <p:cNvSpPr/>
          <p:nvPr/>
        </p:nvSpPr>
        <p:spPr>
          <a:xfrm>
            <a:off x="7308720" y="1773360"/>
            <a:ext cx="1079640" cy="18716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abff8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>
            <a:hlinkClick r:id="rId7"/>
          </p:cNvPr>
          <p:cNvSpPr/>
          <p:nvPr/>
        </p:nvSpPr>
        <p:spPr>
          <a:xfrm rot="20433600">
            <a:off x="5796000" y="1915920"/>
            <a:ext cx="792000" cy="1944360"/>
          </a:xfrm>
          <a:prstGeom prst="flowChartSort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>
            <a:hlinkClick r:id="rId8"/>
          </p:cNvPr>
          <p:cNvSpPr/>
          <p:nvPr/>
        </p:nvSpPr>
        <p:spPr>
          <a:xfrm>
            <a:off x="539640" y="4941720"/>
            <a:ext cx="1656000" cy="1368720"/>
          </a:xfrm>
          <a:custGeom>
            <a:avLst/>
            <a:gdLst>
              <a:gd name="textAreaLeft" fmla="*/ 414000 w 1656000"/>
              <a:gd name="textAreaRight" fmla="*/ 1242000 w 1656000"/>
              <a:gd name="textAreaTop" fmla="*/ 342000 h 1368720"/>
              <a:gd name="textAreaBottom" fmla="*/ 1026720 h 1368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835280" y="3068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1763640" y="4221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1835280" y="602136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3995640" y="616572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6012000" y="6237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8388360" y="54450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5076720" y="436572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6588000" y="342900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1"/>
          <p:cNvSpPr/>
          <p:nvPr/>
        </p:nvSpPr>
        <p:spPr>
          <a:xfrm>
            <a:off x="8388360" y="3284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точек самопересечения имеют эти лин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532720" cy="2832120"/>
          </a:xfrm>
          <a:prstGeom prst="rect">
            <a:avLst/>
          </a:prstGeom>
          <a:ln w="0">
            <a:noFill/>
          </a:ln>
        </p:spPr>
      </p:pic>
      <p:pic>
        <p:nvPicPr>
          <p:cNvPr id="189" name="WordArt 5" descr=""/>
          <p:cNvPicPr/>
          <p:nvPr/>
        </p:nvPicPr>
        <p:blipFill>
          <a:blip r:embed="rId3"/>
          <a:stretch/>
        </p:blipFill>
        <p:spPr>
          <a:xfrm>
            <a:off x="365040" y="281160"/>
            <a:ext cx="2043360" cy="7365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1403280" y="4076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971640" y="328464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1835280" y="33577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2195640" y="4149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948360" y="4292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3851280" y="443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4932360" y="443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5292720" y="3429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4427640" y="2781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3564000" y="3429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7885080" y="4365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8"/>
          <p:cNvSpPr/>
          <p:nvPr/>
        </p:nvSpPr>
        <p:spPr>
          <a:xfrm>
            <a:off x="8101080" y="386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9"/>
          <p:cNvSpPr/>
          <p:nvPr/>
        </p:nvSpPr>
        <p:spPr>
          <a:xfrm>
            <a:off x="8028000" y="3429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0"/>
          <p:cNvSpPr/>
          <p:nvPr/>
        </p:nvSpPr>
        <p:spPr>
          <a:xfrm>
            <a:off x="7667640" y="3068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7164360" y="3068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2"/>
          <p:cNvSpPr/>
          <p:nvPr/>
        </p:nvSpPr>
        <p:spPr>
          <a:xfrm>
            <a:off x="6804000" y="3357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6732720" y="3860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4"/>
          <p:cNvSpPr/>
          <p:nvPr/>
        </p:nvSpPr>
        <p:spPr>
          <a:xfrm>
            <a:off x="7380360" y="4508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954000" y="4640400"/>
            <a:ext cx="208080" cy="244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1836720" y="46688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compendium.su/mathematics/mathematics5/mathematics5.files/image005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0"/>
            <a:ext cx="9120240" cy="3716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0" y="3789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точки принадлежат внутренней области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точки принадлежат внешней области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1920960" y="42840"/>
            <a:ext cx="5108400" cy="1146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2320" y="1989000"/>
            <a:ext cx="87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овите предшествующ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 последующие чис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ля чисел 109, 289, 40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ложите от каждой калитки дорожку к домику с тем же номером так, чтобы дорожки не пересека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684360" y="907920"/>
            <a:ext cx="151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8629560" cy="308628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7"/>
          <p:cNvSpPr/>
          <p:nvPr/>
        </p:nvSpPr>
        <p:spPr>
          <a:xfrm>
            <a:off x="1600200" y="5253120"/>
            <a:ext cx="1803240" cy="5634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136" h="355">
                <a:moveTo>
                  <a:pt x="1136" y="355"/>
                </a:moveTo>
                <a:cubicBezTo>
                  <a:pt x="1125" y="323"/>
                  <a:pt x="1116" y="310"/>
                  <a:pt x="1088" y="291"/>
                </a:cubicBezTo>
                <a:cubicBezTo>
                  <a:pt x="1077" y="259"/>
                  <a:pt x="1063" y="253"/>
                  <a:pt x="1032" y="243"/>
                </a:cubicBezTo>
                <a:cubicBezTo>
                  <a:pt x="956" y="167"/>
                  <a:pt x="776" y="190"/>
                  <a:pt x="696" y="187"/>
                </a:cubicBezTo>
                <a:cubicBezTo>
                  <a:pt x="630" y="165"/>
                  <a:pt x="565" y="164"/>
                  <a:pt x="496" y="155"/>
                </a:cubicBezTo>
                <a:cubicBezTo>
                  <a:pt x="413" y="127"/>
                  <a:pt x="349" y="128"/>
                  <a:pt x="256" y="123"/>
                </a:cubicBezTo>
                <a:cubicBezTo>
                  <a:pt x="211" y="117"/>
                  <a:pt x="163" y="121"/>
                  <a:pt x="120" y="107"/>
                </a:cubicBezTo>
                <a:cubicBezTo>
                  <a:pt x="111" y="104"/>
                  <a:pt x="112" y="89"/>
                  <a:pt x="104" y="83"/>
                </a:cubicBezTo>
                <a:cubicBezTo>
                  <a:pt x="0" y="0"/>
                  <a:pt x="151" y="146"/>
                  <a:pt x="64" y="5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1104840" y="4457880"/>
            <a:ext cx="1536840" cy="151128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968" h="952">
                <a:moveTo>
                  <a:pt x="848" y="952"/>
                </a:moveTo>
                <a:cubicBezTo>
                  <a:pt x="828" y="893"/>
                  <a:pt x="814" y="852"/>
                  <a:pt x="760" y="816"/>
                </a:cubicBezTo>
                <a:cubicBezTo>
                  <a:pt x="723" y="761"/>
                  <a:pt x="746" y="774"/>
                  <a:pt x="704" y="760"/>
                </a:cubicBezTo>
                <a:cubicBezTo>
                  <a:pt x="569" y="625"/>
                  <a:pt x="261" y="668"/>
                  <a:pt x="112" y="664"/>
                </a:cubicBezTo>
                <a:cubicBezTo>
                  <a:pt x="82" y="654"/>
                  <a:pt x="75" y="634"/>
                  <a:pt x="48" y="616"/>
                </a:cubicBezTo>
                <a:cubicBezTo>
                  <a:pt x="28" y="556"/>
                  <a:pt x="55" y="630"/>
                  <a:pt x="24" y="568"/>
                </a:cubicBezTo>
                <a:cubicBezTo>
                  <a:pt x="12" y="544"/>
                  <a:pt x="9" y="514"/>
                  <a:pt x="0" y="488"/>
                </a:cubicBezTo>
                <a:cubicBezTo>
                  <a:pt x="3" y="448"/>
                  <a:pt x="2" y="408"/>
                  <a:pt x="8" y="368"/>
                </a:cubicBezTo>
                <a:cubicBezTo>
                  <a:pt x="8" y="368"/>
                  <a:pt x="28" y="308"/>
                  <a:pt x="32" y="296"/>
                </a:cubicBezTo>
                <a:cubicBezTo>
                  <a:pt x="35" y="288"/>
                  <a:pt x="40" y="272"/>
                  <a:pt x="40" y="272"/>
                </a:cubicBezTo>
                <a:cubicBezTo>
                  <a:pt x="48" y="219"/>
                  <a:pt x="57" y="159"/>
                  <a:pt x="104" y="128"/>
                </a:cubicBezTo>
                <a:cubicBezTo>
                  <a:pt x="116" y="111"/>
                  <a:pt x="132" y="97"/>
                  <a:pt x="144" y="80"/>
                </a:cubicBezTo>
                <a:cubicBezTo>
                  <a:pt x="163" y="51"/>
                  <a:pt x="138" y="58"/>
                  <a:pt x="168" y="32"/>
                </a:cubicBezTo>
                <a:cubicBezTo>
                  <a:pt x="182" y="19"/>
                  <a:pt x="216" y="0"/>
                  <a:pt x="216" y="0"/>
                </a:cubicBezTo>
                <a:cubicBezTo>
                  <a:pt x="283" y="3"/>
                  <a:pt x="350" y="1"/>
                  <a:pt x="416" y="8"/>
                </a:cubicBezTo>
                <a:cubicBezTo>
                  <a:pt x="446" y="11"/>
                  <a:pt x="461" y="70"/>
                  <a:pt x="488" y="88"/>
                </a:cubicBezTo>
                <a:cubicBezTo>
                  <a:pt x="511" y="122"/>
                  <a:pt x="539" y="155"/>
                  <a:pt x="568" y="184"/>
                </a:cubicBezTo>
                <a:cubicBezTo>
                  <a:pt x="597" y="272"/>
                  <a:pt x="614" y="359"/>
                  <a:pt x="728" y="368"/>
                </a:cubicBezTo>
                <a:cubicBezTo>
                  <a:pt x="763" y="371"/>
                  <a:pt x="797" y="373"/>
                  <a:pt x="832" y="376"/>
                </a:cubicBezTo>
                <a:cubicBezTo>
                  <a:pt x="867" y="373"/>
                  <a:pt x="904" y="383"/>
                  <a:pt x="936" y="368"/>
                </a:cubicBezTo>
                <a:cubicBezTo>
                  <a:pt x="943" y="365"/>
                  <a:pt x="959" y="298"/>
                  <a:pt x="968" y="28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"/>
          <p:cNvSpPr/>
          <p:nvPr/>
        </p:nvSpPr>
        <p:spPr>
          <a:xfrm>
            <a:off x="882720" y="3938760"/>
            <a:ext cx="3002040" cy="1928520"/>
          </a:xfrm>
          <a:custGeom>
            <a:avLst/>
            <a:gdLst>
              <a:gd name="textAreaLeft" fmla="*/ 0 w 3002040"/>
              <a:gd name="textAreaRight" fmla="*/ 3002400 w 3002040"/>
              <a:gd name="textAreaTop" fmla="*/ 0 h 1928520"/>
              <a:gd name="textAreaBottom" fmla="*/ 1928880 h 1928520"/>
            </a:gdLst>
            <a:ahLst/>
            <a:rect l="textAreaLeft" t="textAreaTop" r="textAreaRight" b="textAreaBottom"/>
            <a:pathLst>
              <a:path w="1891" h="1215">
                <a:moveTo>
                  <a:pt x="372" y="1215"/>
                </a:moveTo>
                <a:cubicBezTo>
                  <a:pt x="369" y="1188"/>
                  <a:pt x="376" y="1159"/>
                  <a:pt x="364" y="1135"/>
                </a:cubicBezTo>
                <a:cubicBezTo>
                  <a:pt x="355" y="1118"/>
                  <a:pt x="332" y="1114"/>
                  <a:pt x="316" y="1103"/>
                </a:cubicBezTo>
                <a:cubicBezTo>
                  <a:pt x="274" y="1075"/>
                  <a:pt x="238" y="1035"/>
                  <a:pt x="196" y="1007"/>
                </a:cubicBezTo>
                <a:cubicBezTo>
                  <a:pt x="177" y="979"/>
                  <a:pt x="110" y="894"/>
                  <a:pt x="100" y="863"/>
                </a:cubicBezTo>
                <a:cubicBezTo>
                  <a:pt x="73" y="782"/>
                  <a:pt x="114" y="907"/>
                  <a:pt x="84" y="807"/>
                </a:cubicBezTo>
                <a:cubicBezTo>
                  <a:pt x="79" y="791"/>
                  <a:pt x="68" y="759"/>
                  <a:pt x="68" y="759"/>
                </a:cubicBezTo>
                <a:cubicBezTo>
                  <a:pt x="68" y="741"/>
                  <a:pt x="0" y="431"/>
                  <a:pt x="108" y="359"/>
                </a:cubicBezTo>
                <a:cubicBezTo>
                  <a:pt x="143" y="307"/>
                  <a:pt x="146" y="289"/>
                  <a:pt x="196" y="239"/>
                </a:cubicBezTo>
                <a:cubicBezTo>
                  <a:pt x="203" y="232"/>
                  <a:pt x="205" y="221"/>
                  <a:pt x="212" y="215"/>
                </a:cubicBezTo>
                <a:cubicBezTo>
                  <a:pt x="288" y="149"/>
                  <a:pt x="434" y="117"/>
                  <a:pt x="532" y="103"/>
                </a:cubicBezTo>
                <a:cubicBezTo>
                  <a:pt x="584" y="77"/>
                  <a:pt x="650" y="62"/>
                  <a:pt x="708" y="55"/>
                </a:cubicBezTo>
                <a:cubicBezTo>
                  <a:pt x="764" y="48"/>
                  <a:pt x="876" y="39"/>
                  <a:pt x="876" y="39"/>
                </a:cubicBezTo>
                <a:cubicBezTo>
                  <a:pt x="976" y="41"/>
                  <a:pt x="1294" y="0"/>
                  <a:pt x="1436" y="95"/>
                </a:cubicBezTo>
                <a:cubicBezTo>
                  <a:pt x="1460" y="131"/>
                  <a:pt x="1490" y="128"/>
                  <a:pt x="1524" y="151"/>
                </a:cubicBezTo>
                <a:cubicBezTo>
                  <a:pt x="1529" y="159"/>
                  <a:pt x="1533" y="168"/>
                  <a:pt x="1540" y="175"/>
                </a:cubicBezTo>
                <a:cubicBezTo>
                  <a:pt x="1547" y="182"/>
                  <a:pt x="1558" y="184"/>
                  <a:pt x="1564" y="191"/>
                </a:cubicBezTo>
                <a:cubicBezTo>
                  <a:pt x="1617" y="251"/>
                  <a:pt x="1571" y="231"/>
                  <a:pt x="1620" y="247"/>
                </a:cubicBezTo>
                <a:cubicBezTo>
                  <a:pt x="1639" y="276"/>
                  <a:pt x="1655" y="300"/>
                  <a:pt x="1684" y="319"/>
                </a:cubicBezTo>
                <a:cubicBezTo>
                  <a:pt x="1721" y="375"/>
                  <a:pt x="1700" y="356"/>
                  <a:pt x="1740" y="383"/>
                </a:cubicBezTo>
                <a:cubicBezTo>
                  <a:pt x="1766" y="462"/>
                  <a:pt x="1722" y="341"/>
                  <a:pt x="1772" y="431"/>
                </a:cubicBezTo>
                <a:cubicBezTo>
                  <a:pt x="1791" y="464"/>
                  <a:pt x="1791" y="495"/>
                  <a:pt x="1812" y="527"/>
                </a:cubicBezTo>
                <a:cubicBezTo>
                  <a:pt x="1820" y="559"/>
                  <a:pt x="1826" y="580"/>
                  <a:pt x="1844" y="607"/>
                </a:cubicBezTo>
                <a:cubicBezTo>
                  <a:pt x="1864" y="726"/>
                  <a:pt x="1891" y="907"/>
                  <a:pt x="1748" y="943"/>
                </a:cubicBezTo>
                <a:cubicBezTo>
                  <a:pt x="1713" y="940"/>
                  <a:pt x="1679" y="939"/>
                  <a:pt x="1644" y="935"/>
                </a:cubicBezTo>
                <a:cubicBezTo>
                  <a:pt x="1621" y="932"/>
                  <a:pt x="1609" y="911"/>
                  <a:pt x="1588" y="91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6222960" y="5346720"/>
            <a:ext cx="1765440" cy="44460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112" h="280">
                <a:moveTo>
                  <a:pt x="1112" y="280"/>
                </a:moveTo>
                <a:cubicBezTo>
                  <a:pt x="1093" y="252"/>
                  <a:pt x="1069" y="242"/>
                  <a:pt x="1048" y="216"/>
                </a:cubicBezTo>
                <a:cubicBezTo>
                  <a:pt x="1042" y="209"/>
                  <a:pt x="1040" y="197"/>
                  <a:pt x="1032" y="192"/>
                </a:cubicBezTo>
                <a:cubicBezTo>
                  <a:pt x="1018" y="183"/>
                  <a:pt x="1000" y="181"/>
                  <a:pt x="984" y="176"/>
                </a:cubicBezTo>
                <a:cubicBezTo>
                  <a:pt x="976" y="173"/>
                  <a:pt x="960" y="168"/>
                  <a:pt x="960" y="168"/>
                </a:cubicBezTo>
                <a:cubicBezTo>
                  <a:pt x="728" y="174"/>
                  <a:pt x="686" y="183"/>
                  <a:pt x="488" y="168"/>
                </a:cubicBezTo>
                <a:cubicBezTo>
                  <a:pt x="445" y="165"/>
                  <a:pt x="409" y="141"/>
                  <a:pt x="368" y="136"/>
                </a:cubicBezTo>
                <a:cubicBezTo>
                  <a:pt x="296" y="127"/>
                  <a:pt x="222" y="124"/>
                  <a:pt x="152" y="104"/>
                </a:cubicBezTo>
                <a:cubicBezTo>
                  <a:pt x="125" y="96"/>
                  <a:pt x="106" y="81"/>
                  <a:pt x="80" y="72"/>
                </a:cubicBezTo>
                <a:cubicBezTo>
                  <a:pt x="72" y="64"/>
                  <a:pt x="62" y="57"/>
                  <a:pt x="56" y="48"/>
                </a:cubicBezTo>
                <a:cubicBezTo>
                  <a:pt x="51" y="41"/>
                  <a:pt x="54" y="30"/>
                  <a:pt x="48" y="24"/>
                </a:cubicBezTo>
                <a:cubicBezTo>
                  <a:pt x="42" y="18"/>
                  <a:pt x="32" y="20"/>
                  <a:pt x="24" y="16"/>
                </a:cubicBezTo>
                <a:cubicBezTo>
                  <a:pt x="15" y="12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5753160" y="4021200"/>
            <a:ext cx="2679480" cy="1973160"/>
          </a:xfrm>
          <a:custGeom>
            <a:avLst/>
            <a:gdLst>
              <a:gd name="textAreaLeft" fmla="*/ 0 w 2679480"/>
              <a:gd name="textAreaRight" fmla="*/ 2679480 w 267948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688" h="1243">
                <a:moveTo>
                  <a:pt x="880" y="1243"/>
                </a:moveTo>
                <a:cubicBezTo>
                  <a:pt x="869" y="1211"/>
                  <a:pt x="860" y="1198"/>
                  <a:pt x="832" y="1179"/>
                </a:cubicBezTo>
                <a:cubicBezTo>
                  <a:pt x="807" y="1141"/>
                  <a:pt x="825" y="1158"/>
                  <a:pt x="768" y="1139"/>
                </a:cubicBezTo>
                <a:cubicBezTo>
                  <a:pt x="735" y="1128"/>
                  <a:pt x="710" y="1086"/>
                  <a:pt x="672" y="1083"/>
                </a:cubicBezTo>
                <a:cubicBezTo>
                  <a:pt x="616" y="1078"/>
                  <a:pt x="560" y="1078"/>
                  <a:pt x="504" y="1075"/>
                </a:cubicBezTo>
                <a:cubicBezTo>
                  <a:pt x="470" y="1064"/>
                  <a:pt x="390" y="1047"/>
                  <a:pt x="360" y="1027"/>
                </a:cubicBezTo>
                <a:cubicBezTo>
                  <a:pt x="328" y="1005"/>
                  <a:pt x="293" y="996"/>
                  <a:pt x="256" y="987"/>
                </a:cubicBezTo>
                <a:cubicBezTo>
                  <a:pt x="218" y="962"/>
                  <a:pt x="241" y="974"/>
                  <a:pt x="184" y="955"/>
                </a:cubicBezTo>
                <a:cubicBezTo>
                  <a:pt x="119" y="933"/>
                  <a:pt x="84" y="862"/>
                  <a:pt x="64" y="803"/>
                </a:cubicBezTo>
                <a:cubicBezTo>
                  <a:pt x="56" y="779"/>
                  <a:pt x="34" y="754"/>
                  <a:pt x="24" y="731"/>
                </a:cubicBezTo>
                <a:cubicBezTo>
                  <a:pt x="17" y="716"/>
                  <a:pt x="13" y="699"/>
                  <a:pt x="8" y="683"/>
                </a:cubicBezTo>
                <a:cubicBezTo>
                  <a:pt x="5" y="675"/>
                  <a:pt x="0" y="659"/>
                  <a:pt x="0" y="659"/>
                </a:cubicBezTo>
                <a:cubicBezTo>
                  <a:pt x="3" y="598"/>
                  <a:pt x="5" y="536"/>
                  <a:pt x="8" y="475"/>
                </a:cubicBezTo>
                <a:cubicBezTo>
                  <a:pt x="13" y="384"/>
                  <a:pt x="15" y="299"/>
                  <a:pt x="112" y="267"/>
                </a:cubicBezTo>
                <a:cubicBezTo>
                  <a:pt x="139" y="247"/>
                  <a:pt x="160" y="230"/>
                  <a:pt x="192" y="219"/>
                </a:cubicBezTo>
                <a:cubicBezTo>
                  <a:pt x="193" y="219"/>
                  <a:pt x="425" y="229"/>
                  <a:pt x="456" y="235"/>
                </a:cubicBezTo>
                <a:cubicBezTo>
                  <a:pt x="482" y="240"/>
                  <a:pt x="528" y="267"/>
                  <a:pt x="528" y="267"/>
                </a:cubicBezTo>
                <a:cubicBezTo>
                  <a:pt x="549" y="299"/>
                  <a:pt x="563" y="306"/>
                  <a:pt x="600" y="315"/>
                </a:cubicBezTo>
                <a:cubicBezTo>
                  <a:pt x="627" y="333"/>
                  <a:pt x="656" y="339"/>
                  <a:pt x="680" y="363"/>
                </a:cubicBezTo>
                <a:cubicBezTo>
                  <a:pt x="701" y="384"/>
                  <a:pt x="715" y="414"/>
                  <a:pt x="736" y="435"/>
                </a:cubicBezTo>
                <a:cubicBezTo>
                  <a:pt x="745" y="444"/>
                  <a:pt x="759" y="449"/>
                  <a:pt x="768" y="459"/>
                </a:cubicBezTo>
                <a:cubicBezTo>
                  <a:pt x="806" y="502"/>
                  <a:pt x="822" y="546"/>
                  <a:pt x="872" y="579"/>
                </a:cubicBezTo>
                <a:cubicBezTo>
                  <a:pt x="896" y="615"/>
                  <a:pt x="907" y="650"/>
                  <a:pt x="944" y="675"/>
                </a:cubicBezTo>
                <a:cubicBezTo>
                  <a:pt x="974" y="764"/>
                  <a:pt x="997" y="804"/>
                  <a:pt x="1088" y="827"/>
                </a:cubicBezTo>
                <a:cubicBezTo>
                  <a:pt x="1190" y="895"/>
                  <a:pt x="1340" y="890"/>
                  <a:pt x="1456" y="899"/>
                </a:cubicBezTo>
                <a:cubicBezTo>
                  <a:pt x="1520" y="910"/>
                  <a:pt x="1545" y="918"/>
                  <a:pt x="1624" y="899"/>
                </a:cubicBezTo>
                <a:cubicBezTo>
                  <a:pt x="1641" y="895"/>
                  <a:pt x="1641" y="860"/>
                  <a:pt x="1648" y="851"/>
                </a:cubicBezTo>
                <a:cubicBezTo>
                  <a:pt x="1654" y="843"/>
                  <a:pt x="1664" y="840"/>
                  <a:pt x="1672" y="835"/>
                </a:cubicBezTo>
                <a:cubicBezTo>
                  <a:pt x="1687" y="791"/>
                  <a:pt x="1688" y="761"/>
                  <a:pt x="1680" y="715"/>
                </a:cubicBezTo>
                <a:cubicBezTo>
                  <a:pt x="1674" y="567"/>
                  <a:pt x="1680" y="564"/>
                  <a:pt x="1656" y="467"/>
                </a:cubicBezTo>
                <a:cubicBezTo>
                  <a:pt x="1650" y="406"/>
                  <a:pt x="1654" y="384"/>
                  <a:pt x="1624" y="339"/>
                </a:cubicBezTo>
                <a:cubicBezTo>
                  <a:pt x="1615" y="302"/>
                  <a:pt x="1608" y="288"/>
                  <a:pt x="1576" y="267"/>
                </a:cubicBezTo>
                <a:cubicBezTo>
                  <a:pt x="1554" y="235"/>
                  <a:pt x="1520" y="209"/>
                  <a:pt x="1488" y="187"/>
                </a:cubicBezTo>
                <a:cubicBezTo>
                  <a:pt x="1458" y="141"/>
                  <a:pt x="1406" y="113"/>
                  <a:pt x="1368" y="75"/>
                </a:cubicBezTo>
                <a:cubicBezTo>
                  <a:pt x="1340" y="47"/>
                  <a:pt x="1366" y="52"/>
                  <a:pt x="1328" y="35"/>
                </a:cubicBezTo>
                <a:cubicBezTo>
                  <a:pt x="1328" y="35"/>
                  <a:pt x="1268" y="15"/>
                  <a:pt x="1256" y="11"/>
                </a:cubicBezTo>
                <a:cubicBezTo>
                  <a:pt x="1248" y="8"/>
                  <a:pt x="1232" y="3"/>
                  <a:pt x="1232" y="3"/>
                </a:cubicBezTo>
                <a:cubicBezTo>
                  <a:pt x="1202" y="7"/>
                  <a:pt x="1167" y="0"/>
                  <a:pt x="1144" y="19"/>
                </a:cubicBezTo>
                <a:cubicBezTo>
                  <a:pt x="1092" y="60"/>
                  <a:pt x="1164" y="31"/>
                  <a:pt x="1104" y="51"/>
                </a:cubicBezTo>
                <a:cubicBezTo>
                  <a:pt x="1099" y="59"/>
                  <a:pt x="1092" y="66"/>
                  <a:pt x="1088" y="75"/>
                </a:cubicBezTo>
                <a:cubicBezTo>
                  <a:pt x="1084" y="83"/>
                  <a:pt x="1087" y="95"/>
                  <a:pt x="1080" y="99"/>
                </a:cubicBezTo>
                <a:cubicBezTo>
                  <a:pt x="1056" y="112"/>
                  <a:pt x="1026" y="108"/>
                  <a:pt x="1000" y="115"/>
                </a:cubicBezTo>
                <a:cubicBezTo>
                  <a:pt x="902" y="105"/>
                  <a:pt x="937" y="116"/>
                  <a:pt x="888" y="6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3"/>
          <p:cNvSpPr/>
          <p:nvPr/>
        </p:nvSpPr>
        <p:spPr>
          <a:xfrm>
            <a:off x="5624640" y="4089240"/>
            <a:ext cx="2135160" cy="1702080"/>
          </a:xfrm>
          <a:custGeom>
            <a:avLst/>
            <a:gdLst>
              <a:gd name="textAreaLeft" fmla="*/ 0 w 2135160"/>
              <a:gd name="textAreaRight" fmla="*/ 2135520 w 2135160"/>
              <a:gd name="textAreaTop" fmla="*/ 0 h 1702080"/>
              <a:gd name="textAreaBottom" fmla="*/ 1702440 h 1702080"/>
            </a:gdLst>
            <a:ahLst/>
            <a:rect l="textAreaLeft" t="textAreaTop" r="textAreaRight" b="textAreaBottom"/>
            <a:pathLst>
              <a:path w="1345" h="1072">
                <a:moveTo>
                  <a:pt x="313" y="1072"/>
                </a:moveTo>
                <a:cubicBezTo>
                  <a:pt x="281" y="1024"/>
                  <a:pt x="223" y="999"/>
                  <a:pt x="177" y="968"/>
                </a:cubicBezTo>
                <a:cubicBezTo>
                  <a:pt x="158" y="940"/>
                  <a:pt x="145" y="923"/>
                  <a:pt x="113" y="912"/>
                </a:cubicBezTo>
                <a:cubicBezTo>
                  <a:pt x="88" y="874"/>
                  <a:pt x="100" y="897"/>
                  <a:pt x="81" y="840"/>
                </a:cubicBezTo>
                <a:cubicBezTo>
                  <a:pt x="75" y="822"/>
                  <a:pt x="55" y="810"/>
                  <a:pt x="49" y="792"/>
                </a:cubicBezTo>
                <a:cubicBezTo>
                  <a:pt x="33" y="745"/>
                  <a:pt x="19" y="697"/>
                  <a:pt x="9" y="648"/>
                </a:cubicBezTo>
                <a:cubicBezTo>
                  <a:pt x="13" y="512"/>
                  <a:pt x="0" y="282"/>
                  <a:pt x="49" y="136"/>
                </a:cubicBezTo>
                <a:cubicBezTo>
                  <a:pt x="67" y="81"/>
                  <a:pt x="125" y="45"/>
                  <a:pt x="177" y="32"/>
                </a:cubicBezTo>
                <a:cubicBezTo>
                  <a:pt x="198" y="27"/>
                  <a:pt x="220" y="23"/>
                  <a:pt x="241" y="16"/>
                </a:cubicBezTo>
                <a:cubicBezTo>
                  <a:pt x="257" y="11"/>
                  <a:pt x="289" y="0"/>
                  <a:pt x="289" y="0"/>
                </a:cubicBezTo>
                <a:cubicBezTo>
                  <a:pt x="345" y="3"/>
                  <a:pt x="401" y="2"/>
                  <a:pt x="457" y="8"/>
                </a:cubicBezTo>
                <a:cubicBezTo>
                  <a:pt x="509" y="14"/>
                  <a:pt x="564" y="45"/>
                  <a:pt x="617" y="56"/>
                </a:cubicBezTo>
                <a:cubicBezTo>
                  <a:pt x="633" y="67"/>
                  <a:pt x="649" y="77"/>
                  <a:pt x="665" y="88"/>
                </a:cubicBezTo>
                <a:cubicBezTo>
                  <a:pt x="694" y="107"/>
                  <a:pt x="731" y="108"/>
                  <a:pt x="761" y="128"/>
                </a:cubicBezTo>
                <a:cubicBezTo>
                  <a:pt x="789" y="170"/>
                  <a:pt x="835" y="193"/>
                  <a:pt x="865" y="232"/>
                </a:cubicBezTo>
                <a:cubicBezTo>
                  <a:pt x="896" y="271"/>
                  <a:pt x="921" y="341"/>
                  <a:pt x="961" y="368"/>
                </a:cubicBezTo>
                <a:cubicBezTo>
                  <a:pt x="966" y="376"/>
                  <a:pt x="970" y="385"/>
                  <a:pt x="977" y="392"/>
                </a:cubicBezTo>
                <a:cubicBezTo>
                  <a:pt x="984" y="399"/>
                  <a:pt x="995" y="401"/>
                  <a:pt x="1001" y="408"/>
                </a:cubicBezTo>
                <a:cubicBezTo>
                  <a:pt x="1025" y="435"/>
                  <a:pt x="1045" y="473"/>
                  <a:pt x="1065" y="504"/>
                </a:cubicBezTo>
                <a:cubicBezTo>
                  <a:pt x="1070" y="512"/>
                  <a:pt x="1076" y="520"/>
                  <a:pt x="1081" y="528"/>
                </a:cubicBezTo>
                <a:cubicBezTo>
                  <a:pt x="1090" y="542"/>
                  <a:pt x="1129" y="544"/>
                  <a:pt x="1129" y="544"/>
                </a:cubicBezTo>
                <a:cubicBezTo>
                  <a:pt x="1149" y="604"/>
                  <a:pt x="1120" y="532"/>
                  <a:pt x="1161" y="584"/>
                </a:cubicBezTo>
                <a:cubicBezTo>
                  <a:pt x="1205" y="639"/>
                  <a:pt x="1124" y="578"/>
                  <a:pt x="1193" y="624"/>
                </a:cubicBezTo>
                <a:cubicBezTo>
                  <a:pt x="1212" y="680"/>
                  <a:pt x="1193" y="667"/>
                  <a:pt x="1233" y="680"/>
                </a:cubicBezTo>
                <a:cubicBezTo>
                  <a:pt x="1246" y="718"/>
                  <a:pt x="1238" y="729"/>
                  <a:pt x="1273" y="752"/>
                </a:cubicBezTo>
                <a:cubicBezTo>
                  <a:pt x="1276" y="760"/>
                  <a:pt x="1274" y="771"/>
                  <a:pt x="1281" y="776"/>
                </a:cubicBezTo>
                <a:cubicBezTo>
                  <a:pt x="1288" y="782"/>
                  <a:pt x="1334" y="792"/>
                  <a:pt x="1345" y="79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festival.1september.ru/articles/570340/img1.gif"/>
          <p:cNvPicPr/>
          <p:nvPr/>
        </p:nvPicPr>
        <p:blipFill>
          <a:blip r:embed="rId2"/>
          <a:stretch/>
        </p:blipFill>
        <p:spPr>
          <a:xfrm>
            <a:off x="1476360" y="1500120"/>
            <a:ext cx="7002360" cy="4786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1311840" y="63180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Посмотрите на рисунок что вы можете с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116000" y="549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"/>
              </a:rPr>
              <a:t>Продолжите фраз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258920" y="1844640"/>
            <a:ext cx="604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егодня я узна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Было интерес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Было труд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 выполнял задан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 понял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еперь я мог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 приобре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 научил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 меня получилось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 смог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 попробую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ня удиви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не захотело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2"/>
          <a:stretch/>
        </p:blipFill>
        <p:spPr>
          <a:xfrm>
            <a:off x="1920960" y="42840"/>
            <a:ext cx="510840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-283680" y="1916280"/>
            <a:ext cx="954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овите числа, заключе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жду числами 196 и 2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1920960" y="42840"/>
            <a:ext cx="5108400" cy="1146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75120" y="1268280"/>
            <a:ext cx="838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Вычисли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5+6     6+18       12-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+8     8+27       16-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6+7     20-7        24-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УСТНЫЙ СЧ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Текст 2"/>
          <p:cNvGrpSpPr/>
          <p:nvPr/>
        </p:nvGrpSpPr>
        <p:grpSpPr>
          <a:xfrm>
            <a:off x="900000" y="1628640"/>
            <a:ext cx="1593720" cy="4525200"/>
            <a:chOff x="900000" y="1628640"/>
            <a:chExt cx="1593720" cy="4525200"/>
          </a:xfrm>
        </p:grpSpPr>
        <p:cxnSp>
          <p:nvCxnSpPr>
            <p:cNvPr id="52" name="_s24597"/>
            <p:cNvCxnSpPr>
              <a:stCxn id="53" idx="0"/>
              <a:endCxn id="54" idx="2"/>
            </p:cNvCxnSpPr>
            <p:nvPr/>
          </p:nvCxnSpPr>
          <p:spPr>
            <a:xfrm flipV="1">
              <a:off x="1696680" y="5197320"/>
              <a:ext cx="2160" cy="297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5" name="_s24595"/>
            <p:cNvCxnSpPr>
              <a:stCxn id="54" idx="0"/>
              <a:endCxn id="56" idx="2"/>
            </p:cNvCxnSpPr>
            <p:nvPr/>
          </p:nvCxnSpPr>
          <p:spPr>
            <a:xfrm flipV="1">
              <a:off x="1696680" y="4227480"/>
              <a:ext cx="2160" cy="297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" name="_s24591"/>
            <p:cNvCxnSpPr>
              <a:stCxn id="56" idx="0"/>
              <a:endCxn id="58" idx="2"/>
            </p:cNvCxnSpPr>
            <p:nvPr/>
          </p:nvCxnSpPr>
          <p:spPr>
            <a:xfrm flipV="1">
              <a:off x="1696680" y="3258000"/>
              <a:ext cx="2160" cy="297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" name="_s24588"/>
            <p:cNvCxnSpPr>
              <a:stCxn id="58" idx="0"/>
              <a:endCxn id="60" idx="2"/>
            </p:cNvCxnSpPr>
            <p:nvPr/>
          </p:nvCxnSpPr>
          <p:spPr>
            <a:xfrm flipV="1">
              <a:off x="1696680" y="2288160"/>
              <a:ext cx="2160" cy="297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0" name="_s24582"/>
            <p:cNvSpPr/>
            <p:nvPr/>
          </p:nvSpPr>
          <p:spPr>
            <a:xfrm>
              <a:off x="900000" y="1628640"/>
              <a:ext cx="1593720" cy="6462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-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4585"/>
            <p:cNvSpPr/>
            <p:nvPr/>
          </p:nvSpPr>
          <p:spPr>
            <a:xfrm>
              <a:off x="900000" y="2598120"/>
              <a:ext cx="1593720" cy="646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4590"/>
            <p:cNvSpPr/>
            <p:nvPr/>
          </p:nvSpPr>
          <p:spPr>
            <a:xfrm>
              <a:off x="900000" y="3567960"/>
              <a:ext cx="1593720" cy="6462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4594"/>
            <p:cNvSpPr/>
            <p:nvPr/>
          </p:nvSpPr>
          <p:spPr>
            <a:xfrm>
              <a:off x="900000" y="4537800"/>
              <a:ext cx="1593720" cy="6462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4596"/>
            <p:cNvSpPr/>
            <p:nvPr/>
          </p:nvSpPr>
          <p:spPr>
            <a:xfrm>
              <a:off x="900000" y="5507640"/>
              <a:ext cx="1593720" cy="6462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Текст 2"/>
          <p:cNvGrpSpPr/>
          <p:nvPr/>
        </p:nvGrpSpPr>
        <p:grpSpPr>
          <a:xfrm>
            <a:off x="3708360" y="1628640"/>
            <a:ext cx="1510920" cy="4490640"/>
            <a:chOff x="3708360" y="1628640"/>
            <a:chExt cx="1510920" cy="4490640"/>
          </a:xfrm>
        </p:grpSpPr>
        <p:cxnSp>
          <p:nvCxnSpPr>
            <p:cNvPr id="62" name="_s24600"/>
            <p:cNvCxnSpPr>
              <a:stCxn id="63" idx="0"/>
              <a:endCxn id="64" idx="2"/>
            </p:cNvCxnSpPr>
            <p:nvPr/>
          </p:nvCxnSpPr>
          <p:spPr>
            <a:xfrm flipV="1">
              <a:off x="4463640" y="5171760"/>
              <a:ext cx="2160" cy="292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_s24601"/>
            <p:cNvCxnSpPr>
              <a:stCxn id="64" idx="0"/>
              <a:endCxn id="66" idx="2"/>
            </p:cNvCxnSpPr>
            <p:nvPr/>
          </p:nvCxnSpPr>
          <p:spPr>
            <a:xfrm flipV="1">
              <a:off x="4463640" y="4209480"/>
              <a:ext cx="2160" cy="292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7" name="_s24602"/>
            <p:cNvCxnSpPr>
              <a:stCxn id="66" idx="0"/>
              <a:endCxn id="68" idx="2"/>
            </p:cNvCxnSpPr>
            <p:nvPr/>
          </p:nvCxnSpPr>
          <p:spPr>
            <a:xfrm flipV="1">
              <a:off x="4463640" y="3245400"/>
              <a:ext cx="2160" cy="291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9" name="_s24603"/>
            <p:cNvCxnSpPr>
              <a:stCxn id="68" idx="0"/>
              <a:endCxn id="70" idx="2"/>
            </p:cNvCxnSpPr>
            <p:nvPr/>
          </p:nvCxnSpPr>
          <p:spPr>
            <a:xfrm flipV="1">
              <a:off x="4463640" y="2282760"/>
              <a:ext cx="2160" cy="291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0" name="_s24604"/>
            <p:cNvSpPr/>
            <p:nvPr/>
          </p:nvSpPr>
          <p:spPr>
            <a:xfrm>
              <a:off x="3708360" y="1628640"/>
              <a:ext cx="1510920" cy="6415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7+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4605"/>
            <p:cNvSpPr/>
            <p:nvPr/>
          </p:nvSpPr>
          <p:spPr>
            <a:xfrm>
              <a:off x="3708360" y="2590920"/>
              <a:ext cx="1510920" cy="641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4606"/>
            <p:cNvSpPr/>
            <p:nvPr/>
          </p:nvSpPr>
          <p:spPr>
            <a:xfrm>
              <a:off x="3708360" y="3553200"/>
              <a:ext cx="1510920" cy="641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4607"/>
            <p:cNvSpPr/>
            <p:nvPr/>
          </p:nvSpPr>
          <p:spPr>
            <a:xfrm>
              <a:off x="3708360" y="4515480"/>
              <a:ext cx="1510920" cy="6415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4608"/>
            <p:cNvSpPr/>
            <p:nvPr/>
          </p:nvSpPr>
          <p:spPr>
            <a:xfrm>
              <a:off x="3708360" y="5477760"/>
              <a:ext cx="1510920" cy="6415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Текст 2"/>
          <p:cNvGrpSpPr/>
          <p:nvPr/>
        </p:nvGrpSpPr>
        <p:grpSpPr>
          <a:xfrm>
            <a:off x="6156360" y="1628640"/>
            <a:ext cx="1439640" cy="4496760"/>
            <a:chOff x="6156360" y="1628640"/>
            <a:chExt cx="1439640" cy="4496760"/>
          </a:xfrm>
        </p:grpSpPr>
        <p:cxnSp>
          <p:nvCxnSpPr>
            <p:cNvPr id="72" name="_s24612"/>
            <p:cNvCxnSpPr>
              <a:stCxn id="73" idx="0"/>
              <a:endCxn id="74" idx="2"/>
            </p:cNvCxnSpPr>
            <p:nvPr/>
          </p:nvCxnSpPr>
          <p:spPr>
            <a:xfrm flipV="1">
              <a:off x="6876000" y="5175720"/>
              <a:ext cx="2160" cy="291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5" name="_s24613"/>
            <p:cNvCxnSpPr>
              <a:stCxn id="74" idx="0"/>
              <a:endCxn id="76" idx="2"/>
            </p:cNvCxnSpPr>
            <p:nvPr/>
          </p:nvCxnSpPr>
          <p:spPr>
            <a:xfrm flipV="1">
              <a:off x="6876000" y="4213440"/>
              <a:ext cx="2160" cy="2905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7" name="_s24614"/>
            <p:cNvCxnSpPr>
              <a:stCxn id="76" idx="0"/>
              <a:endCxn id="78" idx="2"/>
            </p:cNvCxnSpPr>
            <p:nvPr/>
          </p:nvCxnSpPr>
          <p:spPr>
            <a:xfrm flipV="1">
              <a:off x="6876000" y="3249720"/>
              <a:ext cx="2160" cy="2905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9" name="_s24615"/>
            <p:cNvCxnSpPr>
              <a:stCxn id="78" idx="0"/>
              <a:endCxn id="80" idx="2"/>
            </p:cNvCxnSpPr>
            <p:nvPr/>
          </p:nvCxnSpPr>
          <p:spPr>
            <a:xfrm flipV="1">
              <a:off x="6876000" y="2286360"/>
              <a:ext cx="2160" cy="2930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0" name="_s24616"/>
            <p:cNvSpPr/>
            <p:nvPr/>
          </p:nvSpPr>
          <p:spPr>
            <a:xfrm>
              <a:off x="6156360" y="1628640"/>
              <a:ext cx="1439640" cy="642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9+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4617"/>
            <p:cNvSpPr/>
            <p:nvPr/>
          </p:nvSpPr>
          <p:spPr>
            <a:xfrm>
              <a:off x="6156360" y="2592000"/>
              <a:ext cx="1439640" cy="642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4618"/>
            <p:cNvSpPr/>
            <p:nvPr/>
          </p:nvSpPr>
          <p:spPr>
            <a:xfrm>
              <a:off x="6156360" y="3555720"/>
              <a:ext cx="1439640" cy="642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4619"/>
            <p:cNvSpPr/>
            <p:nvPr/>
          </p:nvSpPr>
          <p:spPr>
            <a:xfrm>
              <a:off x="6156360" y="4519440"/>
              <a:ext cx="1439640" cy="642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4620"/>
            <p:cNvSpPr/>
            <p:nvPr/>
          </p:nvSpPr>
          <p:spPr>
            <a:xfrm>
              <a:off x="6156360" y="5483160"/>
              <a:ext cx="1439640" cy="642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WordArt 46"/>
          <p:cNvSpPr txBox="1"/>
          <p:nvPr/>
        </p:nvSpPr>
        <p:spPr>
          <a:xfrm>
            <a:off x="1547640" y="5589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WordArt 47"/>
          <p:cNvSpPr txBox="1"/>
          <p:nvPr/>
        </p:nvSpPr>
        <p:spPr>
          <a:xfrm>
            <a:off x="6588000" y="558972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WordArt 48"/>
          <p:cNvSpPr txBox="1"/>
          <p:nvPr/>
        </p:nvSpPr>
        <p:spPr>
          <a:xfrm>
            <a:off x="4211640" y="558972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4" name="Рисунок 11" descr="потворяйка.jpg"/>
          <p:cNvPicPr/>
          <p:nvPr/>
        </p:nvPicPr>
        <p:blipFill>
          <a:blip r:embed="rId2"/>
          <a:stretch/>
        </p:blipFill>
        <p:spPr>
          <a:xfrm rot="20517600">
            <a:off x="476280" y="163080"/>
            <a:ext cx="99684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755640" y="733320"/>
            <a:ext cx="37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увеличить на 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 уменьшить на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 увеличить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уменьшить 8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5 первое слагаемое, 16 второе слагаемое. Найти сум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первый множитель, 60 второй множитель. Найти произ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имое 560, делитель 40. Найти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сколько раз 90 меньше 8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4932360" y="595440"/>
            <a:ext cx="37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увеличить на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уменьшить на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 увеличить 3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 уменьшить 7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6 первое слагаемое, 32 второе слагаемое. Найти су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первый множитель, 90 второй множитель. Найти произ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имое 360, делитель 30. Найти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сколько раз 810 больше 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99440" y="1989000"/>
            <a:ext cx="69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89280" y="1844640"/>
            <a:ext cx="90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lain" startAt="10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607      24 015      10 008      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          Н             Я               И           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549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и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в переводе с латыни. означ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лён, льняная нить, шнур, верёв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4"/>
          <p:cNvSpPr/>
          <p:nvPr/>
        </p:nvSpPr>
        <p:spPr>
          <a:xfrm>
            <a:off x="684360" y="3141720"/>
            <a:ext cx="187164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 rot="20101800">
            <a:off x="1042920" y="4149360"/>
            <a:ext cx="936720" cy="2089080"/>
          </a:xfrm>
          <a:prstGeom prst="ellipse">
            <a:avLst/>
          </a:prstGeom>
          <a:solidFill>
            <a:srgbClr val="99ff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3132000" y="2997360"/>
            <a:ext cx="2845080" cy="1717560"/>
          </a:xfrm>
          <a:custGeom>
            <a:avLst/>
            <a:gdLst>
              <a:gd name="textAreaLeft" fmla="*/ 0 w 2845080"/>
              <a:gd name="textAreaRight" fmla="*/ 2845440 w 284508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1792" h="1082">
                <a:moveTo>
                  <a:pt x="0" y="401"/>
                </a:moveTo>
                <a:cubicBezTo>
                  <a:pt x="873" y="499"/>
                  <a:pt x="1746" y="597"/>
                  <a:pt x="1769" y="673"/>
                </a:cubicBezTo>
                <a:cubicBezTo>
                  <a:pt x="1792" y="749"/>
                  <a:pt x="249" y="961"/>
                  <a:pt x="136" y="855"/>
                </a:cubicBezTo>
                <a:cubicBezTo>
                  <a:pt x="23" y="749"/>
                  <a:pt x="923" y="0"/>
                  <a:pt x="1089" y="38"/>
                </a:cubicBezTo>
                <a:cubicBezTo>
                  <a:pt x="1255" y="76"/>
                  <a:pt x="1127" y="916"/>
                  <a:pt x="1134" y="108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6804000" y="3068640"/>
            <a:ext cx="1297080" cy="136836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4284720" y="4724280"/>
            <a:ext cx="3600360" cy="1511280"/>
          </a:xfrm>
          <a:prstGeom prst="lightningBol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ДРАКОН"/>
          <p:cNvPicPr/>
          <p:nvPr/>
        </p:nvPicPr>
        <p:blipFill>
          <a:blip r:embed="rId1"/>
          <a:stretch/>
        </p:blipFill>
        <p:spPr>
          <a:xfrm>
            <a:off x="1692360" y="1773360"/>
            <a:ext cx="57052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08,-2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08,-2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08,-2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08,-2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04:09:14Z</dcterms:created>
  <dc:creator>Людмила</dc:creator>
  <dc:description/>
  <dc:language>en-US</dc:language>
  <cp:lastModifiedBy>home</cp:lastModifiedBy>
  <dcterms:modified xsi:type="dcterms:W3CDTF">2019-09-07T20:39:51Z</dcterms:modified>
  <cp:revision>69</cp:revision>
  <dc:subject/>
  <dc:title>5 класс</dc:title>
</cp:coreProperties>
</file>