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205-6BBD-4963-8B44-F8A7B713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ADF-637F-45AE-BFA9-8A4D1782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B0F-F87B-4991-82EE-25E91BAC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394-89E2-440B-B3DC-6A4F0B16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05EF-4B4F-4BC2-9D62-E87A7225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888F-348A-4F68-AE4B-05410517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BF96-EF8D-43F9-B8D5-5D4530F3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430-5E79-4036-8C7F-8F97733E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A70D-60B0-4E07-9233-067446D8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76F1-A714-4793-B22C-FDBD7C1C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67C2-B43B-4540-962A-79B37B9F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506-F5AF-4013-9EE4-CE840DCB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3258-EA00-4E3B-82C3-5BB708B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8B31-FE2B-4A16-9A98-3D853DA6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FC28-6EAF-4D66-B418-B4F38C7C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C62C-EC0F-4724-8C27-9FAF9801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8F7A-E23A-43C3-B656-566D51A1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704-14F2-41B0-B0A8-63F3D235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91F-8E78-411A-B565-59BB3321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9EA-544A-4A94-9430-2AF168DD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CDF-CD6E-4823-997B-CE0067C8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9DC-A6B0-42BC-8268-442D7754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0B7-4B59-4FD8-A911-79B4C613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169-CF3C-44EF-B71E-D047EADC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18F1-7264-4FE1-BA5A-F50741F1C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D111-5913-4B6C-98C1-190826C7FC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ewebpedagogique.com/petitapetit/files/2012/04/venividi.jpg" TargetMode="External"/><Relationship Id="rId2" Type="http://schemas.openxmlformats.org/officeDocument/2006/relationships/hyperlink" Target="http://lewebpedagogique.com/petitapetit/files/2012/04/venividi.jpg" TargetMode="External"/><Relationship Id="rId3" Type="http://schemas.openxmlformats.org/officeDocument/2006/relationships/hyperlink" Target="http://www.jobtrouveur.com/wp-content/uploads/2013/05/Etre-ou-avoir.png" TargetMode="External"/><Relationship Id="rId4" Type="http://schemas.openxmlformats.org/officeDocument/2006/relationships/hyperlink" Target="http://vm.ru/photo/vecherka/2011/09/doc61dta9c50qp1brg4h2hj_800_480.jpg" TargetMode="External"/><Relationship Id="rId5" Type="http://schemas.openxmlformats.org/officeDocument/2006/relationships/hyperlink" Target="http://vm.ru/photo/vecherka/2011/09/doc61dta9c50qp1brg4h2hj_800_480.jpg" TargetMode="External"/><Relationship Id="rId6" Type="http://schemas.openxmlformats.org/officeDocument/2006/relationships/hyperlink" Target="http://vm.ru/photo/vecherka/2011/09/doc61dta9c50qp1brg4h2hj_800_480.jpg" TargetMode="External"/><Relationship Id="rId7" Type="http://schemas.openxmlformats.org/officeDocument/2006/relationships/hyperlink" Target="http://www.israelonline.ru/wp-content/uploads/2014/02/26/9f435bcc61bcf65623a8f2a2a6898339.jpg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ingefamily.typepad.com/.a/6a0105364a8fba970c0148c7210cdf970c-800wi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385120" cy="239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ss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é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os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é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лаголов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II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рупп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34920" y="4233960"/>
            <a:ext cx="52578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француз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БОУ «Гимназия №5» г.Кыз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рова Илона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J’ai reçu ta lett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on weekend a été aussi sup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Je suis allé au zo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J’ai vu les tig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J’ai pris beaucoup de phot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VOIR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3640" y="692280"/>
            <a:ext cx="852156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Est-ce que tu as bien travaillé aujourd’hu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’est facile de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’est difficile de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Je suis… (content de mon travail, fatigué, triste…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Использованные ресурс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267920"/>
            <a:ext cx="8208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ение Цезар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lewebpedagogique.com/petitapetit/files/2012/04/venividi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ение глаголов со слайда 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www.jobtrouveur.com/wp-content/uploads/2013/05/Etre-ou-avoir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ение письм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://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vm.ru/photo/vecherka/2011/09/doc61dta9c50qp1brg4h2hj_800_480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ение стике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http://www.israelonline.ru/wp-content/uploads/2014/02/26/9f435bcc61bcf65623a8f2a2a6898339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Использованные ресурс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ение зоопар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fringefamily.typepad.com/.</a:t>
            </a:r>
            <a:r>
              <a:rPr b="0" lang="ru-RU" sz="2400" spc="-1" strike="noStrike">
                <a:solidFill>
                  <a:srgbClr val="0aff0a"/>
                </a:solidFill>
                <a:latin typeface="Arial"/>
              </a:rPr>
              <a:t>a/6a0105364a8fba970c0148c7210cdf970c-800w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ение тигр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ff0a"/>
                </a:solidFill>
                <a:latin typeface="Arial"/>
              </a:rPr>
              <a:t>http://hdwallpappers.com/images/wallpapers/sumatran_tiger_wallpaper-1024x768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ение фотограф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album.foto.ru/photos/pr0/138621/1199145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SSÉ COMPOSÉ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4" descr="venividi"/>
          <p:cNvPicPr/>
          <p:nvPr/>
        </p:nvPicPr>
        <p:blipFill>
          <a:blip r:embed="rId1"/>
          <a:stretch/>
        </p:blipFill>
        <p:spPr>
          <a:xfrm>
            <a:off x="1619280" y="191628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ous allons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réviser la grammai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faire des exercic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lire et tradui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arler et écrire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675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Nous avons beaucoup appris,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Nous avons un peu écri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Lu, appris, connu, reçu,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Dit, compris et aperçu,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Mis, venu, voulu, ouvert,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Vu, traduit et découvert.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Nous n’avons pas fait de fautes,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Nous avons reçu des notes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tes les PP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radu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ven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vo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ppre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l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ouvo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ê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a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vo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recevo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l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écr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qdefault"/>
          <p:cNvPicPr/>
          <p:nvPr/>
        </p:nvPicPr>
        <p:blipFill>
          <a:blip r:embed="rId1"/>
          <a:stretch/>
        </p:blipFill>
        <p:spPr>
          <a:xfrm>
            <a:off x="1619280" y="1844640"/>
            <a:ext cx="5022720" cy="3767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180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l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ven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59280" y="1125000"/>
            <a:ext cx="248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l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radu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vo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ouvo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ê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a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écr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ppre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9320"/>
                </a:solidFill>
                <a:latin typeface="Arial Black"/>
              </a:rPr>
              <a:t>lire, traduire, aller, avoir, pouvoir, être, faire, écrire, venir, apprendre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215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imanche …… un jour magnifique. Le matin j’ …….. mes devoirs: j’……. et …….. un texte,  j’…….un exercice,  j’……. une poésie par coe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près cela j’……. le temps pour aider ma maman. Je ….. au magasin pour acheter du p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e soir nous …….aller  au cinema avec mon copain de classe. Je ….. à la maison très heureu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7991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imanche </a:t>
            </a:r>
            <a:r>
              <a:rPr b="1" lang="en-US" sz="2800" spc="-1" strike="noStrike">
                <a:solidFill>
                  <a:srgbClr val="fc9320"/>
                </a:solidFill>
                <a:latin typeface="Arial"/>
              </a:rPr>
              <a:t>a été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un jour magnifique. Le matin j’ 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ai fait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mes devoirs: j’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ai lu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et 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traduit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un texte,  j’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a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9320"/>
                </a:solidFill>
                <a:latin typeface="Arial"/>
              </a:rPr>
              <a:t>écrit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un exercice,  j’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a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appri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une poésie par coe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près cela j’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a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eu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le temps pour aider ma maman. Je 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suis all</a:t>
            </a:r>
            <a:r>
              <a:rPr b="1" lang="en-US" sz="2800" spc="-1" strike="noStrike">
                <a:solidFill>
                  <a:srgbClr val="fc932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u magasin pour acheter du p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e soir nous 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avons pu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ller au cinéma avec mon copain de classe. Je </a:t>
            </a:r>
            <a:r>
              <a:rPr b="1" lang="en-US" sz="3200" spc="-1" strike="noStrike">
                <a:solidFill>
                  <a:srgbClr val="fc9320"/>
                </a:solidFill>
                <a:latin typeface="Arial"/>
              </a:rPr>
              <a:t>suis venu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à la maison très heureu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idez  André à comprendre la lettre d’Alice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1557000"/>
            <a:ext cx="44308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ecevoir 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3280" y="1412640"/>
            <a:ext cx="4321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n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être aussi su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371592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ller a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067280" y="3715920"/>
            <a:ext cx="428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oir 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ndre beaucoup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0" descr="481439_view"/>
          <p:cNvPicPr/>
          <p:nvPr/>
        </p:nvPicPr>
        <p:blipFill>
          <a:blip r:embed="rId1"/>
          <a:stretch/>
        </p:blipFill>
        <p:spPr>
          <a:xfrm>
            <a:off x="1835280" y="2060640"/>
            <a:ext cx="2287440" cy="1712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9f435bcc61bcf65623a8f2a2a6898339"/>
          <p:cNvPicPr/>
          <p:nvPr/>
        </p:nvPicPr>
        <p:blipFill>
          <a:blip r:embed="rId2"/>
          <a:stretch/>
        </p:blipFill>
        <p:spPr>
          <a:xfrm>
            <a:off x="6300720" y="981000"/>
            <a:ext cx="2184480" cy="163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6a0105364a8fba970c0148c7210cdf970c-800wi"/>
          <p:cNvPicPr/>
          <p:nvPr/>
        </p:nvPicPr>
        <p:blipFill>
          <a:blip r:embed="rId3"/>
          <a:stretch/>
        </p:blipFill>
        <p:spPr>
          <a:xfrm>
            <a:off x="1258920" y="4221000"/>
            <a:ext cx="2225520" cy="167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The-Sumatra-Island_Sumatran-Tigers_15207"/>
          <p:cNvPicPr/>
          <p:nvPr/>
        </p:nvPicPr>
        <p:blipFill>
          <a:blip r:embed="rId4"/>
          <a:stretch/>
        </p:blipFill>
        <p:spPr>
          <a:xfrm>
            <a:off x="6659640" y="3357720"/>
            <a:ext cx="2089080" cy="160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1199145"/>
          <p:cNvPicPr/>
          <p:nvPr/>
        </p:nvPicPr>
        <p:blipFill>
          <a:blip r:embed="rId5"/>
          <a:stretch/>
        </p:blipFill>
        <p:spPr>
          <a:xfrm>
            <a:off x="5364000" y="5473800"/>
            <a:ext cx="1845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8:25:04Z</dcterms:created>
  <dc:creator>Home</dc:creator>
  <dc:description/>
  <dc:language>en-US</dc:language>
  <cp:lastModifiedBy>user</cp:lastModifiedBy>
  <dcterms:modified xsi:type="dcterms:W3CDTF">2016-08-17T16:17:41Z</dcterms:modified>
  <cp:revision>29</cp:revision>
  <dc:subject/>
  <dc:title>Слайд 1</dc:title>
</cp:coreProperties>
</file>