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2EA-CC81-4AB0-890B-D5EF9AE2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6F5-0533-42A4-AF0D-A143668E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2D2-DFC6-4F86-856C-49013429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99C-2D81-416C-94AD-0A9EA091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3B0-82FD-49F0-9967-769BEE1F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5E-8F10-4358-A95B-30CDF06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67B-9754-419B-9A95-C1B6F6B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6E5-B146-4E74-8530-F9422AF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CD7-7034-4DE6-AF5E-1FF554A4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DBC-043A-419E-A757-274B0D0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C23-5D88-40BD-BF80-8514F16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5DE-52E4-44FF-A26F-3152B91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D7D4-7CCA-48D1-B89E-B5CBC6BA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1800360"/>
            <a:ext cx="3809880" cy="505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40323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1120" cy="336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4720" y="3357720"/>
            <a:ext cx="4694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350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716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12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151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6948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770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640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24800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4032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77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4365720"/>
            <a:ext cx="3525840" cy="230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4360" y="0"/>
            <a:ext cx="7632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5:25:53Z</dcterms:created>
  <dc:creator>Руслан</dc:creator>
  <dc:description/>
  <dc:language>en-US</dc:language>
  <cp:lastModifiedBy>Руслан</cp:lastModifiedBy>
  <dcterms:modified xsi:type="dcterms:W3CDTF">2019-04-07T17:04:15Z</dcterms:modified>
  <cp:revision>3</cp:revision>
  <dc:subject/>
  <dc:title>Слайд 1</dc:title>
</cp:coreProperties>
</file>