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187-FA0C-4C4B-92F6-132A7F30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862-9E1B-4A7F-B379-22C1DD43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1A2-0FD7-4461-BBF1-EEF40C76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A32-3F8F-4762-9E8E-D81DB1FF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079-5263-4C7A-A09C-930839C6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59D3-345E-42CD-AB55-219AC62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E19A-237C-417C-8953-D1825C4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2DA-7CD5-418F-B2D0-32526D8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9A4-D514-4F11-BA79-B8B6678A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946-D2F7-4E02-B296-7CCDC7F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FF7-FD4E-483E-A9D7-347DCBF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7FE-D021-43A8-A8FD-4BB444F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4B00-3341-4D11-9082-F70FECA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B18-9D4C-44D8-ABD7-92D2307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6BF-1A74-47D0-9FE5-B68EA540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F9BC-EEAA-46BD-81C5-B7168AA8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EEAE-0D45-4434-A56B-2E8E1006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A53-9084-4D00-A0BB-4CD3E5C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CA7-36B4-46CD-BFBC-1B3D4EE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850-69CF-45AF-9DAE-6ECB9B30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41C-85A6-4634-BC6B-D8AD532D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875-2D3E-4BA6-B2D8-31637C1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244-B0DC-4767-BB5B-A8934746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979-1A02-48AC-B99E-F38DB62A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6376-A89F-4EEE-9F03-93166918A5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B8B-BA33-4A52-983E-FFBAE9972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7138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я профессия - воспитате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я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95280" y="90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411280" y="5508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ий сад № 5 «Почемучк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411280" y="62596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Суворов, Тульская обла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572000" y="386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а воспитатель 1 категор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236000" y="414972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ботова Н.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3276720" y="66261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917640" y="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8244000" y="645336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13096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детей ведь главное забота и уход, внимание день за дн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 – сложная работа, если подопечных полон д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бота наша не подарок, мы с пониманием это признаё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ть воспитателем - призванье! Я в этом убеждаюсь с каждым дн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Рисунок 4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357360" cy="44780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2468880" cy="44780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"/>
          <p:cNvSpPr/>
          <p:nvPr/>
        </p:nvSpPr>
        <p:spPr>
          <a:xfrm>
            <a:off x="900000" y="-33480"/>
            <a:ext cx="856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3780000" y="6588000"/>
            <a:ext cx="59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8381880" y="6524640"/>
            <a:ext cx="5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0578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 учу  их слушать, считать и писать, лепить и рисов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щищать малышек и конечно старших уваж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вом далеко не каждый педагогом может ста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Рисунок 4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861000" cy="38624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"/>
          <p:cNvPicPr/>
          <p:nvPr/>
        </p:nvPicPr>
        <p:blipFill>
          <a:blip r:embed="rId3"/>
          <a:stretch/>
        </p:blipFill>
        <p:spPr>
          <a:xfrm>
            <a:off x="177840" y="1268280"/>
            <a:ext cx="4408560" cy="324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971640" y="0"/>
            <a:ext cx="705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3419640" y="66117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8572680" y="64641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0647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тель, если он желает счастья человеку, должен воспитывать его не для счастья, а приготовить к труду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.Д. Ушин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Рисунок 4" descr=""/>
          <p:cNvPicPr/>
          <p:nvPr/>
        </p:nvPicPr>
        <p:blipFill>
          <a:blip r:embed="rId2"/>
          <a:stretch/>
        </p:blipFill>
        <p:spPr>
          <a:xfrm>
            <a:off x="2268360" y="2060640"/>
            <a:ext cx="5042160" cy="42670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649440" y="0"/>
            <a:ext cx="828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638520" y="6588000"/>
            <a:ext cx="36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8244000" y="65246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2738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. М. Бехтер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ихотворение Хоботовой Н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611280" y="11592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3708360" y="6524640"/>
            <a:ext cx="39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8496360" y="6524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8202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Рисунок 4" descr=""/>
          <p:cNvPicPr/>
          <p:nvPr/>
        </p:nvPicPr>
        <p:blipFill>
          <a:blip r:embed="rId2"/>
          <a:stretch/>
        </p:blipFill>
        <p:spPr>
          <a:xfrm>
            <a:off x="2700360" y="1197000"/>
            <a:ext cx="3789360" cy="50529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900000" y="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3411360" y="66117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8310600" y="6469200"/>
            <a:ext cx="43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1723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Segoe Print"/>
              </a:rPr>
              <a:t>Я горжусь своей профессией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2016-03-11 10"/>
          <p:cNvPicPr/>
          <p:nvPr/>
        </p:nvPicPr>
        <p:blipFill>
          <a:blip r:embed="rId2"/>
          <a:stretch/>
        </p:blipFill>
        <p:spPr>
          <a:xfrm>
            <a:off x="1366920" y="1268280"/>
            <a:ext cx="5761080" cy="4248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1763640" y="55166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Лучшее воспитание – это воспитание в детях добра 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132000" y="57340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нове искренних человеческих отношений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588000" y="623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. М. Бехтере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611280" y="152280"/>
            <a:ext cx="71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132000" y="66038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8459640" y="66038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ои правила в рабо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1557360"/>
            <a:ext cx="7842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бор педагогических технологий с учетом возраста детей и их интерес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четание различных методов  и приемов работы с детьми в воспитательном проце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нирование воспитательного процесса, четко и целенаправленно организую деятельность дет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процессе предварительной работы должны быть организованы наблюдения, дидактические игры и упражнения, нацеленные на уточнение и закрепление материа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ледовательность рабо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789120" y="6480"/>
            <a:ext cx="734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3708360" y="661176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675640" y="66117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дачи педагогической деятель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креплять здоровье, развивать двигательную активность дете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ть познавательную активность детей, осваивать средства и способы познания, обогащать опыт деятельности и представления об окружающем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ывать доброжелательное отношения между детьми и дружеские взаимоотношения в совместных делах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ть творческие проявления и воображение в художественной, изобразительной и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685800" y="20520"/>
            <a:ext cx="727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3595680" y="661176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8379000" y="6438960"/>
            <a:ext cx="65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7986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свете есть много различных професси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 каждой есть прелесть сво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нет благородней, нужней и чудесней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ем та, кем работаю я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 воспитатель! И этим горжус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этому каждый день в этой сфере тружус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"/>
          <p:cNvPicPr/>
          <p:nvPr/>
        </p:nvPicPr>
        <p:blipFill>
          <a:blip r:embed="rId2"/>
          <a:stretch/>
        </p:blipFill>
        <p:spPr>
          <a:xfrm>
            <a:off x="2124000" y="2637000"/>
            <a:ext cx="5689800" cy="34034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900000" y="0"/>
            <a:ext cx="727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322800" y="6524640"/>
            <a:ext cx="50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8604360" y="6556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8202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надо, я умею рисовать и танцев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оформить все красиво, где была всем рассказ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была я в разных странах, и во многих города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а море, и в походах, и в музеях, и в горах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тересна мне природа, и подделки из не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юблю спорт, старинные кувшины, в целом жизнь и прелести ее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1116000" y="2236680"/>
            <a:ext cx="3240000" cy="32403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3"/>
          <a:stretch/>
        </p:blipFill>
        <p:spPr>
          <a:xfrm>
            <a:off x="4859280" y="2236680"/>
            <a:ext cx="324180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900000" y="0"/>
            <a:ext cx="835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3564000" y="6611760"/>
            <a:ext cx="38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8712360" y="6611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202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т и приходится день ото дня учить детей тому, что знаю и умею 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ятню свою люблю я, и конечно ежедневно их всему-всему уч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вести себя, и кушать, чтоб здоровье не наруши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спортивный вид иметь, все болезни одоле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учу их рисовать,  за природой наблюда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знь любить и улыбаться, и конечно уж не драться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3"/>
          <a:stretch/>
        </p:blipFill>
        <p:spPr>
          <a:xfrm>
            <a:off x="1908000" y="2475000"/>
            <a:ext cx="3036960" cy="40496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768240" y="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3708360" y="659448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8690040" y="6524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1309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рпелива с ребятнёй, развлекаю их игрой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 за днем идет ученье, что-то вроде приключенья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е приходится так часто в их причудах разбиратьс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х невежество терпеть, не давать им передраться, и со скуки умере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Рисунок 4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5118120" cy="42670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395280" y="333360"/>
            <a:ext cx="83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539640" y="189000"/>
            <a:ext cx="80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3527280" y="6611760"/>
            <a:ext cx="561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8381880" y="65246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202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 учу, чтоб каждый сам мог одевать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 искусстве чтобы мог также разбира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л, что плохо, а что нет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л свой интеллект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Рисунок 6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5689800" cy="38354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"/>
          <p:cNvSpPr/>
          <p:nvPr/>
        </p:nvSpPr>
        <p:spPr>
          <a:xfrm>
            <a:off x="903240" y="0"/>
            <a:ext cx="72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егиональный конкурс «Профессиональная навигация – воспитываем и обучаем будущих профессионалов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3637080" y="6611760"/>
            <a:ext cx="44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Хоботова Нина Дмитриевна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8532720" y="6611760"/>
            <a:ext cx="6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5:42:38Z</dcterms:created>
  <dc:creator>ввв</dc:creator>
  <dc:description/>
  <dc:language>en-US</dc:language>
  <cp:lastModifiedBy>hobotovanatalia@gmail.com</cp:lastModifiedBy>
  <dcterms:modified xsi:type="dcterms:W3CDTF">2019-10-13T14:05:08Z</dcterms:modified>
  <cp:revision>22</cp:revision>
  <dc:subject/>
  <dc:title>Моя профессия - воспитатель</dc:title>
</cp:coreProperties>
</file>