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12D8-4BC7-4543-B56E-0E8919A206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F9CF-BD7E-4763-8B81-35572A7C29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BAD-F3DC-4512-A014-1661211B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F59-063C-41D4-A2B7-6EA5902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C0F-E702-4EFF-9381-603655A1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CF4-1D2F-4D36-87A2-C455A4C0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89C-4738-4958-82A0-B81C7EFB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028D-F73E-4500-B900-DDFA398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EC10-3ACD-47A3-8D91-0150D484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D8BC-A631-4038-9E99-D3CF398D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80A3-081A-4E4D-BD9F-14495C8B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9B7D-9B07-4E85-8094-356BCD80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4064-A250-47A7-A4FF-3FF89CE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885-23D9-4F4D-BD26-BC2D6A8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85D1-FD96-4BDB-B02C-73E8BFC0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F4DD-B6A5-4492-8B59-4F03786D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8B2-88B6-49CF-8511-8A2A529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B770-B08E-416F-B8D1-CCB74A21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80AD-27E4-4B4D-8FDC-86B05A55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DDB2-50E1-4275-85F7-9032A8CE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A4A4-7669-48C0-A099-5DF0DC2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CE95-91DD-416C-82D7-D3DE7544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D015-01A8-44CD-89D4-EFE4C15E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287F-A039-4423-84B8-6A033DCA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4BD-1CBA-4BA8-8D6A-90CA1E6F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68D1-57A6-4D73-AD44-B272FCDA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BAA4-1BBE-419C-98BC-51887D4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B8A6-8D95-41E9-A71B-A39A1EB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9EC3-8F7B-4EFC-B2BE-926F9E0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1F1B-26B7-45FF-A9E8-455D606E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977D-6280-47BF-9278-B01ED46F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D170-2A65-481B-B3F2-04CCB9D3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AF46-3808-4B67-927E-44CA404C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5218-2DB5-4E28-8661-0E81F4E2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C901-0002-45E1-96C7-215019A5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448-86EE-46D7-8193-7784654C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B5065-3FFB-48FF-B18A-35D45EF7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8C51-7D5D-466F-A2FE-0EC60D46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2F1E-E06B-4F2C-A5DD-2197A9CA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3C89-5C01-4202-BBD9-BDFD999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A65D-5996-4D0F-B0BA-616BB08C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B34B-5FD3-49B0-BC33-535A47F6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2148-4BE7-4075-8444-7E517515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C6F89-D484-4E59-983D-62A1E12A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BC9B-CEA1-42C4-976F-289EE39D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2671D-2A55-4E3E-B3ED-DC1DAA39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995-ED20-469C-83B6-A782EBCF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5B38-6E3C-4969-971F-2587F6CD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C562-F4BE-49A8-AABF-61C2F22B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12542-23E7-4BDB-A731-B20ACA07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079BD-2B75-4789-8F46-15CDAD99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0DE2-F20D-47CB-9C81-6E60EA09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4D8D3-3E63-48FE-A630-17A1C6C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DC5E-4E23-4B9E-9AC8-9D6F079C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F0D0-A23D-41E8-9999-753AF6E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784A-EECC-4B8A-BA32-D8751EF7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3EECB-1E5F-4AED-B725-CA34A313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A56-91CC-4008-8231-14DA27B5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660E-D299-4E3C-B8C7-8EE05C7B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E59-4DB5-4B25-98C9-4CA13EE4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545-D88D-4FAC-9CA7-F6E8D3A9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724-B577-422A-86EF-A70FC6D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128-887F-4766-891F-BD79B1A3FBA9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AAE5-7A94-4A35-BF5C-1A3D5D6D7C4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C87A-2C00-4941-83CC-EFA046EE4AF6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43C5-F459-493D-8298-2780F3D3DCBC}" type="slidenum"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4BD7-4DF9-4882-81CE-8E4DB5BDDF76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Картинка 2 из 337257"/>
          <p:cNvPicPr/>
          <p:nvPr/>
        </p:nvPicPr>
        <p:blipFill>
          <a:blip r:embed="rId1"/>
          <a:stretch/>
        </p:blipFill>
        <p:spPr>
          <a:xfrm>
            <a:off x="250920" y="549360"/>
            <a:ext cx="4537080" cy="2665440"/>
          </a:xfrm>
          <a:prstGeom prst="rect">
            <a:avLst/>
          </a:prstGeom>
          <a:ln w="0">
            <a:noFill/>
          </a:ln>
        </p:spPr>
      </p:pic>
      <p:pic>
        <p:nvPicPr>
          <p:cNvPr id="228" name="Title 1" descr=""/>
          <p:cNvPicPr/>
          <p:nvPr/>
        </p:nvPicPr>
        <p:blipFill>
          <a:blip r:embed="rId2"/>
          <a:stretch/>
        </p:blipFill>
        <p:spPr>
          <a:xfrm>
            <a:off x="3359160" y="1122480"/>
            <a:ext cx="5589720" cy="143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-214200" y="3571920"/>
            <a:ext cx="78580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Картинка 9 из 337257"/>
          <p:cNvPicPr/>
          <p:nvPr/>
        </p:nvPicPr>
        <p:blipFill>
          <a:blip r:embed="rId1"/>
          <a:stretch/>
        </p:blipFill>
        <p:spPr>
          <a:xfrm>
            <a:off x="900000" y="1197000"/>
            <a:ext cx="6264360" cy="479736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4" descr=""/>
          <p:cNvPicPr/>
          <p:nvPr/>
        </p:nvPicPr>
        <p:blipFill>
          <a:blip r:embed="rId2"/>
          <a:stretch/>
        </p:blipFill>
        <p:spPr>
          <a:xfrm>
            <a:off x="1566720" y="146160"/>
            <a:ext cx="487044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Картинка 4 из 22620"/>
          <p:cNvPicPr/>
          <p:nvPr/>
        </p:nvPicPr>
        <p:blipFill>
          <a:blip r:embed="rId1"/>
          <a:stretch/>
        </p:blipFill>
        <p:spPr>
          <a:xfrm>
            <a:off x="1785960" y="2428920"/>
            <a:ext cx="4968720" cy="392904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4" descr=""/>
          <p:cNvPicPr/>
          <p:nvPr/>
        </p:nvPicPr>
        <p:blipFill>
          <a:blip r:embed="rId2"/>
          <a:stretch/>
        </p:blipFill>
        <p:spPr>
          <a:xfrm>
            <a:off x="1255680" y="195120"/>
            <a:ext cx="6059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7" descr="Картинка 108 из 337257"/>
          <p:cNvPicPr/>
          <p:nvPr/>
        </p:nvPicPr>
        <p:blipFill>
          <a:blip r:embed="rId1"/>
          <a:stretch/>
        </p:blipFill>
        <p:spPr>
          <a:xfrm>
            <a:off x="1714680" y="1916280"/>
            <a:ext cx="5089320" cy="3528720"/>
          </a:xfrm>
          <a:prstGeom prst="rect">
            <a:avLst/>
          </a:prstGeom>
          <a:ln w="0">
            <a:noFill/>
          </a:ln>
        </p:spPr>
      </p:pic>
      <p:pic>
        <p:nvPicPr>
          <p:cNvPr id="235" name="Rectangle 4" descr=""/>
          <p:cNvPicPr/>
          <p:nvPr/>
        </p:nvPicPr>
        <p:blipFill>
          <a:blip r:embed="rId2"/>
          <a:stretch/>
        </p:blipFill>
        <p:spPr>
          <a:xfrm>
            <a:off x="1639800" y="493560"/>
            <a:ext cx="4651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7:53:56Z</dcterms:created>
  <dc:creator>USER</dc:creator>
  <dc:description/>
  <dc:language>en-US</dc:language>
  <cp:lastModifiedBy>BOSS</cp:lastModifiedBy>
  <dcterms:modified xsi:type="dcterms:W3CDTF">2019-10-12T23:56:04Z</dcterms:modified>
  <cp:revision>16</cp:revision>
  <dc:subject/>
  <dc:title>Слайд 1</dc:title>
</cp:coreProperties>
</file>