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ammer.wav" ContentType="audio/x-wav"/>
  <Override PartName="/ppt/media/cashreg.wav" ContentType="audio/x-wav"/>
  <Override PartName="/ppt/media/coin.wav" ContentType="audio/x-wav"/>
  <Override PartName="/ppt/media/voltage.wav" ContentType="audio/x-wav"/>
  <Override PartName="/ppt/media/image3.png" ContentType="image/png"/>
  <Override PartName="/ppt/media/image6.png" ContentType="image/png"/>
  <Override PartName="/ppt/media/camera.wav" ContentType="audio/x-wav"/>
  <Override PartName="/ppt/media/push.wav" ContentType="audio/x-wav"/>
  <Override PartName="/ppt/media/type.wav" ContentType="audio/x-wav"/>
  <Override PartName="/ppt/media/image5.jpeg" ContentType="image/jpeg"/>
  <Override PartName="/ppt/media/drumroll.wav" ContentType="audio/x-wav"/>
  <Override PartName="/ppt/media/image1.jpeg" ContentType="image/jpeg"/>
  <Override PartName="/ppt/media/wind.wav" ContentType="audio/x-wav"/>
  <Override PartName="/ppt/media/chimes.wav" ContentType="audio/x-wav"/>
  <Override PartName="/ppt/media/applause.wav" ContentType="audio/x-wav"/>
  <Override PartName="/ppt/media/breeze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861B-B1DD-4AC2-AEB9-5EBA10148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8575-9351-4DE1-A1DE-0D130AE6D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A9-A493-4DBD-A4A3-B5CBA0FB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7DF-DF04-4095-BBE3-31DAD3BA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CDD-1223-4071-A498-C4E6A866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2E0-CFB2-445E-8ACC-BB2FF010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B0E-6515-40DB-B6F2-8A624D5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332-FC2B-4CE4-8317-D55B87C4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0D1-ED10-4847-A941-1E6B9B2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94B-29CE-4C4F-B41E-E00A60A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2B3-F1A5-4503-BFE0-14D6D0A5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E19-C9E9-4745-ADDF-AC952C94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906-DD1D-4EAD-8B87-2DA98F6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608-18A4-43F4-A3A3-E696319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011-1A40-4440-A4B4-3E262FFE6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3572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lez-vous franca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14360"/>
            <a:ext cx="6400800" cy="4071960"/>
          </a:xfrm>
          <a:prstGeom prst="rect">
            <a:avLst/>
          </a:prstGeom>
          <a:solidFill>
            <a:srgbClr val="9bbb59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ющая игра по француз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гимназистов 6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«Гимназия №13 имени Э.А. Бы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 petit dejeuner (je bois, je mange)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 dejeuner je prend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 go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r je boi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 la viande, de la soupe, un jus d’orange, des croissants, du saucisson, du fromage, du lait, du café, des c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s,du jambon, une omele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  <p:sndAc>
      <p:stSnd>
        <p:snd r:embed="rId1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inez! (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гадайтесь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’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ile polaire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лярная звезда, желтое облако, магазин игруше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Suisse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веция, Ирландия, Швейцар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M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o”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лепередача, холодные закуски, рекламный журн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 dentiste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жиссер, библиотекарь, стоматоло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u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овите героев сказ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http://cdn.st100sp.com/cache_pictures/033599639/thumb300"/>
          <p:cNvPicPr/>
          <p:nvPr/>
        </p:nvPicPr>
        <p:blipFill>
          <a:blip r:embed="rId1"/>
          <a:stretch/>
        </p:blipFill>
        <p:spPr>
          <a:xfrm>
            <a:off x="428760" y="1600200"/>
            <a:ext cx="4071960" cy="4686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s://new.babystore.lv/img/lg/products/archive/20170131182603nQcR.jpg"/>
          <p:cNvPicPr/>
          <p:nvPr/>
        </p:nvPicPr>
        <p:blipFill>
          <a:blip r:embed="rId2"/>
          <a:stretch/>
        </p:blipFill>
        <p:spPr>
          <a:xfrm>
            <a:off x="4429080" y="1571760"/>
            <a:ext cx="428616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3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ez des ques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тебе 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ты жив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ты класс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ты учишь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дравствуй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в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д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бы добраться в школу, я иду пеш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  <p:sndAc>
      <p:stSnd>
        <p:snd r:embed="rId1" name="pu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дачи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Содержимое 2"/>
          <p:cNvGrpSpPr/>
          <p:nvPr/>
        </p:nvGrpSpPr>
        <p:grpSpPr>
          <a:xfrm>
            <a:off x="396720" y="1566720"/>
            <a:ext cx="8345520" cy="4632480"/>
            <a:chOff x="396720" y="1566720"/>
            <a:chExt cx="8345520" cy="4632480"/>
          </a:xfrm>
        </p:grpSpPr>
        <p:pic>
          <p:nvPicPr>
            <p:cNvPr id="7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96720" y="1566720"/>
              <a:ext cx="834552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omic Sans MS"/>
                </a:rPr>
                <a:t>Вы самые смелые, любознательные и умные  на свете!!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ld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думайте название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берите дев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дставьте  друг друга по-француз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Notre groupe s’appelle “………..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Nous sommes 4(5, 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Notre devise est:     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2.bp.blogspot.com/-SF423yT20sY/UfOSYlSwKzI/AAAAAAAAApI/jekZAn-Dg6c/s1600/PERRO_SHarl4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Qui est-ce? (C’est juriste, c’est conteur, c’est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ivain fran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ç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ment s’appelle-t-i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ù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est-il n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 (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à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scou,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à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Paris,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à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Londr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ак назывался сборник сказок Шарля Перр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казания о земле Сибирск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казки моряк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Истории и сказки прошедших времен или сказки моей матушки гусын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аленькая красная шапоч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2" descr=""/>
          <p:cNvPicPr/>
          <p:nvPr/>
        </p:nvPicPr>
        <p:blipFill>
          <a:blip r:embed="rId1"/>
          <a:stretch/>
        </p:blipFill>
        <p:spPr>
          <a:xfrm>
            <a:off x="401760" y="1238400"/>
            <a:ext cx="837072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visitefrance.ru/wp-content/uploads/2012/05/%D0%BD%D0%BE%D1%80%D0%BC%D0%B0%D0%BD%D0%B4%D0%B8%D1%8F-%D0%BD%D0%B0-%D0%BA%D0%B0%D1%80%D1%82%D0%B5.gif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584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ent s’appellent les deux r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ons de la Normand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ù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 trouve la Haute-Normand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uen est … de la Basse-Normand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Normandie est célèbre pour ses …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 mange bien en …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  <p:sndAc>
      <p:stSnd>
        <p:snd r:embed="rId1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№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pondez aux question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quelle heure tu te 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s?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di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7 heures du matin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eures de l’a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mid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 arrives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… heures (du matin, du soir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 fais-t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nuit? (Je suis au lit. Je vais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e. Je fais de la gymnastiqu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9T13:58:23Z</dcterms:created>
  <dc:creator>Ирина</dc:creator>
  <dc:description/>
  <dc:language>en-US</dc:language>
  <cp:lastModifiedBy>Ирина</cp:lastModifiedBy>
  <dcterms:modified xsi:type="dcterms:W3CDTF">2018-03-19T16:24:29Z</dcterms:modified>
  <cp:revision>44</cp:revision>
  <dc:subject/>
  <dc:title>Parlez-vous francais?</dc:title>
</cp:coreProperties>
</file>