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3.wmf" ContentType="image/x-wmf"/>
  <Override PartName="/ppt/media/image9.jpeg" ContentType="image/jpeg"/>
  <Override PartName="/ppt/media/image13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media/image27.png" ContentType="image/png"/>
  <Override PartName="/ppt/media/image29.gif" ContentType="image/gif"/>
  <Override PartName="/ppt/media/image1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0831-C919-45BB-811A-ED8BC17587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B91B-0C79-4E42-97C5-9CB2770CDCA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669-FFC0-4C57-B48A-FAA9A6FB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F89-0A27-4EE0-81C1-5A6194DA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AA2E6-A100-421E-BD12-FC55D212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9504F-62AB-4151-B402-1F92B2A3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A728D-EC4A-412A-9DB1-6692C98A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A0667-A39F-4C49-A0A3-6D3DD8C2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A871B-7FBC-44BB-8699-A08829F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064B6-4C3B-4DDC-AEB0-0A9598F0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5351C-424F-4405-8624-848215D5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CC881-D1DF-48A0-A9B2-3FC94CF6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250E1-EFA0-4231-AEF8-5C0D3187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1DE-BA17-458E-B2B3-10E43CA1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1A2-B431-4547-AE19-C43A99DA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779F-846B-48B9-8E04-4E4D9DE9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534C-BC68-47FA-8677-BFB9F635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A831-A7B3-4736-8CBF-E23755B9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4496-EE96-4D4F-8836-085143DC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61F3-8353-413F-82C5-3CE1EE07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E936-314E-42E9-8B21-CA0C5484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E840-1EF5-438E-AAAF-3D1F0409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527-6AEA-49F2-BB34-642DC5F0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8006-AD53-46D8-BAC5-CAA7220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D6AA-3F0D-406B-8479-596D3F1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3421-087D-46D4-9063-F08D9C69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BF4B-F06B-4ED5-88DB-CD904073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9F96-EDD5-4130-B897-6748A700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CC1E-8703-4F8D-AA51-D691EBA7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E89F-684A-476A-B7C1-A32B9B99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21F4E-10CA-4B3B-A423-56D15EB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03BE-8343-4B6D-A62E-0A75E834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0DDF-D0CD-4146-9BC9-78AFEAE5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DF7-8CB9-48C0-8F48-795BAD3E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3E42-EDEE-4D5F-9F5D-899EC87C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BA5DD-1C47-40DD-95D9-727DD47C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EEEA8-A77D-416C-8068-F912040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B7C5-DEC8-4F24-BA46-D8BCED9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C1CD-FC27-4FC7-9B13-7210478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1750-2536-4C68-AFBF-D02C668A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D7EC-3341-4C21-B32E-3843C76F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459C-2946-4A13-9F9E-191DBC17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8D47C-EAE5-4A70-B1F3-FDC90903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DE86-7CE6-44A2-BAA3-9241B14C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FB3-B000-4B7F-B355-8CAE4AB8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0DF8-942F-42F8-AC5E-4FD322F0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0FFC-B414-471B-98B6-75EA7919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8631-72C5-44BD-9ABB-ECAE19A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7FE22-9DF7-4B9A-A84C-3D8E67B5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F35A-5C80-4C11-A43D-AA8C943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4A388-0FE9-4DAE-8D03-766356E8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1851-2039-4870-83DD-2CF91791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3391D-0F12-4CEB-A955-8CF9C289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DF87-C45F-4BA7-B349-459FABA8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2753-A1C6-4D00-816E-2AA685AF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E13-2EBB-44A2-80A2-36D29017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FD5B-1066-4FFC-BFFB-A202929C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2C76-B473-4770-B169-7F9F412C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5DE77-F8AF-4663-B80E-A1802112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C1AC9-5231-450F-9D42-E88FD5FE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BBF9D-7E5F-45F7-B3A4-5515B855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5D3D3-779D-40A7-9696-423A377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0691E-7E9A-48EB-970B-691D8C4C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B22A-8A96-42A4-BD6C-6C59C6C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18D16-A7D5-4E75-A656-96AB84A6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47295-95D4-46FD-A21E-C487D271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F7E-576C-4047-A971-27EBA179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ACA44-DDA6-41F7-B151-3BBE89DA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83F1-1E53-4DCD-A236-2166C0CF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4BF8C-F570-4675-B9D3-99BA18D4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02211-A576-4D04-AE99-14A02820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5001F-12C1-4FC3-AFA4-D4FDF615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70E98-5F36-4805-B0C1-038D4634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16349-2EDA-47A2-A2DF-279AF69E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48305-3E5B-4551-9003-3D3EB9F6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527D9-B0A4-4002-BD5B-BBA7785D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CB54-45F3-46DE-BC90-B872E0E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6ED-CE30-4C5C-8848-18C3AF25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03C9-10AA-40F7-8CE9-9D050A3F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EFF6A-8579-42CE-9C14-E5D2BACD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EBBC-C97A-443A-994B-A6BF788C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0844A-8D1D-48BD-8604-19D8A80E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080F1-5550-4694-8734-E58A4853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8D051-3938-42D7-BD4A-292E6139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39EE9-5C65-4F2E-AFA4-3A5F6B85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036E9-6FCC-4C7F-B495-86A9D2E2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B140-8BDA-41A7-BFC4-4E820DED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09283-8900-42C6-84F5-473BCC31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D10-8C49-460A-8DAA-48F8A12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F92DE-0963-4CCF-A846-A40DD87D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2FF23-8F30-4B66-B5DC-C3CF7A94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66927-37FC-448A-AB83-A8BAEBEB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FC698-25EA-4A35-B714-4F1CA9D1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66A5-763D-4AF8-9322-CD6206A7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5DD7F-95F1-4932-8066-153FE493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EB4A7-9BCF-45F6-976F-1772DD3B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2ED10-DD05-4871-BFA5-2FDF684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15410-EB44-4374-B2AC-E3A2466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DE875-CF9C-43EB-AEE1-97F56E00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EBC-BA0B-4C15-A848-F1D399A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99653-67D1-4B10-8902-8492433B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0249-3433-4F59-B5F6-C9C0F501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DE25E-AC36-4028-9208-73F297FD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1CB02-772B-4013-9D96-A0D8185E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930EC-00E1-4E0C-83DE-BAA25505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C11E1-F9D6-44EA-AEE0-95343A4A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CDAE4-92CE-4EEE-9758-6BAC2282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7E557-68D4-4A88-A2F7-5A5E6082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7D7F7-3AB7-4C67-8F63-554AEA19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51A8D-AB75-4274-8F75-FC594A96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AC38-2144-42C9-8FB4-AA8E3E981AD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D6C8-2EE6-4EE1-88BB-A2F6737642D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4670-672D-4D3E-A778-F56D7F35A908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67F0-F30B-4635-B444-4A102FFFCEF6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359-EEA1-4F2D-8CC3-C9EFC1223C34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676F-16D1-47DF-9498-E1332295E64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0136-D007-4B40-BE9C-9C92A071794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E9FA-E3DC-41C4-B6EC-B3C14E2FCF34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7B4C-E10F-4F49-8B6D-A59ED6B927F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15.jpe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5" descr="MC900445073 (1)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6" descr=""/>
          <p:cNvPicPr/>
          <p:nvPr/>
        </p:nvPicPr>
        <p:blipFill>
          <a:blip r:embed="rId2"/>
          <a:stretch/>
        </p:blipFill>
        <p:spPr>
          <a:xfrm>
            <a:off x="731880" y="2017800"/>
            <a:ext cx="8405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753760" cy="93816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3" descr="i_010.jpg"/>
          <p:cNvPicPr/>
          <p:nvPr/>
        </p:nvPicPr>
        <p:blipFill>
          <a:blip r:embed="rId3"/>
          <a:stretch/>
        </p:blipFill>
        <p:spPr>
          <a:xfrm>
            <a:off x="250920" y="1628640"/>
            <a:ext cx="833400" cy="111456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8" descr="skalka001.jpg"/>
          <p:cNvPicPr/>
          <p:nvPr/>
        </p:nvPicPr>
        <p:blipFill>
          <a:blip r:embed="rId4"/>
          <a:stretch/>
        </p:blipFill>
        <p:spPr>
          <a:xfrm>
            <a:off x="6372360" y="1125360"/>
            <a:ext cx="863640" cy="10922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9" descr="petuch_i_lisa.jpg"/>
          <p:cNvPicPr/>
          <p:nvPr/>
        </p:nvPicPr>
        <p:blipFill>
          <a:blip r:embed="rId5"/>
          <a:stretch/>
        </p:blipFill>
        <p:spPr>
          <a:xfrm>
            <a:off x="1476360" y="1052640"/>
            <a:ext cx="1168560" cy="10810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10" descr="uk1038801.jpg"/>
          <p:cNvPicPr/>
          <p:nvPr/>
        </p:nvPicPr>
        <p:blipFill>
          <a:blip r:embed="rId6"/>
          <a:stretch/>
        </p:blipFill>
        <p:spPr>
          <a:xfrm>
            <a:off x="7451640" y="2205000"/>
            <a:ext cx="946080" cy="10080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11" descr="img_04.jpg"/>
          <p:cNvPicPr/>
          <p:nvPr/>
        </p:nvPicPr>
        <p:blipFill>
          <a:blip r:embed="rId7"/>
          <a:stretch/>
        </p:blipFill>
        <p:spPr>
          <a:xfrm>
            <a:off x="3203640" y="134136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2" descr="post-22010-1168457637.jpg"/>
          <p:cNvPicPr/>
          <p:nvPr/>
        </p:nvPicPr>
        <p:blipFill>
          <a:blip r:embed="rId8"/>
          <a:stretch/>
        </p:blipFill>
        <p:spPr>
          <a:xfrm>
            <a:off x="1692360" y="2205000"/>
            <a:ext cx="1323720" cy="10796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3" descr="37041_original.jpg"/>
          <p:cNvPicPr/>
          <p:nvPr/>
        </p:nvPicPr>
        <p:blipFill>
          <a:blip r:embed="rId9"/>
          <a:stretch/>
        </p:blipFill>
        <p:spPr>
          <a:xfrm>
            <a:off x="4788000" y="2205000"/>
            <a:ext cx="1419120" cy="107964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826920" y="2276640"/>
            <a:ext cx="21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1143000" y="3170160"/>
            <a:ext cx="2997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1143000" y="2000160"/>
            <a:ext cx="115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295280" y="2152800"/>
            <a:ext cx="1159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1447920" y="2305080"/>
            <a:ext cx="115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1600200" y="2457360"/>
            <a:ext cx="115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1752480" y="2610000"/>
            <a:ext cx="1159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3"/>
          <p:cNvSpPr/>
          <p:nvPr/>
        </p:nvSpPr>
        <p:spPr>
          <a:xfrm>
            <a:off x="0" y="3244680"/>
            <a:ext cx="81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ЗАДАНИЕ КОМАНДЕ «ВОЛШЕБНИКИ»: ВЫБЕРИ СКАЗК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24" descr="petuch_i_lisa.jpg"/>
          <p:cNvPicPr/>
          <p:nvPr/>
        </p:nvPicPr>
        <p:blipFill>
          <a:blip r:embed="rId10"/>
          <a:stretch/>
        </p:blipFill>
        <p:spPr>
          <a:xfrm>
            <a:off x="108000" y="3716280"/>
            <a:ext cx="1295280" cy="11988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8" descr="bilibin4.jpg"/>
          <p:cNvPicPr/>
          <p:nvPr/>
        </p:nvPicPr>
        <p:blipFill>
          <a:blip r:embed="rId11"/>
          <a:stretch/>
        </p:blipFill>
        <p:spPr>
          <a:xfrm>
            <a:off x="2050920" y="3716280"/>
            <a:ext cx="943200" cy="12254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6" descr="post-22010-1168457637.jpg"/>
          <p:cNvPicPr/>
          <p:nvPr/>
        </p:nvPicPr>
        <p:blipFill>
          <a:blip r:embed="rId12"/>
          <a:stretch/>
        </p:blipFill>
        <p:spPr>
          <a:xfrm>
            <a:off x="3132000" y="5157720"/>
            <a:ext cx="1511280" cy="1231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7" descr="i_010.jpg"/>
          <p:cNvPicPr/>
          <p:nvPr/>
        </p:nvPicPr>
        <p:blipFill>
          <a:blip r:embed="rId13"/>
          <a:stretch/>
        </p:blipFill>
        <p:spPr>
          <a:xfrm>
            <a:off x="4572000" y="3789360"/>
            <a:ext cx="936720" cy="12542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28" descr="37041_original.jpg"/>
          <p:cNvPicPr/>
          <p:nvPr/>
        </p:nvPicPr>
        <p:blipFill>
          <a:blip r:embed="rId14"/>
          <a:stretch/>
        </p:blipFill>
        <p:spPr>
          <a:xfrm>
            <a:off x="5580000" y="5229360"/>
            <a:ext cx="1608120" cy="1224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29" descr="02cb0c42e5fca7093fd55549e83.jpg"/>
          <p:cNvPicPr/>
          <p:nvPr/>
        </p:nvPicPr>
        <p:blipFill>
          <a:blip r:embed="rId15"/>
          <a:stretch/>
        </p:blipFill>
        <p:spPr>
          <a:xfrm>
            <a:off x="6732720" y="3716280"/>
            <a:ext cx="934920" cy="11826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30" descr="1314108111_p_0023.jpg"/>
          <p:cNvPicPr/>
          <p:nvPr/>
        </p:nvPicPr>
        <p:blipFill>
          <a:blip r:embed="rId16"/>
          <a:stretch/>
        </p:blipFill>
        <p:spPr>
          <a:xfrm>
            <a:off x="684360" y="5300640"/>
            <a:ext cx="16491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C:\Documents and Settings\Admin\Local Settings\Temporary Internet Files\Content.IE5\Q6Z7IGN6\MC900426382[1].wmf"/>
          <p:cNvPicPr/>
          <p:nvPr/>
        </p:nvPicPr>
        <p:blipFill>
          <a:blip r:embed="rId3"/>
          <a:srcRect l="52008" t="0" r="0" b="36228"/>
          <a:stretch/>
        </p:blipFill>
        <p:spPr>
          <a:xfrm>
            <a:off x="6012000" y="1341360"/>
            <a:ext cx="2220840" cy="280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C:\Documents and Settings\Admin\Local Settings\Temporary Internet Files\Content.IE5\Q6Z7IGN6\MC900426382[1].wmf"/>
          <p:cNvPicPr/>
          <p:nvPr/>
        </p:nvPicPr>
        <p:blipFill>
          <a:blip r:embed="rId4"/>
          <a:srcRect l="52303" t="61807" r="0" b="0"/>
          <a:stretch/>
        </p:blipFill>
        <p:spPr>
          <a:xfrm>
            <a:off x="4932360" y="4581360"/>
            <a:ext cx="2455920" cy="1800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Admin\Local Settings\Temporary Internet Files\Content.IE5\Q6Z7IGN6\MC900426382[1].wmf"/>
          <p:cNvPicPr/>
          <p:nvPr/>
        </p:nvPicPr>
        <p:blipFill>
          <a:blip r:embed="rId5"/>
          <a:srcRect l="0" t="60877" r="46417" b="0"/>
          <a:stretch/>
        </p:blipFill>
        <p:spPr>
          <a:xfrm>
            <a:off x="1187280" y="4581360"/>
            <a:ext cx="2590920" cy="1800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C:\Documents and Settings\Admin\Local Settings\Temporary Internet Files\Content.IE5\Q6Z7IGN6\MC900426382[1].wmf"/>
          <p:cNvPicPr/>
          <p:nvPr/>
        </p:nvPicPr>
        <p:blipFill>
          <a:blip r:embed="rId6"/>
          <a:srcRect l="0" t="0" r="46713" b="39433"/>
          <a:stretch/>
        </p:blipFill>
        <p:spPr>
          <a:xfrm>
            <a:off x="1187280" y="1125360"/>
            <a:ext cx="2595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2"/>
          <a:stretch/>
        </p:blipFill>
        <p:spPr>
          <a:xfrm>
            <a:off x="225360" y="457200"/>
            <a:ext cx="8766360" cy="1122480"/>
          </a:xfrm>
          <a:prstGeom prst="rect">
            <a:avLst/>
          </a:prstGeom>
          <a:ln w="0">
            <a:noFill/>
          </a:ln>
        </p:spPr>
      </p:pic>
      <p:pic>
        <p:nvPicPr>
          <p:cNvPr id="437" name="snegurochka_1952апр.mpeg" descr=""/>
          <p:cNvPicPr/>
          <p:nvPr/>
        </p:nvPicPr>
        <p:blipFill>
          <a:blip r:embed="rId3"/>
          <a:stretch/>
        </p:blipFill>
        <p:spPr>
          <a:xfrm>
            <a:off x="108000" y="162864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438" name="Carevna lyagushkaпа.mpeg" descr=""/>
          <p:cNvPicPr/>
          <p:nvPr/>
        </p:nvPicPr>
        <p:blipFill>
          <a:blip r:embed="rId4"/>
          <a:stretch/>
        </p:blipFill>
        <p:spPr>
          <a:xfrm>
            <a:off x="4648320" y="357336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65698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5b6f"/>
                </a:solidFill>
                <a:latin typeface="Monotype Corsiva"/>
              </a:rPr>
              <a:t>«Наша матушка поёт тоненьким </a:t>
            </a:r>
            <a:endParaRPr b="0" lang="en-US" sz="48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5b6f"/>
                </a:solidFill>
                <a:latin typeface="Monotype Corsiva"/>
              </a:rPr>
              <a:t>голоском, да не такую песенку!»</a:t>
            </a:r>
            <a:endParaRPr b="0" lang="en-US" sz="48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5b6f"/>
                </a:solidFill>
                <a:latin typeface="Monotype Corsiva"/>
              </a:rPr>
              <a:t>«Бежала, бежала, видит – стоит речка…»</a:t>
            </a:r>
            <a:endParaRPr b="0" lang="en-US" sz="48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2"/>
          <a:stretch/>
        </p:blipFill>
        <p:spPr>
          <a:xfrm>
            <a:off x="225360" y="457200"/>
            <a:ext cx="8766360" cy="11224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12500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1 команде зачин: «Жили – были…»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2 команде зачин: «В некотором царстве, в некотором государстве…»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ПЛАН: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7fd13b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Franklin Gothic Book"/>
              </a:rPr>
              <a:t>Главные действующие лица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7fd13b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Franklin Gothic Book"/>
              </a:rPr>
              <a:t>Куда отправился главный герой?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7fd13b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Franklin Gothic Book"/>
              </a:rPr>
              <a:t>Кого встретил по пути?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7fd13b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Franklin Gothic Book"/>
              </a:rPr>
              <a:t>Что произошло? (Как боролся со злом?)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7fd13b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Franklin Gothic Book"/>
              </a:rPr>
              <a:t>Кто ему помогал?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7fd13b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Franklin Gothic Book"/>
              </a:rPr>
              <a:t>Чем закончилась сказка?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C:\Documents and Settings\Admin\Local Settings\Temporary Internet Files\Content.IE5\Q6Z7IGN6\MM900285246[1].gif"/>
          <p:cNvPicPr/>
          <p:nvPr/>
        </p:nvPicPr>
        <p:blipFill>
          <a:blip r:embed="rId2"/>
          <a:stretch/>
        </p:blipFill>
        <p:spPr>
          <a:xfrm>
            <a:off x="2643120" y="2214720"/>
            <a:ext cx="3571920" cy="401472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8" descr=""/>
          <p:cNvPicPr/>
          <p:nvPr/>
        </p:nvPicPr>
        <p:blipFill>
          <a:blip r:embed="rId3"/>
          <a:stretch/>
        </p:blipFill>
        <p:spPr>
          <a:xfrm>
            <a:off x="712800" y="585720"/>
            <a:ext cx="77184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7:21:21Z</dcterms:created>
  <dc:creator>Admin</dc:creator>
  <dc:description/>
  <dc:language>en-US</dc:language>
  <cp:lastModifiedBy>Ольга Дидора</cp:lastModifiedBy>
  <dcterms:modified xsi:type="dcterms:W3CDTF">2019-10-13T14:36:53Z</dcterms:modified>
  <cp:revision>43</cp:revision>
  <dc:subject/>
  <dc:title>Слайд 1</dc:title>
</cp:coreProperties>
</file>