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9802-1B75-4CA2-B974-7E70BC8B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966-3C02-49DF-AF81-6532033C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AF8-2E16-4E0E-A022-B60EE278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DCB-EED3-4918-ADDB-7505B28D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C4D3-AEBC-4420-BE50-1475001B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F4A0-961B-49D9-93C8-6C6F892E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9D81-7FAA-430D-AEE2-B3B8D3C8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282F-183A-4BBA-800F-A1C2BC31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4941-6431-4B4C-A4AD-4063DB5F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30EB-B5E5-49D6-B5E0-F7600082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3F77-CE54-4D20-8A84-CCBF22B9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583F-B765-4697-A61A-C898BB74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C661-44FE-4BDE-8947-645997F3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F20C-AB79-408C-B205-3D6CA0AF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701D-7003-4A34-A8FC-E06CB2BC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01BB-9590-418F-A285-945663C6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01CE-0316-4BD4-A3C2-26426E70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D092E-2C6C-4AAE-8DAC-65E66830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E6D51-6509-432C-8351-9F707921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75D85-6F75-4535-9485-0E03791D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FCE78-184F-470F-A981-C835D573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DB318-EF14-4D68-B7D5-87292EE3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3E41-7115-4F3A-ACEA-A987EF20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096E0-959E-4213-BEA4-88409727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4FED0-DB80-4E5F-8059-84522D77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7016F-CCBC-49CD-870B-5B97EAD4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B7EDF-B382-44EC-B498-DD43A555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97691-C758-4A8E-AB6A-68EC011F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7E0C1-A42C-40A0-AF27-2A28A578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89821-4C2E-485E-B059-4A5FD244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049FB-FB24-4B0B-887F-CC33A61F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D496F-EF29-46C2-B43D-730144FA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BBA1B-F908-43D9-A0DF-1BEA5192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507-AE48-462B-80C0-4B1A0335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038D4-D02E-4B47-A108-24AE10BC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7D55B-E236-4DC4-89B1-935DE674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15D3E-28AD-4BA8-A62F-78F48C09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B3CFE-7EB3-43E7-ABAA-B1563966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8CA23-E310-48B2-8821-4CF9E9AD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622C6-E19D-4B44-8FE1-F78F4206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C66BB-88FA-4E72-B955-F2594CE3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8E22B-072D-4456-904B-E80878C9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35FD0-F612-43B8-BB9A-F43A52AA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DDBE07-D40C-42F1-98D5-B4221447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201-5EAA-4FCD-BDF6-E3E51154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E12458-94C0-491F-967D-BCB71B37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F8937-4CE7-405A-95BD-DEFDFAB2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12ABF-3E07-47F1-BC62-B223836B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ED75F-5FA6-42AF-857E-D3698F5A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DA15FB-8AD4-46ED-96B3-6C3E5106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6940C-5FE3-4654-AA02-9C27C8B6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DBCDE-7E3E-4BF7-87B4-660DEB71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341AA-4138-458F-96FA-4613F4EE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A77756-59B7-454D-B8E9-FB8CB4D2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2BB58F-F493-4E7A-B91B-058B1198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959-A8E5-4C1C-88E5-D2610303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A8244E-0BE5-4087-BBAC-B4854DB1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1A036B-4AB8-4143-BC92-664A8A36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23D1A6-6C39-47DE-B8F4-AD6C7756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13D4DC-9C1C-432F-A9E3-EAEBF71A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63ADE-DAA3-46CB-A7D7-6C939E2D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72BAC8-B113-4C9C-B1C0-35880B4E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74E3B4-0791-45BC-A7B3-5FAC09FE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DB99F7-E957-42F3-A7E8-1412198B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D17BE5-5C21-49A6-BB1A-627822B4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BCED20-C451-45D5-99B7-3D2DE825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C08-2E1E-4146-AF20-26005B93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D6F274-6FB9-452D-B422-3ACEE447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9AECE5-F877-4C04-BCDD-6279969B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D95EF4-AA2A-4912-8657-648FA8E9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489A0-0B40-4AB7-AB70-3C7977ED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86FB4A-ECC1-4646-91DC-80C963F7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9F5180-33AC-4DDE-907D-553F1B6E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6C8A8C-69CD-466E-83BF-D716F6D4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200E12-75ED-477D-B35D-83826F01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624399-227F-401B-9D95-E9C4991E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704951-136C-425D-82BB-1A554624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D93-373E-4201-970F-6CAEAF34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3EDED0-7E9F-4442-959B-AEBB64D1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907243-0BBF-4170-96C2-172E86D6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6C0A04-3FBC-4F0C-A8EA-4BE093F6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F050FF-05CA-45AC-B89B-7FDB79D1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3A27DC-CAA0-40CD-BF53-2D78ED66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668-BAB3-4A77-A25B-2B667F38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7594-D46D-417F-96ED-9F2D840CD3A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A686-28F5-453A-8E92-344168B2DD3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0D4C-210D-41E2-BE36-5F9D0F7E626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908E-4C47-4975-B8F2-88B820B03F5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0EC8-F774-4F58-9066-2E0CE37435F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F1F3-C196-4AA0-B6A2-AA2E021607C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C644-A4CB-483B-BA3D-F0F728A10E1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2"/>
          <p:cNvSpPr/>
          <p:nvPr/>
        </p:nvSpPr>
        <p:spPr>
          <a:xfrm>
            <a:off x="395280" y="476280"/>
            <a:ext cx="842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  детский сад №35 «Василё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250920" y="2205000"/>
            <a:ext cx="84279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yrillic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yrillicOld"/>
              </a:rPr>
              <a:t>«Русская матрёшк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0" y="18975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ЕДАГОГИЧЕСКИЙ ПРО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3915360" y="6103440"/>
            <a:ext cx="131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г. смолен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324000" y="648360"/>
            <a:ext cx="59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yrillicOld"/>
              </a:rPr>
              <a:t>Ах, матрешечка-матре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yrillicOld"/>
              </a:rPr>
              <a:t>Хороша, не рассказ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yrillicOld"/>
              </a:rPr>
              <a:t>Очень любят с тобой д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yrillicOld"/>
              </a:rPr>
              <a:t>В нашем садике игр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yrillicOld"/>
              </a:rPr>
              <a:t>Щечки яркие, платоч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yrillicOld"/>
              </a:rPr>
              <a:t>По подолу цве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yrillicOld"/>
              </a:rPr>
              <a:t>Весело кружатся в 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yrillicOld"/>
              </a:rPr>
              <a:t>Яркие букети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http://www.proshkolu.ru/content/media/pic/std/1000000/289000/288004-e15aa5168c7c748f.jpg"/>
          <p:cNvPicPr/>
          <p:nvPr/>
        </p:nvPicPr>
        <p:blipFill>
          <a:blip r:embed="rId1"/>
          <a:stretch/>
        </p:blipFill>
        <p:spPr>
          <a:xfrm>
            <a:off x="395280" y="3979800"/>
            <a:ext cx="3456000" cy="2274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E:\работа\матрёшка мой комп\матрёшка\фото\IMG_0072.JPG"/>
          <p:cNvPicPr/>
          <p:nvPr/>
        </p:nvPicPr>
        <p:blipFill>
          <a:blip r:embed="rId2"/>
          <a:stretch/>
        </p:blipFill>
        <p:spPr>
          <a:xfrm>
            <a:off x="5219640" y="3933720"/>
            <a:ext cx="3065400" cy="22989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http://im5-tub-ru.yandex.net/i?id=7440338-00-72&amp;n=21"/>
          <p:cNvPicPr/>
          <p:nvPr/>
        </p:nvPicPr>
        <p:blipFill>
          <a:blip r:embed="rId3"/>
          <a:stretch/>
        </p:blipFill>
        <p:spPr>
          <a:xfrm>
            <a:off x="5292720" y="404640"/>
            <a:ext cx="3240000" cy="32403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4"/>
          <p:cNvSpPr/>
          <p:nvPr/>
        </p:nvSpPr>
        <p:spPr>
          <a:xfrm>
            <a:off x="611280" y="476280"/>
            <a:ext cx="7921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 проек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й, внутрисадовский, краткоср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енаправленное ознакомление детей с игрушкой Русская Матрешка – это одна из частей формирования у детей патриотизма, приобщение к русской народной культуре. Проблемные вопросы, на  решение которых направлен проек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русская матрешка является символом Росс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деревянную куклу - игрушку назвали матреш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чему матрешка остается любимой и популярной во всем мир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оявилась матреш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чего можно изготовить матрешк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чего человек создает матреш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навыков планирования и проведения исследовательск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омство с историей появления Матрёш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омство с различными видами Матрёшки (Семеновская, Загорская, Полхов-Майданска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ывать интерес к истории России, народному творчеству на примере русской национальной Матрё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4"/>
          <p:cNvSpPr/>
          <p:nvPr/>
        </p:nvSpPr>
        <p:spPr>
          <a:xfrm>
            <a:off x="611280" y="476280"/>
            <a:ext cx="79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ля де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комить детей с историей Матрешки, как народного промыс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ь знания о различных видах Матрёш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ить некоторые художественные элемен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йствовать развитию творческих способностей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ивать интерес любознательных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ля родите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звать интерес к народной игруш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бщить к истокам русской народной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ывать опыт детей, приобретенный в д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ля педагог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овать творческой активности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вать условия для формирования познавательно-поисковых ум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влекать семьи воспитанников в образовательный процес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социально-профессиональную компетентность и личностный потенц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4"/>
          <p:cNvSpPr/>
          <p:nvPr/>
        </p:nvSpPr>
        <p:spPr>
          <a:xfrm>
            <a:off x="611280" y="476280"/>
            <a:ext cx="7921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ник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средней, старшей, подготовительной груп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и другие члены семей детей средней, старшей, подготовительной груп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и груп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-логопе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альный руководите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я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жидаемы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е истории происхождения Матрёш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е особенностей русской народной игрушки (материал, форма, цвета, узор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е различать Семеновскую, Загорскую, Полхов-майданскую матрёш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е передавать простейшие элементы росписи различных видов Матрёш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мини-музея «Русская матрё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468360" y="612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знание. Формирование элементарных математических представлений. Тема «Матрешки в гостях у ребя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P1060419"/>
          <p:cNvPicPr/>
          <p:nvPr/>
        </p:nvPicPr>
        <p:blipFill>
          <a:blip r:embed="rId1"/>
          <a:stretch/>
        </p:blipFill>
        <p:spPr>
          <a:xfrm>
            <a:off x="250920" y="1413000"/>
            <a:ext cx="2776320" cy="2085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P1060430"/>
          <p:cNvPicPr/>
          <p:nvPr/>
        </p:nvPicPr>
        <p:blipFill>
          <a:blip r:embed="rId2"/>
          <a:stretch/>
        </p:blipFill>
        <p:spPr>
          <a:xfrm>
            <a:off x="2195640" y="2997360"/>
            <a:ext cx="2232000" cy="18856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P1060424"/>
          <p:cNvPicPr/>
          <p:nvPr/>
        </p:nvPicPr>
        <p:blipFill>
          <a:blip r:embed="rId3"/>
          <a:stretch/>
        </p:blipFill>
        <p:spPr>
          <a:xfrm>
            <a:off x="250920" y="4508640"/>
            <a:ext cx="2252520" cy="16891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1"/>
          <p:cNvSpPr/>
          <p:nvPr/>
        </p:nvSpPr>
        <p:spPr>
          <a:xfrm>
            <a:off x="4859280" y="3240"/>
            <a:ext cx="42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зическая культу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ма «Матрешки с платочка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IMGP9190"/>
          <p:cNvPicPr/>
          <p:nvPr/>
        </p:nvPicPr>
        <p:blipFill>
          <a:blip r:embed="rId4"/>
          <a:stretch/>
        </p:blipFill>
        <p:spPr>
          <a:xfrm>
            <a:off x="4356000" y="981000"/>
            <a:ext cx="2497320" cy="1871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IMGP9195"/>
          <p:cNvPicPr/>
          <p:nvPr/>
        </p:nvPicPr>
        <p:blipFill>
          <a:blip r:embed="rId5"/>
          <a:stretch/>
        </p:blipFill>
        <p:spPr>
          <a:xfrm>
            <a:off x="6227640" y="2637000"/>
            <a:ext cx="2497320" cy="1871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IMGP9210"/>
          <p:cNvPicPr/>
          <p:nvPr/>
        </p:nvPicPr>
        <p:blipFill>
          <a:blip r:embed="rId6"/>
          <a:stretch/>
        </p:blipFill>
        <p:spPr>
          <a:xfrm>
            <a:off x="4788000" y="4221000"/>
            <a:ext cx="2303280" cy="1729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"/>
          <p:cNvSpPr/>
          <p:nvPr/>
        </p:nvSpPr>
        <p:spPr>
          <a:xfrm>
            <a:off x="324000" y="33768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удожественное творчество. Леп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ма «Матрёш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P1060487"/>
          <p:cNvPicPr/>
          <p:nvPr/>
        </p:nvPicPr>
        <p:blipFill>
          <a:blip r:embed="rId1"/>
          <a:stretch/>
        </p:blipFill>
        <p:spPr>
          <a:xfrm>
            <a:off x="468360" y="1052640"/>
            <a:ext cx="2878200" cy="2160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P1060492"/>
          <p:cNvPicPr/>
          <p:nvPr/>
        </p:nvPicPr>
        <p:blipFill>
          <a:blip r:embed="rId2"/>
          <a:stretch/>
        </p:blipFill>
        <p:spPr>
          <a:xfrm>
            <a:off x="539640" y="3573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IMGP9241"/>
          <p:cNvPicPr/>
          <p:nvPr/>
        </p:nvPicPr>
        <p:blipFill>
          <a:blip r:embed="rId3"/>
          <a:stretch/>
        </p:blipFill>
        <p:spPr>
          <a:xfrm>
            <a:off x="5435640" y="13413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IMGP9247"/>
          <p:cNvPicPr/>
          <p:nvPr/>
        </p:nvPicPr>
        <p:blipFill>
          <a:blip r:embed="rId4"/>
          <a:stretch/>
        </p:blipFill>
        <p:spPr>
          <a:xfrm>
            <a:off x="4643280" y="3645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6"/>
          <p:cNvSpPr/>
          <p:nvPr/>
        </p:nvSpPr>
        <p:spPr>
          <a:xfrm>
            <a:off x="4643280" y="337680"/>
            <a:ext cx="42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удожественное творчество. Апплик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ма «Русская матрёш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P1060556"/>
          <p:cNvPicPr/>
          <p:nvPr/>
        </p:nvPicPr>
        <p:blipFill>
          <a:blip r:embed="rId1"/>
          <a:stretch/>
        </p:blipFill>
        <p:spPr>
          <a:xfrm>
            <a:off x="552600" y="561960"/>
            <a:ext cx="3949560" cy="29624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P1060557"/>
          <p:cNvPicPr/>
          <p:nvPr/>
        </p:nvPicPr>
        <p:blipFill>
          <a:blip r:embed="rId2"/>
          <a:stretch/>
        </p:blipFill>
        <p:spPr>
          <a:xfrm>
            <a:off x="4500720" y="22050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P1060561"/>
          <p:cNvPicPr/>
          <p:nvPr/>
        </p:nvPicPr>
        <p:blipFill>
          <a:blip r:embed="rId3"/>
          <a:stretch/>
        </p:blipFill>
        <p:spPr>
          <a:xfrm>
            <a:off x="900000" y="3789360"/>
            <a:ext cx="3638520" cy="27288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4716360" y="485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удожественное творчество. Рисование. «Украсим сарафан матрёш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324000" y="43344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готовительная груп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екоративное рис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атрёшк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Матрё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4500720" y="448920"/>
            <a:ext cx="425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рмирование элементарных математических предст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тему «Как помочь Матрешке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Рисунок 6" descr="E:\работа\матрёшка\матрёшка\матрешка фото\р.с. матрешка математика\P1050711.JPG"/>
          <p:cNvPicPr/>
          <p:nvPr/>
        </p:nvPicPr>
        <p:blipFill>
          <a:blip r:embed="rId1"/>
          <a:stretch/>
        </p:blipFill>
        <p:spPr>
          <a:xfrm>
            <a:off x="4140360" y="1628640"/>
            <a:ext cx="2952720" cy="237672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7" descr="E:\работа\матрёшка\матрёшка\матрешка фото\р.с. матрешка математика\P1050713.JPG"/>
          <p:cNvPicPr/>
          <p:nvPr/>
        </p:nvPicPr>
        <p:blipFill>
          <a:blip r:embed="rId2"/>
          <a:stretch/>
        </p:blipFill>
        <p:spPr>
          <a:xfrm>
            <a:off x="5508720" y="3716280"/>
            <a:ext cx="2692440" cy="2233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E:\работа\матрёшка мой комп\матрёшка\матрешка фото\савельева\P1060559.JPG"/>
          <p:cNvPicPr/>
          <p:nvPr/>
        </p:nvPicPr>
        <p:blipFill>
          <a:blip r:embed="rId3"/>
          <a:stretch/>
        </p:blipFill>
        <p:spPr>
          <a:xfrm>
            <a:off x="324000" y="2205000"/>
            <a:ext cx="3257280" cy="2443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324000" y="78120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н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ю происхождения Матрёш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 русской народной игрушки (материал, форма, цвета, узор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ме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ать Семеновскую, Загорскую, Полхов-Майданскую матрёш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авать простейшие элементы росписи различных видов Матрёш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редней, старшей, подготовительной группах созданы  мини-музеи «Русская матрё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9-10-14T17:09:25Z</dcterms:modified>
  <cp:revision>29</cp:revision>
  <dc:subject/>
  <dc:title>Слайд 1</dc:title>
</cp:coreProperties>
</file>