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B8E16-4FEA-48AA-9603-7BBEB01A3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64FAF-4C6A-4DCE-BCE2-BA65A25B4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A3FA4-5DC9-4210-B804-98F240DF2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85789-7BAC-4966-9A8E-F4FC9809E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F7681-B96B-41BC-8387-80F529125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EF77D-2A8B-49A1-A57E-9776696BE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0DC43-D465-47AC-BF3B-84747E283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6F19C-F376-43C1-B2CE-8B85561F1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48CE6-56DF-42F0-825A-2FF3E254D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75D7B-35B5-451D-AB95-23AD0BC37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8B298-9932-40EF-84B0-627E847CD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83742-A960-49B7-AEAF-CA3ACC61C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D6DAD-14DC-4AB9-8A64-6EB98377456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dent-help.ru/info/spravochnik/toothache/" TargetMode="External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 rot="20946000">
            <a:off x="1476360" y="836280"/>
            <a:ext cx="6553080" cy="77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316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66ff"/>
                    </a:gs>
                    <a:gs pos="100000">
                      <a:srgbClr val="3366ff"/>
                    </a:gs>
                  </a:gsLst>
                  <a:lin ang="19554000"/>
                </a:gradFill>
                <a:latin typeface="Arial"/>
              </a:rPr>
              <a:t>Гигиена полости рта</a:t>
            </a:r>
            <a:endParaRPr b="0" lang="en-US" sz="5400" spc="1" strike="noStrike">
              <a:ln w="316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66ff"/>
                  </a:gs>
                  <a:gs pos="100000">
                    <a:srgbClr val="3366ff"/>
                  </a:gs>
                </a:gsLst>
                <a:lin ang="19554000"/>
              </a:gradFill>
              <a:latin typeface="Arial"/>
              <a:ea typeface="Arial"/>
            </a:endParaRPr>
          </a:p>
        </p:txBody>
      </p:sp>
      <p:sp>
        <p:nvSpPr>
          <p:cNvPr id="42" name="WordArt 5"/>
          <p:cNvSpPr txBox="1"/>
          <p:nvPr/>
        </p:nvSpPr>
        <p:spPr>
          <a:xfrm>
            <a:off x="5867280" y="5643720"/>
            <a:ext cx="2814840" cy="77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324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 </a:t>
            </a:r>
            <a:endParaRPr b="0" i="1" lang="en-US" sz="2000" spc="1" strike="noStrike">
              <a:ln w="324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43" name="Rectangle 6"/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1"/>
          <a:stretch/>
        </p:blipFill>
        <p:spPr>
          <a:xfrm>
            <a:off x="1000080" y="1976400"/>
            <a:ext cx="4143600" cy="2309760"/>
          </a:xfrm>
          <a:prstGeom prst="rect">
            <a:avLst/>
          </a:prstGeom>
          <a:ln w="0">
            <a:noFill/>
          </a:ln>
        </p:spPr>
      </p:pic>
      <p:sp>
        <p:nvSpPr>
          <p:cNvPr id="45" name="TextBox 34"/>
          <p:cNvSpPr/>
          <p:nvPr/>
        </p:nvSpPr>
        <p:spPr>
          <a:xfrm>
            <a:off x="6143760" y="4929120"/>
            <a:ext cx="2714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  биологии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урчавая Галина Владимир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3399"/>
                </a:solidFill>
                <a:latin typeface="Arial"/>
              </a:rPr>
              <a:t>Лечебно-профилактические пасты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довые зубные паст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тивокариесные зубные пас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етские зубные паст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беливающие зубные паст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тивовоспалительные зубные паст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убные пасты для чувствительных зубо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00cc"/>
                </a:solidFill>
                <a:latin typeface="Arial"/>
              </a:rPr>
              <a:t>Содовые зубные пас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одовые зубные пасты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содержат пищевую соду, которая повышает очищающие свойства пасты. Сода вызывает гибель микробов, из-за которых возникает кариес, имеет антисептическое действие. Так же создает в полости рта щелочную среду, которая сохраняется примерно 20 минут после чистки зубов; и гипертоническую среду, благодаря чему снимается отек с десн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cc"/>
                </a:solidFill>
                <a:latin typeface="Arial"/>
              </a:rPr>
              <a:t>Противокариесные зубные паст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отивокариесные зубные пасты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содержат специальный агент – ион фтора. Фториды зачастую используются в сочетаниями с соединениями кальция, что способствует повышению минерализующих свойств слюны. Существуют так же пасты с кальцием, без фтор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следние исследования показали, что пасты с выделением фтора приводят к образованию кариеса дентина при почти не поврежденной эмал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cc"/>
                </a:solidFill>
                <a:latin typeface="Arial"/>
              </a:rPr>
              <a:t>Детские зубные пас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етские зубные пасты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отличаются от взрослых меньшим содержанием активных компонентов, вкусом (фруктовый или нейтральный) и низкой абразивностью. Есть 2 группы детских зубных паст: для детей до 6 лет, в них понижена концентрация фторида; и для детей от 6 до 13 лет, в них понижена абразивность, а концентрация фторида приближена к взрослой зубной пасте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cc"/>
                </a:solidFill>
                <a:latin typeface="Arial"/>
              </a:rPr>
              <a:t>Отбеливающие зубные паст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тбеливающие зубные пасты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учше не применять людям, страдающим заболеваниями пародонта, гиперчувствительностью. Они делятся на две группы. Первая обеспечивает удаление поверхностных красителей и создает полирующий эффект. Этот вид пасты может пользоваться популярностью у курильщиков. Вторая группа содержит отбеливающие химические вещества. Эти пасты достаточно дорогие и мало представлены на рынк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cc"/>
                </a:solidFill>
                <a:latin typeface="Arial"/>
              </a:rPr>
              <a:t>Противовоспалительные зубные паст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отивовоспалительные зубные пасты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направлены на лечение и предотвращение воспалительных заболеваний пародонта. Основной ингредиент этих паст – триклозан. Также эти пасты могут содержать эфирные масла и экстракты трав, которые обладают антисептическими, антиоксидантными и кровоостанавливающими свойствами, способствуют регенерации тканей, стимулируют иммунные защитные реакции и улучшают тканевой обмен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cc"/>
                </a:solidFill>
                <a:latin typeface="Arial"/>
              </a:rPr>
              <a:t>Зубные пасты для чувствительных зуб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убные пасты для чувствительных зубов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имеют активные ингредиенты, которые снижают чувствительность зубов. Это соли: хлорид калия, хлорид стронция, нитрат калия. Не рекомендуется использовать данные пасты длительное время, т.к. они неэффективно очищают зубы и могут скрывать симптомы стоматологических заболеваний, снижая чувствительност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ff"/>
                </a:solidFill>
                <a:latin typeface="Arial"/>
              </a:rPr>
              <a:t>Немного из истории пас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18 век</a:t>
            </a:r>
            <a:br>
              <a:rPr sz="1600"/>
            </a:br>
            <a:br>
              <a:rPr sz="10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убной порошок, а затем и зубная паста, наиболее приближенные к современным, впервые появились в конце 18 века в Великобритании. Это средство для чистки зубов продавалось в керамическом сосуде в двух формах в виде порошка и пасты. Люди хорошего достатка имели возможность использовать для его нанесения специальную щетку, а те, кто был победнее, делали это при помощи пальцев.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о, несмотря на то, что порошки составлялись врачами, дантистами и химиками, они часто содержали чрезмерно абразивные вещества, которые могли нанести вред зубам: кирпичную пыль, размельченный фарфор и глиняные осколки, а также в их состав входили мыло и мел.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амую старую зубную щетку в Европе обнаружили немецкие археологи, проводившие раскопки на месте бывшей больницы в городе Минден. Возраст предмета составляет 250 лет. Длина щетки - 10 см. Она сделана из кости животного. Щетка похожа на ту, что была найдена неподалеку несколькими месяцами ранее, поэтому специалисты предполагают, что в тех местах в середине 18 в. действовала мастерская по производству костяных щеток, оснащенных свиной щетиной. Именно в те времена в Европе началось распространение орудия для чистки зубов, в связи с тем, что богатые европейцы начали употреблять в пищу сахар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22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8d703"/>
                </a:solidFill>
                <a:latin typeface="Arial"/>
              </a:rPr>
              <a:t>Зубные ни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24000" y="1197000"/>
            <a:ext cx="864072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Хотя прочищение зубных промежутков с помощью шелковой нитки и требует привыкания, но зато освоить эту процедуру совсем несложно. Вначале, возможно, вы будете проделывать эту операцию недостаточно ловко и достаточно долго, однако со временем, когда вы привыкнете к ней, вы научитесь проводить ее быстро, и ваши старания будут вознаграждены здоровьем ваших зубов. Начните с прочищения промежутков между резцами нижней челюсти: Зажмите концы шелковой нитки для чистки зубов длиною примерно в 50 см между большим и указательным пальцами каждой руки и натяните ее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ведите натянутую нитку в промежуток между зубами, совершая пилящие движения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ягко двигайте нитку, протягивая вперед и назад, в зубном промежутке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днимите нитку вверх и вытащите из промежутка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сле этого прочистите таким же образом зубные промежутки резцов верхней челюсти. 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жет случиться так, что ваши десны при этом будут слегка кровоточить. Если в течение нескольких дней проведения такой чистки кровоточивость не прекратится, то в этом случае обратитесь за советом к вашему зубному врач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3" descr=""/>
          <p:cNvPicPr/>
          <p:nvPr/>
        </p:nvPicPr>
        <p:blipFill>
          <a:blip r:embed="rId1"/>
          <a:stretch/>
        </p:blipFill>
        <p:spPr>
          <a:xfrm>
            <a:off x="1763640" y="620640"/>
            <a:ext cx="5472360" cy="56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наше время существует множество индивидуальных средств по уходу за зубами. Это основные средства (зубные щетки и  зубные пасты)  и дополнительные, например, зубные нити, ополаскиватели и др.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5" descr=""/>
          <p:cNvPicPr/>
          <p:nvPr/>
        </p:nvPicPr>
        <p:blipFill>
          <a:blip r:embed="rId1"/>
          <a:stretch/>
        </p:blipFill>
        <p:spPr>
          <a:xfrm>
            <a:off x="324000" y="3429000"/>
            <a:ext cx="3429000" cy="3429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6" descr=""/>
          <p:cNvPicPr/>
          <p:nvPr/>
        </p:nvPicPr>
        <p:blipFill>
          <a:blip r:embed="rId2"/>
          <a:stretch/>
        </p:blipFill>
        <p:spPr>
          <a:xfrm>
            <a:off x="4788000" y="4365720"/>
            <a:ext cx="1224000" cy="18000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7" descr=""/>
          <p:cNvPicPr/>
          <p:nvPr/>
        </p:nvPicPr>
        <p:blipFill>
          <a:blip r:embed="rId3"/>
          <a:stretch/>
        </p:blipFill>
        <p:spPr>
          <a:xfrm>
            <a:off x="6877080" y="3357720"/>
            <a:ext cx="1511280" cy="189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Arial"/>
              </a:rPr>
              <a:t>Индивидуальная гигиена полости рта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дивидуальная гигиена полости рта - это  удаление остатков пищи и зубного налета с поверхностей зубов,  десен и языка с помощью средств специального назначения. Гигиена полости рта - это основа нашего здоровья, так как инфекция, которая локализуется в  больных зубах и околозубных тканях (пародонте) может стать причиной обострений хронических заболеваний любых органов. Поэтому еще в древности люди  жевали смолу, которая  очищала зубы  и придавала дыханию свежесть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b14f0"/>
                </a:solidFill>
                <a:latin typeface="Arial"/>
              </a:rPr>
              <a:t>Как самостоятельно сохранить десны здоровыми?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 правило, самым распространённым поводом для визита к стоматологу является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убная боль. Крайне редко мы посещаем зубной кабинет с целью профилактики, чтобы провести осмотр зубов для своевременного выявления тех или иных дефектов. А уж на такие «мелочи», как кровоточивость дёсен, практически никто не обращает внимания. Между тем это признак серьёзного заболевания — </a:t>
            </a:r>
            <a:r>
              <a:rPr b="1" lang="ru-RU" sz="2800" spc="-1" strike="noStrike" u="sng">
                <a:solidFill>
                  <a:srgbClr val="ff0066"/>
                </a:solidFill>
                <a:uFillTx/>
                <a:latin typeface="Arial"/>
              </a:rPr>
              <a:t>пародонтита</a:t>
            </a:r>
            <a:r>
              <a:rPr b="0" lang="ru-RU" sz="2800" spc="-1" strike="noStrike">
                <a:solidFill>
                  <a:srgbClr val="ff0066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4" descr=""/>
          <p:cNvPicPr/>
          <p:nvPr/>
        </p:nvPicPr>
        <p:blipFill>
          <a:blip r:embed="rId1"/>
          <a:stretch/>
        </p:blipFill>
        <p:spPr>
          <a:xfrm>
            <a:off x="755640" y="620640"/>
            <a:ext cx="758196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00cc"/>
                </a:solidFill>
                <a:latin typeface="Arial"/>
              </a:rPr>
              <a:t>Зубная щетка - лучший друг человека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убная щетка способствует очищению зубов от зубного налета. Щетки бывают разной степени жесткости: очень жесткие, жесткие, средней жесткости, мягкие, очень мягкие. Зубные щетки с жесткими и очень жесткими щетинами применяют для очищения зубных протезов, мягкие и очень мягкие рекомендуют маленьким детям и при обострении заболевания десен. Здоровым людям лучше пользоваться  щетками средней жесткости и мягкими. В хороших щетках   щетинки расположены не более, чем в три ряда, а промежутки между ними составляют 1,5 - 2,0 мм. Для чистки труднодоступных мест больше подойдут  щетки с конусообразной подстрижкой пучков щетины. Контур щетки должен носить вогнутый характер, это удобнее и лучше способствует очищению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0" descr=""/>
          <p:cNvPicPr/>
          <p:nvPr/>
        </p:nvPicPr>
        <p:blipFill>
          <a:blip r:embed="rId1"/>
          <a:stretch/>
        </p:blipFill>
        <p:spPr>
          <a:xfrm>
            <a:off x="324000" y="1197000"/>
            <a:ext cx="4038480" cy="52578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1" descr=""/>
          <p:cNvPicPr/>
          <p:nvPr/>
        </p:nvPicPr>
        <p:blipFill>
          <a:blip r:embed="rId2"/>
          <a:stretch/>
        </p:blipFill>
        <p:spPr>
          <a:xfrm>
            <a:off x="4643280" y="620640"/>
            <a:ext cx="4038840" cy="21859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2" descr=""/>
          <p:cNvPicPr/>
          <p:nvPr/>
        </p:nvPicPr>
        <p:blipFill>
          <a:blip r:embed="rId3"/>
          <a:stretch/>
        </p:blipFill>
        <p:spPr>
          <a:xfrm>
            <a:off x="4643280" y="3429000"/>
            <a:ext cx="4038840" cy="29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00cc"/>
                </a:solidFill>
                <a:latin typeface="Arial"/>
              </a:rPr>
              <a:t>Как правильно чистить зубы?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юдям со здоровой полостью рта рекомендуют чистить зубы  два раза в день (утром после завтрака и на ночь) стандартным методом. При этом  зубной ряд делится на 6 сигментов (коренные,  малые коренные,  передние зубы). Зубы  чистят  сначала на верхней челюсти, затем на нижней, от периферии к центру при разомкнутых зубах. Каждый раздел  очищается с помощью 10  движений щетки - итого не менее 300-400 движений зубной щеткой. При чистке жевательных поверхностей применяют возвратно-поступательные движения в продольном и поперечном направлениях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следние исследования показали, что время чистки должно составлять не более двух минут иначе микробы удаленные с верхних зубов и попавшие в ротовую жидкость перемешанную с пастой начинают втираться в поверхность нижних зубов и десе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уществуют и другие методы чистки зубов, каждый из который выбирается с учетом состояния зубов и пародонта. Например, при воспалении десен в подростковом периоде рекомендуют применять щадящие методы чистки зубов. Существуют различные виды щадящей чистки зубов, часто они сочетают чистку с массажем десен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8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cc"/>
                </a:solidFill>
                <a:latin typeface="Arial"/>
              </a:rPr>
              <a:t>Зубная паста. Какую выбрать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убная паста должна обладать дезодорирующим и освещающим действием, выделять ионы фтора и кальция (для местности с нормальным содержанием фтора в воде), быть приятной на вкус. У качественной зубной пасты должна быть кремообразная консистенция, хорошо пениться при чистке, не засыхать при длительном хранении. Современные пасты не только обладают дезодорирующим и очищающим эффектом, но так же оказывают лечебно-профилактическое действие, благодаря содержанию специальных добавок.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убные пасты можно разделить на 2 группы: гигиенические (удаляют зубной налет, освежают полость рта, не содержат активных ингридиентов) и лечебно-профилактически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9" descr=""/>
          <p:cNvPicPr/>
          <p:nvPr/>
        </p:nvPicPr>
        <p:blipFill>
          <a:blip r:embed="rId1"/>
          <a:stretch/>
        </p:blipFill>
        <p:spPr>
          <a:xfrm>
            <a:off x="179280" y="549360"/>
            <a:ext cx="4038840" cy="38494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0" descr=""/>
          <p:cNvPicPr/>
          <p:nvPr/>
        </p:nvPicPr>
        <p:blipFill>
          <a:blip r:embed="rId2"/>
          <a:stretch/>
        </p:blipFill>
        <p:spPr>
          <a:xfrm>
            <a:off x="4788000" y="1916280"/>
            <a:ext cx="33940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0T15:05:19Z</dcterms:created>
  <dc:creator>SysAdmin</dc:creator>
  <dc:description/>
  <dc:language>en-US</dc:language>
  <cp:lastModifiedBy>Admin</cp:lastModifiedBy>
  <dcterms:modified xsi:type="dcterms:W3CDTF">2019-10-13T16:38:31Z</dcterms:modified>
  <cp:revision>11</cp:revision>
  <dc:subject/>
  <dc:title>Слайд 1</dc:title>
</cp:coreProperties>
</file>