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679-6B68-4F40-A810-90095A50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833-92D4-433C-B6B5-8824876D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4D8-D848-4D55-ACC2-8D225279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013-D0AB-421B-A568-3DC2F34C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935-05FB-4EB0-BC38-11F02529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FC6-1CB0-4F8F-8F7D-D3B1FDEB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A6A-9834-4A54-9ABE-22542DD0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18F-BFB1-4F53-AC4F-8D8153BD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991-8874-4D6A-93F1-5F2B4D48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B5B-1FD6-4187-8CE3-E1516D53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D7E-84FB-48C7-A342-F1009FC6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7D3-C663-47D3-8DD3-D37C8AEB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1983-D224-473B-A9D3-44E06A11B8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3;.&#1101;." TargetMode="External"/><Relationship Id="rId2" Type="http://schemas.openxmlformats.org/officeDocument/2006/relationships/hyperlink" Target="https://ru.wikipedia.org/wiki/&#1045;&#1075;&#1080;&#1087;&#1077;&#1090;" TargetMode="External"/><Relationship Id="rId3" Type="http://schemas.openxmlformats.org/officeDocument/2006/relationships/hyperlink" Target="https://ru.wikipedia.org/wiki/&#1054;&#1075;&#1076;&#1086;&#1072;&#1076;&#1072;" TargetMode="External"/><Relationship Id="rId4" Type="http://schemas.openxmlformats.org/officeDocument/2006/relationships/hyperlink" Target="https://ru.wikipedia.org/wiki/&#1061;&#1072;&#1086;&#1089;" TargetMode="External"/><Relationship Id="rId5" Type="http://schemas.openxmlformats.org/officeDocument/2006/relationships/hyperlink" Target="https://ru.wikipedia.org/wiki/&#1057;&#1086;&#1083;&#1085;&#1094;&#1077;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9;&#1084;&#1087;&#1077;&#1076;&#1086;&#1082;&#1083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1;&#1077;&#1074;&#1082;&#1080;&#1087;&#1087;" TargetMode="External"/><Relationship Id="rId2" Type="http://schemas.openxmlformats.org/officeDocument/2006/relationships/hyperlink" Target="https://ru.wikipedia.org/wiki/&#1044;&#1077;&#1084;&#1086;&#1082;&#1088;&#1080;&#1090;" TargetMode="External"/><Relationship Id="rId3" Type="http://schemas.openxmlformats.org/officeDocument/2006/relationships/hyperlink" Target="https://ru.wikipedia.org/wiki/&#1053;&#1072;&#1090;&#1091;&#1088;&#1092;&#1080;&#1083;&#1086;&#1089;&#1086;&#1092;&#1080;&#1103;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3;&#1072;&#1090;&#1086;&#1085;" TargetMode="External"/><Relationship Id="rId2" Type="http://schemas.openxmlformats.org/officeDocument/2006/relationships/hyperlink" Target="https://ru.wikipedia.org/wiki/&#1069;&#1083;&#1077;&#1084;&#1077;&#1085;&#1090;_(&#1092;&#1080;&#1083;&#1086;&#1089;&#1086;&#1092;&#1080;&#1103;)" TargetMode="External"/><Relationship Id="rId3" Type="http://schemas.openxmlformats.org/officeDocument/2006/relationships/hyperlink" Target="https://ru.wikipedia.org/wiki/&#1058;&#1080;&#1084;&#1077;&#1081;" TargetMode="External"/><Relationship Id="rId4" Type="http://schemas.openxmlformats.org/officeDocument/2006/relationships/hyperlink" Target="https://ru.wikipedia.org/wiki/&#1058;&#1077;&#1090;&#1088;&#1072;&#1101;&#1076;&#1088;" TargetMode="External"/><Relationship Id="rId5" Type="http://schemas.openxmlformats.org/officeDocument/2006/relationships/hyperlink" Target="https://ru.wikipedia.org/wiki/&#1054;&#1082;&#1090;&#1072;&#1101;&#1076;&#1088;" TargetMode="External"/><Relationship Id="rId6" Type="http://schemas.openxmlformats.org/officeDocument/2006/relationships/hyperlink" Target="https://ru.wikipedia.org/wiki/&#1048;&#1082;&#1086;&#1089;&#1072;&#1101;&#1076;&#1088;" TargetMode="External"/><Relationship Id="rId7" Type="http://schemas.openxmlformats.org/officeDocument/2006/relationships/hyperlink" Target="https://ru.wikipedia.org/wiki/&#1050;&#1091;&#1073;" TargetMode="External"/><Relationship Id="rId8" Type="http://schemas.openxmlformats.org/officeDocument/2006/relationships/hyperlink" Target="https://ru.wikipedia.org/wiki/&#1061;&#1088;&#1086;&#1085;&#1086;&#1083;&#1086;&#1075;&#1080;&#1103;_&#1093;&#1080;&#1084;&#1080;&#1080;" TargetMode="External"/><Relationship Id="rId9" Type="http://schemas.openxmlformats.org/officeDocument/2006/relationships/hyperlink" Target="https://ru.wikipedia.org/wiki/&#1040;&#1088;&#1080;&#1089;&#1090;&#1086;&#1090;&#1077;&#1083;&#1100;" TargetMode="External"/><Relationship Id="rId10" Type="http://schemas.openxmlformats.org/officeDocument/2006/relationships/hyperlink" Target="https://ru.wikipedia.org/wiki/&#1052;&#1072;&#1090;&#1077;&#1088;&#1080;&#1103;_(&#1092;&#1080;&#1083;&#1086;&#1089;&#1086;&#1092;&#1080;&#1103;)" TargetMode="External"/><Relationship Id="rId11" Type="http://schemas.openxmlformats.org/officeDocument/2006/relationships/hyperlink" Target="https://ru.wikipedia.org/wiki/&#1052;&#1072;&#1090;&#1077;&#1088;&#1080;&#1103;_(&#1092;&#1080;&#1083;&#1086;&#1089;&#1086;&#1092;&#1080;&#1103;)" TargetMode="External"/><Relationship Id="rId12" Type="http://schemas.openxmlformats.org/officeDocument/2006/relationships/hyperlink" Target="https://ru.wikipedia.org/wiki/&#1055;&#1103;&#1090;&#1100;_&#1101;&#1083;&#1077;&#1084;&#1077;&#1085;&#1090;&#1086;&#1074;" TargetMode="External"/><Relationship Id="rId13" Type="http://schemas.openxmlformats.org/officeDocument/2006/relationships/hyperlink" Target="https://ru.wikipedia.org/wiki/&#1069;&#1092;&#1080;&#1088;_(&#1089;&#1090;&#1080;&#1093;&#1080;&#1103;)" TargetMode="Externa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5816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Радиоактивность как свидетельство сложного строения атома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614376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808 год Джон Дальтон опубликовал  «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Новая система химической философии»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книгу, которая содержит первое современное научное описание атомистической теории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ри Беккер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unnatural.ru/wp-content/uploads/2012/11/110312_1521_12.jpg"/>
          <p:cNvPicPr/>
          <p:nvPr/>
        </p:nvPicPr>
        <p:blipFill>
          <a:blip r:embed="rId2"/>
          <a:stretch/>
        </p:blipFill>
        <p:spPr>
          <a:xfrm>
            <a:off x="1571760" y="1143000"/>
            <a:ext cx="5040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896 г – открытие явления радиоактивнос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адиоактивность – способность некоторых химических элементов к самопроизвольному излучению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lappweb.in2p3.fr/centenaire/radimg/uray.gif"/>
          <p:cNvPicPr/>
          <p:nvPr/>
        </p:nvPicPr>
        <p:blipFill>
          <a:blip r:embed="rId2"/>
          <a:stretch/>
        </p:blipFill>
        <p:spPr>
          <a:xfrm>
            <a:off x="1660680" y="0"/>
            <a:ext cx="591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рнест Резерф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namespedia.com/image/Miree_7.jpg"/>
          <p:cNvPicPr/>
          <p:nvPr/>
        </p:nvPicPr>
        <p:blipFill>
          <a:blip r:embed="rId2"/>
          <a:stretch/>
        </p:blipFill>
        <p:spPr>
          <a:xfrm>
            <a:off x="2357280" y="979560"/>
            <a:ext cx="378648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356760"/>
            <a:ext cx="4757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899 год – неоднородность радиоактивного изл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www.tepka.ru/fizika_9/156.jpg"/>
          <p:cNvPicPr/>
          <p:nvPr/>
        </p:nvPicPr>
        <p:blipFill>
          <a:blip r:embed="rId1"/>
          <a:stretch/>
        </p:blipFill>
        <p:spPr>
          <a:xfrm>
            <a:off x="5286240" y="428760"/>
            <a:ext cx="25434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2560" y="285480"/>
            <a:ext cx="85438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оло 3000 лет до 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н.э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Египтян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сформулировали теорию 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Огдоад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или «первоначальных сил» из которых весь мир было создан. В этой теории было восемь элементов 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хаос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которые существовали ещё до возникновения 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олнц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педок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philosimply.com/cms/assets/Empedocles.jpg"/>
          <p:cNvPicPr/>
          <p:nvPr/>
        </p:nvPicPr>
        <p:blipFill>
          <a:blip r:embed="rId2"/>
          <a:stretch/>
        </p:blipFill>
        <p:spPr>
          <a:xfrm>
            <a:off x="2500200" y="128592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5840" y="357120"/>
            <a:ext cx="84009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коло 450 года до н. э.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Эмпедок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выразил мысль, что все вещи состоят из четырёх основных элементов: земли, воздуха, огня и воды, которые взаимодействуют между собой благодаря двум силам притяжения и отталкивания (любви и ненависти или притягательности и антипатии), что приводит к появлению бесконечного разнообразия фор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вкипп и Демокр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to-world-travel.ru/img/2015/042021/3705994"/>
          <p:cNvPicPr/>
          <p:nvPr/>
        </p:nvPicPr>
        <p:blipFill>
          <a:blip r:embed="rId3"/>
          <a:stretch/>
        </p:blipFill>
        <p:spPr>
          <a:xfrm>
            <a:off x="142920" y="1214280"/>
            <a:ext cx="4357800" cy="537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to-world-travel.ru/img/2015/042021/5746993"/>
          <p:cNvPicPr/>
          <p:nvPr/>
        </p:nvPicPr>
        <p:blipFill>
          <a:blip r:embed="rId4"/>
          <a:stretch/>
        </p:blipFill>
        <p:spPr>
          <a:xfrm>
            <a:off x="4714920" y="1214280"/>
            <a:ext cx="40003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440 года до н. э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вкип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емокри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редложили идею про атом, как невидимую частичку из которой все построено. Эта идея была отвергнута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атурфилософ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в пользу Аристотелевского взгля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500 лет наз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се тела состоят из мельчайших частиц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– «неделимы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истотель и Плат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diletant.org/sites/default/files/holl_062.png?1401087228"/>
          <p:cNvPicPr/>
          <p:nvPr/>
        </p:nvPicPr>
        <p:blipFill>
          <a:blip r:embed="rId1"/>
          <a:stretch/>
        </p:blipFill>
        <p:spPr>
          <a:xfrm>
            <a:off x="285840" y="785880"/>
            <a:ext cx="3857400" cy="584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2.bp.blogspot.com/-zNSg8fRu-rM/VOpjYy3H1PI/AAAAAAAAA60/--g5W6n_I_s/s1600/mimesis-poesia-platon-aristoteles-i-L-2gksG3.jpeg"/>
          <p:cNvPicPr/>
          <p:nvPr/>
        </p:nvPicPr>
        <p:blipFill>
          <a:blip r:embed="rId2"/>
          <a:stretch/>
        </p:blipFill>
        <p:spPr>
          <a:xfrm>
            <a:off x="4214880" y="785880"/>
            <a:ext cx="47196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3840" y="214200"/>
            <a:ext cx="8472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коло 360 года до н. э.: 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латон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вводит слово «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элемен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» («стихия») в своем диалоге 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им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который содержит дискуссию про состав неживых и живых тел и является первейшим упрощенным трактатом по химии. В нём также говорится, что мельчайшие частички каждого «элемента» имеют свою специфическую геометрическую форму: 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етраэдр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(огонь), 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октаэдр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(воздух), 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косаэдр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(вода) и 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уб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земля).</a:t>
            </a:r>
            <a:r>
              <a:rPr b="0" lang="ru-RU" sz="3000" spc="-1" strike="noStrike" u="sng" baseline="30000">
                <a:solidFill>
                  <a:srgbClr val="0000ff"/>
                </a:solidFill>
                <a:uFillTx/>
                <a:latin typeface="Calibri"/>
                <a:hlinkClick r:id="rId8"/>
              </a:rPr>
              <a:t>[7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коло 350 года до н. э.: 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Аристоте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развивая мысли Эмпедокла, предлагает идею про то, что все вещества являются комбинацией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матери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форм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Он создает 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теорию пяти элементов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огня, воды, земли, воздуха и 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эфир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В западном мире эта теория была общепринятой более 1000 лет.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[8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льт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jice.ddns.net:808/files/0d064b00d2894118-u-AHR0cHM6Ly91cGxvYWQUd2lrAW1lZGlhLm9yZy93AWtpcGVkAWevY29tbW9Ucy90AHVtYi8zLzNmL0RhbHRvbl9Kb2hUX2Rlc2SUAnBnLzc3MXB4LuRhbHRvbl9Kb2hUX2Rlc2SUAnBn.jpg"/>
          <p:cNvPicPr/>
          <p:nvPr/>
        </p:nvPicPr>
        <p:blipFill>
          <a:blip r:embed="rId2"/>
          <a:stretch/>
        </p:blipFill>
        <p:spPr>
          <a:xfrm>
            <a:off x="2214720" y="888840"/>
            <a:ext cx="435744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14:48:15Z</dcterms:created>
  <dc:creator>Andrey</dc:creator>
  <dc:description/>
  <dc:language>en-US</dc:language>
  <cp:lastModifiedBy>Andrey</cp:lastModifiedBy>
  <dcterms:modified xsi:type="dcterms:W3CDTF">2016-03-29T15:26:52Z</dcterms:modified>
  <cp:revision>4</cp:revision>
  <dc:subject/>
  <dc:title>Радиоактивность как свидетельство сложного строения атома.</dc:title>
</cp:coreProperties>
</file>