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4CF11-F03D-481C-83A8-439B4CB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078C7-953E-4D44-A9D8-8B823675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C7EA-6AB1-4E85-81D2-E0D00E4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FE87B-ABF5-400E-85B9-44F326C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8AE57-B4EE-42F0-84A1-E417368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FF3F-60AA-4B6A-A458-8820F90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1B7DB-B6F8-4723-80E9-06011A6B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E426-D764-48AF-8ED1-48C37D8C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CA5DB-BC91-4D2D-9BCC-34E141DF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3549E-7899-4452-8E5A-100C58A1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3926E-C106-45FC-A084-49B793C0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68785-D379-4020-924B-3C9C648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A5B6-92C7-438C-83A7-C1E09A5B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BEFA0-136C-4510-80F4-9977150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0577A-2D0C-487B-AA98-254D59D2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CFF2A-5B6D-42B2-8AFE-C772D5A2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1F096-33E9-4AF1-9738-C62BD59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0B15-E663-47E5-A642-08224B5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A5377-F76A-4047-A448-3F4962AC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2D492-A5C7-42EE-ABD1-CDD74083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0977-C408-4A2B-A06A-7E331071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D378D-D9A0-4E56-A6AA-38E7BA45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41047-6CE8-4E3B-8AF1-B896C212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065E3-C341-4721-A9C9-C8CA924A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14D1-116C-47FB-BD9C-EBA41780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91278-4238-4600-8F34-5BC4A26B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1E452-F86B-4D46-B24D-1FCB011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33157-25C2-4E60-B9CB-EA9CBE1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70E51-FCB1-4893-9A29-59B8F92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CD85F-8154-4ECB-A203-1DA3B6A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57F-6C84-488E-8841-EAD0E6D3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F646E-FA5B-4C11-A275-24B9F8E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8658E-59DA-4FA2-AF99-5675C082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3AF41-40FD-4A57-9A3B-8A77D3A1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D1ECD-0F43-4C85-83E3-88E520B9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0E72-484B-446D-BB20-EE785BCF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1A62-E184-435B-838C-A56DF22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4CC62-9D00-4030-8200-49416F6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2185-5B79-4D2A-AFC7-2CE955CF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24CB-0744-49D8-9C1B-0D61D31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2BA81-D1AA-48FD-913D-E36050F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3A3-0F6F-4411-AFCF-D2F3CD3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2AD0C-9378-472B-B479-751EEDFC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8EE92-45AB-43B5-9FDA-7146EA1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87D6F-D798-4E02-AC42-F023A2D9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E0AFA-1325-4E37-AD5B-257ECA03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92C5B-FC66-4A5F-827A-FE7E856D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C75-644A-4211-B59F-6127E9C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4FF-D930-4163-8112-D6F6B56C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93A-FD2D-45E1-938A-BE7A1D2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C36-ADE6-4A46-A569-61912A68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7A1-4BD6-45F6-A4B6-C01CA40A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E79-E4AF-4950-93C1-05B4859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00F-D883-4702-93F3-BBD02AF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9E2-8F76-47C8-AF9A-2D0F952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86C-3EEA-4E8E-A2AC-BE48B879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A33-38E6-4FCB-92DA-8BBD5CC4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9BD-454C-4613-AE35-888A63C7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A881-733C-4D5E-AF05-0F65F791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CD4-20D2-4CB2-98BA-2188DB3D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2077-0D2E-4208-AB70-0D5CA6A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7410-B69A-465A-9DCE-67BE12D4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42A6-6153-4376-A1B8-1CC9B7F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E51-6730-47C4-B698-08A556C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E6F-6264-482C-A015-5A9D338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7DD0-86B6-48A4-8F30-CEAF3FF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DD5-089A-427B-AC9E-471C12D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15B8-1E54-45FD-B9DC-45D2425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292F-D0DB-47EC-AA3D-B9A012D2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B020-28E0-4698-90CA-49772524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666B-BBAC-4BDB-A4A2-1CCB445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192E-8D17-4386-9054-D2DF3FEB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39E0-E864-43EC-96DC-E3CFC993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86EA-F69F-4C1A-B9A2-CBCC8924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7ECE-6556-4078-87E7-41FB634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DC17-6F77-4170-B77E-3123062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FB29-B073-4EB2-823B-C291B91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28DD-F94C-455B-A23E-46D02B4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E1FB-D777-4F85-B457-5FDDBAC1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0DC7-8B6A-43CF-A169-456B0DB4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9E63-CCC7-4C8D-8C6C-00E8CE75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85CDF-E85B-4E99-986C-C460B192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0CAC-3B4B-4865-9EAE-DA679480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E05C-D5D0-43DF-BAE3-DA51A7A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2523-D7D2-45E8-B651-CE45C0A4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4DDC-A55E-4650-A4FF-9AD8A292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29B8-CF2D-4E46-9AC3-A029AAD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CAC8-7CBC-41CD-944E-4ECA9E6F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A840-C69E-4A16-BF7C-80ADBFC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8B9E-B392-432A-9930-0C73804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A7AD-1A50-4840-9623-D20906E2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0FAD-F161-4658-9DFB-6DD295B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4502-B546-49C1-8A58-0EA5944C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A898-5D52-4F9D-934C-258906DB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E87F4-0FEC-4DA2-BBFC-403FD3D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A2ED-88D5-4AD3-B982-3FE7B00B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2333-ACC5-41C2-9F59-6897720F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EE82-0A56-4607-B1C7-5127657B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EED4-8FDC-45D7-9ACB-A656C34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DD742-132F-49DC-88F1-84C378B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0CBDB-24C4-4CDD-A8CA-B5F0276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4C85-C681-411E-8D2E-F2E58B7D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CDBF-F452-46B8-8AA6-87C4A55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830B-E38D-4456-9668-A3E49EBC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E3D0-9201-463A-8814-5CDA6A81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7FE8-34EC-4BD9-AAC7-F716E133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D3EC-DA0F-4F6E-9F71-224E5FDE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2F43-AAC4-44EA-A31A-11C3F2FA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AD38-E159-450A-9173-EA7A0B5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A1B09-DF22-4FDE-B84A-8C55B271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E5917-9200-4FBA-A643-482BAA10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6429-572B-43EC-94AB-989F15D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6A6F-A122-48C4-A657-F79B387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7012-FF33-4F91-B69B-1A694B54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1B7F-0D5F-43F0-A103-28EC248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CB13-7B69-497C-AB7B-B456992B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5FDB-58AA-46D6-9B27-60B6A8D2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2475-4B17-4E29-A8C6-03930B6C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FDB69-D166-45FB-B821-A8F576A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EC33-3E7F-479C-B77C-00FA5421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4F85-D262-45A4-B032-919FC4CD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CBB09-4B90-467B-ACC8-C4D712B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2321-913E-48F6-8DCE-5660024D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EA33-D1E4-4581-A2E1-7EE4005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492D-0411-414A-9706-7E9AAC8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CB46A-15F2-4284-A611-8B16273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41CA8-28F2-47C2-8BB9-1D1158A2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802D-E6D2-4B58-B6CF-DF726670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4973-F0CD-4F25-8132-BD155C45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093E-D73E-40D3-9B93-2590A293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DBD65-2144-451D-AF2B-C03E696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76C12-219F-4727-BBE7-274FC025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B835-FC23-45AF-8114-341E61F816F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BBEE-F215-46B7-9ACF-65A6D7FE455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DC29-2F91-4583-AC7F-DA412C81F19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CF9-F563-4F31-B938-548189582F7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C370-8C33-4134-8A1C-17500F5DFD7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615-00AD-431E-B1C8-CA8B41E0B58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2FEC-2447-4648-BD7E-623F77833B6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1FE5-F5FA-4DE0-9E45-2DBE73FABF1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0FDB-DEC9-47CB-9710-945F4C5C9FD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1C37-7928-43CF-A1AF-8B274A9092F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0D7-5837-49F4-AA14-021DC8E4237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экологическому воспитан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етей младшего дошкольного возраст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93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елая берез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рёзы на картинах художников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Содержимое 3" descr=""/>
          <p:cNvPicPr/>
          <p:nvPr/>
        </p:nvPicPr>
        <p:blipFill>
          <a:blip r:embed="rId1"/>
          <a:stretch/>
        </p:blipFill>
        <p:spPr>
          <a:xfrm>
            <a:off x="1974960" y="2487600"/>
            <a:ext cx="3608280" cy="26020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"/>
          <p:cNvSpPr/>
          <p:nvPr/>
        </p:nvSpPr>
        <p:spPr>
          <a:xfrm>
            <a:off x="2268360" y="517680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Левитан «Золотая осен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87280" y="2130120"/>
            <a:ext cx="60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етодический паспорт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186920" y="3645000"/>
            <a:ext cx="619308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ип проекта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вательно – исследователь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и проекта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астники проекта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и, дети, родит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реализации: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осрочный  (одна недел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лучить представление о веточках бере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самой берёзе, о её роли в жизни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эстетической, оздоровительной и т. д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ние любви к природе, бережному отнош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7280" y="169992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60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ирование  экологической воспитанности  детей младшего дошкольного возрас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уч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знакомить детей с березой, её особенностями и отличиями от других дерев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особствовать накоплению детьми эмоционально – позитивного опыта общения с природ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 жизни растения как живого существа (оно растет, развивается, может быть здоровым, больным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вивать у детей экологические представления, знания о ценности природы и правилах поведения в н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вивать у детей познавательный интерес, желание наблюдать, исследовать, получать новые знания, умения, навы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ывать интерес детей к объектам природ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ние любви к природе, бережному отношению к н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одзаголовок 2"/>
          <p:cNvSpPr/>
          <p:nvPr/>
        </p:nvSpPr>
        <p:spPr>
          <a:xfrm>
            <a:off x="611280" y="1557360"/>
            <a:ext cx="6697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агается получить результаты в области экологического воспитания детей : воспитание эмоционального, бережного отношения к березе, как живому объекту мира природы, умение видеть красоту окружающего мира, формирование представлений о поведения в природе и в быту. явлениях и закономерностях в природном мире; привитие навыков экологически грамотного поведения в природе и в бы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ме того, предполагается эмоциональное развитие ребенка в целом, формирование умения логически мыслить, обогащение словаря, развитие наблюдательности, любознательности, интереса к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- организационно - подготовитель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борка программно – методического обеспечения для реализации про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ы, экологические сказки о берез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их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овицы и поговор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ртины с изображением берез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идактические игры «Найди березу»,«Ласковые слова»,«Назови и покажи части дерев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полнение предметно – развивающей сред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готовление дидактических иг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то лишнее», «Что от чего», «Какого дерева листок», «Составь картинк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бор  материала для изготовления поделок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мини – лаборатории для исследования березы (кора, лист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уголка экспериментальной деятельности дл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рорастанием корешков у веточки бере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6553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-  прак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оекта через взаимодействие с  родителями; активное внедр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радиционных форм работы с детьми, в т. ч. проективно – игровую деятельно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дение цикла экологических занятий для детей «Знакомство с деревом береза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скурсии  по участку для прогулок к берез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учивание стихотворений о берез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нятия по рисованию «Белая береза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блюдение за прорастанием корешков у веточки бере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6553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- заключитель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достижения целей и полученных результат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ставление диагностических карт и проведение диагностики с целью выявления знаний у детей по теме «Белая береза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дение анкетирования родителей на тему «Чему мы научились, участвуя в проекте «Белая берез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лючительная беседа с детьми: «Что мы узнали о березе?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611280" y="2350440"/>
            <a:ext cx="66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Литерату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Николаева, С. Н. Юный эколог: программа экологического воспитания в детском саду / С. Н. Николаева. – М.: Мозаика-Синтез, 2010. - 107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Николаева, С. Н. Юный эколог: система работы в младшей группе детского сада: для работы с детьми 2-4 лет / С. Н. Николаева. - Москва : Мозаика-Синтез, 2010. - 76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.В.Гербова, А.И. Максакова «Занятия по развитию речи в первой младшей группе детского сада». – М.: Просвещение, 1986 -  1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Н.Е. Веракс, Т.С. Комарова, М.А. Васильева ФГТ ДОУ «Комплексные занятия». – Волгоград.: Учитель, 2011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кофьев описывает берёзку в своём стихотворени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лю берёзку русскую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 светлую, то грустную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белёном сарафанчике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 платочками в карманчиках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 красивыми застёжк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 зелёными серёж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лю её нарядную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ную, ненаглядную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 яркую, кипучую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 грустную, плакучу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лю берёзку русскую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а всегда с подружк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 ветром низко клонитс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гнётся – но не ломится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8:46:37Z</dcterms:created>
  <dc:creator>U7</dc:creator>
  <dc:description/>
  <dc:language>en-US</dc:language>
  <cp:lastModifiedBy>U7</cp:lastModifiedBy>
  <dcterms:modified xsi:type="dcterms:W3CDTF">2019-10-14T20:01:03Z</dcterms:modified>
  <cp:revision>8</cp:revision>
  <dc:subject/>
  <dc:title>Проект по экологии для детей младшего дошкольного возраста</dc:title>
</cp:coreProperties>
</file>