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9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.jpeg" ContentType="image/jpeg"/>
  <Override PartName="/ppt/media/image37.jpeg" ContentType="image/jpeg"/>
  <Override PartName="/ppt/media/image1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F6B-B201-494F-8382-6D6245B1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EA6-4534-4DD4-A68B-C9EB47E0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FB5-D66A-4939-9695-1BC0AC80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D11-22D1-4AA4-B475-384C200B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8EA-F442-4C9D-AB61-16D51E1F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C13-A6F7-4B4D-B4E4-0C91A61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4D0-C5D1-46F4-81DE-A2AD2F07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A45-850B-4045-A4A1-10433E7C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8C6-AA56-4A4D-B8AE-D949692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860-6B1E-4003-AB63-BF3A01C9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FB6-C357-4EFC-95E4-893ED54D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361-85B1-4F77-ADD4-9A6B5B86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B3E3-0767-4BDD-8EE1-0D671C7F4C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ДЕРЕВЯННАЯ МАТРЁШК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500440"/>
            <a:ext cx="69152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исаметдинова Л. 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ДОУ № 414 г. Каза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2571840" cy="3610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214960" y="1785960"/>
            <a:ext cx="2521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ЗАГОРСКАЯ МАТРЁШК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3280" y="1571400"/>
            <a:ext cx="38577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Загорских матрёшек расписывают сарафан, платочки. Узоры очень прост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м"/>
          <p:cNvPicPr/>
          <p:nvPr/>
        </p:nvPicPr>
        <p:blipFill>
          <a:blip r:embed="rId1"/>
          <a:stretch/>
        </p:blipFill>
        <p:spPr>
          <a:xfrm>
            <a:off x="1000080" y="1643040"/>
            <a:ext cx="3214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УГАДАЙ МАТРЁШКУ 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214960" y="2214720"/>
            <a:ext cx="2928960" cy="4095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1360" y="1285560"/>
            <a:ext cx="691164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ХОВСКО – МАЙДАН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м"/>
          <p:cNvPicPr/>
          <p:nvPr/>
        </p:nvPicPr>
        <p:blipFill>
          <a:blip r:embed="rId2"/>
          <a:srcRect l="0" t="0" r="0" b="-406"/>
          <a:stretch/>
        </p:blipFill>
        <p:spPr>
          <a:xfrm>
            <a:off x="1214280" y="2214720"/>
            <a:ext cx="292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293"/>
                </a:solidFill>
                <a:latin typeface="Arial"/>
              </a:rPr>
              <a:t>ПОЛХОВСКО – МАЙДАНСКАЯ</a:t>
            </a:r>
            <a:br>
              <a:rPr sz="3600"/>
            </a:br>
            <a:r>
              <a:rPr b="0" lang="ru-RU" sz="3600" spc="-1" strike="noStrike">
                <a:solidFill>
                  <a:srgbClr val="dfd293"/>
                </a:solidFill>
                <a:latin typeface="Arial"/>
              </a:rPr>
              <a:t>МАТРЁШКА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5800" y="1600200"/>
            <a:ext cx="42865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устя несколько десятилетий возникает ещё один центр изготовления матрёшки – село Полховский Майдан с близлежащей деревней Крутец. Эти матрёшки отличает крупная «крестьянская» роспись, яркий колори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м"/>
          <p:cNvPicPr/>
          <p:nvPr/>
        </p:nvPicPr>
        <p:blipFill>
          <a:blip r:embed="rId1"/>
          <a:srcRect l="0" t="0" r="0" b="-406"/>
          <a:stretch/>
        </p:blipFill>
        <p:spPr>
          <a:xfrm>
            <a:off x="857160" y="1600200"/>
            <a:ext cx="328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УГАДАЙ МАТРЁШКУ 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000760" y="1928880"/>
            <a:ext cx="3286080" cy="4429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9720" y="1071720"/>
            <a:ext cx="705636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" descr="C:\Users\Резеда\Downloads\_________________4a9d2a7b84b6f.jpg"/>
          <p:cNvPicPr/>
          <p:nvPr/>
        </p:nvPicPr>
        <p:blipFill>
          <a:blip r:embed="rId2"/>
          <a:stretch/>
        </p:blipFill>
        <p:spPr>
          <a:xfrm>
            <a:off x="785880" y="1928880"/>
            <a:ext cx="35719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АВТОРСКИЕ МАТРЁШ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71680" y="4000680"/>
            <a:ext cx="4260600" cy="24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Набор матрешек \&quot;Русь Великая\&quot;, арт.1503"/>
          <p:cNvPicPr/>
          <p:nvPr/>
        </p:nvPicPr>
        <p:blipFill>
          <a:blip r:embed="rId2"/>
          <a:stretch/>
        </p:blipFill>
        <p:spPr>
          <a:xfrm>
            <a:off x="4500720" y="1357200"/>
            <a:ext cx="4052880" cy="22147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453852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2" descr="C:\Users\Резеда\Downloads\1350332740_11.jpg"/>
          <p:cNvPicPr/>
          <p:nvPr/>
        </p:nvPicPr>
        <p:blipFill>
          <a:blip r:embed="rId3"/>
          <a:stretch/>
        </p:blipFill>
        <p:spPr>
          <a:xfrm>
            <a:off x="5572080" y="3786120"/>
            <a:ext cx="2925720" cy="2643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C:\Users\Резеда\Downloads\1350332718_12.jpg"/>
          <p:cNvPicPr/>
          <p:nvPr/>
        </p:nvPicPr>
        <p:blipFill>
          <a:blip r:embed="rId4"/>
          <a:stretch/>
        </p:blipFill>
        <p:spPr>
          <a:xfrm>
            <a:off x="571680" y="1357200"/>
            <a:ext cx="321444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53852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C:\Users\Резеда\Downloads\1350332769_2.jpg"/>
          <p:cNvPicPr/>
          <p:nvPr/>
        </p:nvPicPr>
        <p:blipFill>
          <a:blip r:embed="rId1"/>
          <a:stretch/>
        </p:blipFill>
        <p:spPr>
          <a:xfrm>
            <a:off x="571680" y="357120"/>
            <a:ext cx="454644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Резеда\Downloads\1350942611_9.jpg"/>
          <p:cNvPicPr/>
          <p:nvPr/>
        </p:nvPicPr>
        <p:blipFill>
          <a:blip r:embed="rId2"/>
          <a:stretch/>
        </p:blipFill>
        <p:spPr>
          <a:xfrm>
            <a:off x="5572080" y="357120"/>
            <a:ext cx="3017880" cy="314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Резеда\Downloads\1350942656_6_.jpg"/>
          <p:cNvPicPr/>
          <p:nvPr/>
        </p:nvPicPr>
        <p:blipFill>
          <a:blip r:embed="rId3"/>
          <a:stretch/>
        </p:blipFill>
        <p:spPr>
          <a:xfrm>
            <a:off x="4071960" y="3643200"/>
            <a:ext cx="4500720" cy="265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Резеда\Downloads\1350942588_8.jpg"/>
          <p:cNvPicPr/>
          <p:nvPr/>
        </p:nvPicPr>
        <p:blipFill>
          <a:blip r:embed="rId4"/>
          <a:stretch/>
        </p:blipFill>
        <p:spPr>
          <a:xfrm>
            <a:off x="571680" y="3198960"/>
            <a:ext cx="300024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C:\Users\Резеда\Downloads\1350942588_5.jpg"/>
          <p:cNvPicPr/>
          <p:nvPr/>
        </p:nvPicPr>
        <p:blipFill>
          <a:blip r:embed="rId1"/>
          <a:stretch/>
        </p:blipFill>
        <p:spPr>
          <a:xfrm>
            <a:off x="4143240" y="500040"/>
            <a:ext cx="442944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C:\Users\Резеда\Downloads\1350942606_3.jpg"/>
          <p:cNvPicPr/>
          <p:nvPr/>
        </p:nvPicPr>
        <p:blipFill>
          <a:blip r:embed="rId2"/>
          <a:stretch/>
        </p:blipFill>
        <p:spPr>
          <a:xfrm>
            <a:off x="571680" y="428760"/>
            <a:ext cx="2847960" cy="595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Резеда\Downloads\1350942663_6.jpg"/>
          <p:cNvPicPr/>
          <p:nvPr/>
        </p:nvPicPr>
        <p:blipFill>
          <a:blip r:embed="rId3"/>
          <a:stretch/>
        </p:blipFill>
        <p:spPr>
          <a:xfrm>
            <a:off x="4786200" y="3857760"/>
            <a:ext cx="378648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Роспись матрешки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ый этап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шей работы – это карандашный эскиз на загото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эскиз готов, можно приступать к выполнению в цвете – это буд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торой этап</a:t>
            </a:r>
            <a:r>
              <a:rPr b="1" lang="ru-RU" sz="2400" spc="-1" strike="noStrike">
                <a:solidFill>
                  <a:srgbClr val="ffb3b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шей матр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пись сараф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C:\Users\Резеда\Downloads\120921050203.jpg"/>
          <p:cNvPicPr/>
          <p:nvPr/>
        </p:nvPicPr>
        <p:blipFill>
          <a:blip r:embed="rId1"/>
          <a:stretch/>
        </p:blipFill>
        <p:spPr>
          <a:xfrm>
            <a:off x="857160" y="4133880"/>
            <a:ext cx="3429000" cy="229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Резеда\Downloads\120921050204.jpg"/>
          <p:cNvPicPr/>
          <p:nvPr/>
        </p:nvPicPr>
        <p:blipFill>
          <a:blip r:embed="rId2"/>
          <a:stretch/>
        </p:blipFill>
        <p:spPr>
          <a:xfrm>
            <a:off x="4572000" y="3786120"/>
            <a:ext cx="3949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500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лицо матр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твертый этап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боты- выполнения лица в цве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C:\Users\Резеда\Downloads\120921050531.jpg"/>
          <p:cNvPicPr/>
          <p:nvPr/>
        </p:nvPicPr>
        <p:blipFill>
          <a:blip r:embed="rId1"/>
          <a:stretch/>
        </p:blipFill>
        <p:spPr>
          <a:xfrm>
            <a:off x="642960" y="4500720"/>
            <a:ext cx="3071880" cy="205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Резеда\Downloads\120921050206.jpg"/>
          <p:cNvPicPr/>
          <p:nvPr/>
        </p:nvPicPr>
        <p:blipFill>
          <a:blip r:embed="rId2"/>
          <a:stretch/>
        </p:blipFill>
        <p:spPr>
          <a:xfrm>
            <a:off x="5357880" y="2214720"/>
            <a:ext cx="3143160" cy="210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Резеда\Downloads\120921050206..jpg"/>
          <p:cNvPicPr/>
          <p:nvPr/>
        </p:nvPicPr>
        <p:blipFill>
          <a:blip r:embed="rId3"/>
          <a:stretch/>
        </p:blipFill>
        <p:spPr>
          <a:xfrm>
            <a:off x="4572000" y="4500720"/>
            <a:ext cx="3071880" cy="2055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Резеда\Downloads\120921050205.jpg"/>
          <p:cNvPicPr/>
          <p:nvPr/>
        </p:nvPicPr>
        <p:blipFill>
          <a:blip r:embed="rId4"/>
          <a:stretch/>
        </p:blipFill>
        <p:spPr>
          <a:xfrm>
            <a:off x="1428840" y="2286000"/>
            <a:ext cx="30718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7858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стается оживка. Оживка- это прорисовывание самых мелких дета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будет последний –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ятый этап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C:\Users\Резеда\Downloads\120921050208.jpg"/>
          <p:cNvPicPr/>
          <p:nvPr/>
        </p:nvPicPr>
        <p:blipFill>
          <a:blip r:embed="rId1"/>
          <a:stretch/>
        </p:blipFill>
        <p:spPr>
          <a:xfrm>
            <a:off x="3071880" y="3000240"/>
            <a:ext cx="485784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404640"/>
            <a:ext cx="568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МАТРЁШК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ый шёлковый плато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кий сарафан в цветоче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ирается рука в деревянные б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нутри секреты ес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3, а может 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мянилась немнож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а русская матрё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Музей матрёш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9" name="Picture 2" descr="C:\Users\Резеда\Downloads\961_ob_001.jpg"/>
          <p:cNvPicPr/>
          <p:nvPr/>
        </p:nvPicPr>
        <p:blipFill>
          <a:blip r:embed="rId1"/>
          <a:stretch/>
        </p:blipFill>
        <p:spPr>
          <a:xfrm>
            <a:off x="571680" y="2214720"/>
            <a:ext cx="3929040" cy="410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Резеда\Downloads\961_ob_002.jpg"/>
          <p:cNvPicPr/>
          <p:nvPr/>
        </p:nvPicPr>
        <p:blipFill>
          <a:blip r:embed="rId2"/>
          <a:stretch/>
        </p:blipFill>
        <p:spPr>
          <a:xfrm>
            <a:off x="5286240" y="12859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Резеда\Downloads\961_ob_003.jpg"/>
          <p:cNvPicPr/>
          <p:nvPr/>
        </p:nvPicPr>
        <p:blipFill>
          <a:blip r:embed="rId3"/>
          <a:stretch/>
        </p:blipFill>
        <p:spPr>
          <a:xfrm>
            <a:off x="5286240" y="3929040"/>
            <a:ext cx="32623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28400" y="1285920"/>
            <a:ext cx="5072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матрёшку сделал, я не зна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известно мне, что сотни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с Ванькой – Встаньк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жив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оряет кукла белый с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он краски брал, искус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ивах шумных, в сказоч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л образ неуёмной стр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инную русскую кра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C:\Users\Резеда\Downloads\_________________4a9d2df76d5c4.jpg"/>
          <p:cNvPicPr/>
          <p:nvPr/>
        </p:nvPicPr>
        <p:blipFill>
          <a:blip r:embed="rId1"/>
          <a:stretch/>
        </p:blipFill>
        <p:spPr>
          <a:xfrm>
            <a:off x="5429160" y="1357200"/>
            <a:ext cx="3071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71320" y="836280"/>
            <a:ext cx="8032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щеках навёл зари румянец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ба синь всплеснул в её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, пустив в неповторимый танец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, должно быть, весело сказа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Ну и пой, гуляй теперь по свет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ели себя честной народ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матрёшка через всю плане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сих пор уверенно идё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тупает гордо, велича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удалой улыбкой на лиц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летит за ней по миру сл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безвестном мастере – творце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C:\Users\Резеда\Downloads\79020355_4278666_70390267_38653255_1232833584_matryoshka.jpg"/>
          <p:cNvPicPr/>
          <p:nvPr/>
        </p:nvPicPr>
        <p:blipFill>
          <a:blip r:embed="rId1"/>
          <a:stretch/>
        </p:blipFill>
        <p:spPr>
          <a:xfrm>
            <a:off x="5643720" y="1643040"/>
            <a:ext cx="2895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:\Users\Резеда\Downloads\63028128_1282464038_M15003.jpg"/>
          <p:cNvPicPr/>
          <p:nvPr/>
        </p:nvPicPr>
        <p:blipFill>
          <a:blip r:embed="rId1"/>
          <a:stretch/>
        </p:blipFill>
        <p:spPr>
          <a:xfrm>
            <a:off x="428760" y="1071720"/>
            <a:ext cx="83422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064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ВОЗНИКНОВЕНИЕ МАТРЁШ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473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ческая родина матрёшки – Индия, Китай, Япония. Около 100 лет назад японская народная игрушка Дарума кукла – неваляшка попала в Россию. Одна из них оказалась в Абрамцеве, где в это время среди мастеров и художников Саввы Мамонтова шёл активный поиск новых форм прикладного искусства. Художники сделали похожую очертаниями на Даруму куклу – матрёшку: русскую девушку в сарафане с петухом в ру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С1890 года началось массовое производство матрёшки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917640" y="1600200"/>
            <a:ext cx="730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УГАДАЙ МАТРЁШКУ 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5072040" y="2214720"/>
            <a:ext cx="3295800" cy="4167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7416720" cy="14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м3"/>
          <p:cNvPicPr/>
          <p:nvPr/>
        </p:nvPicPr>
        <p:blipFill>
          <a:blip r:embed="rId2"/>
          <a:stretch/>
        </p:blipFill>
        <p:spPr>
          <a:xfrm>
            <a:off x="857160" y="2143080"/>
            <a:ext cx="33577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ервая «Матрёшка»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была круглолицая румяная девушка в цветастом платке, сарафане с чёрным петухом в руке. Игрушка состояла из восьми фигурок. Девочки чередовались с мальчиками, а венчал это семейство спеленатый младене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1" descr="м3"/>
          <p:cNvPicPr/>
          <p:nvPr/>
        </p:nvPicPr>
        <p:blipFill>
          <a:blip r:embed="rId1"/>
          <a:stretch/>
        </p:blipFill>
        <p:spPr>
          <a:xfrm>
            <a:off x="857160" y="1500120"/>
            <a:ext cx="328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34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УГАДАЙ МАТРЁШКУ 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3143160" cy="4367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440" y="1142640"/>
            <a:ext cx="7489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ЁНОВ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м"/>
          <p:cNvPicPr/>
          <p:nvPr/>
        </p:nvPicPr>
        <p:blipFill>
          <a:blip r:embed="rId2"/>
          <a:stretch/>
        </p:blipFill>
        <p:spPr>
          <a:xfrm>
            <a:off x="5072040" y="1928880"/>
            <a:ext cx="3071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МАТРЁШКА СЕМЁНОВСКА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4240" y="1600200"/>
            <a:ext cx="37814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922 года начинают производить матрёшку в городе Семёнове Нижегородской губернии. Роспись семёновской матрёшки восходит к традиции «травного» орнамента Древней Руси. Основа композиции главная особенность – использование трёх основных цветов: красного, жёлтого и зелё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7" descr="м"/>
          <p:cNvPicPr/>
          <p:nvPr/>
        </p:nvPicPr>
        <p:blipFill>
          <a:blip r:embed="rId1"/>
          <a:stretch/>
        </p:blipFill>
        <p:spPr>
          <a:xfrm>
            <a:off x="5429160" y="1571760"/>
            <a:ext cx="2857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УГАДАЙ МАТРЁШКУ 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857160" y="2000160"/>
            <a:ext cx="3286080" cy="4395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8800" y="1213920"/>
            <a:ext cx="712944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Р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м"/>
          <p:cNvPicPr/>
          <p:nvPr/>
        </p:nvPicPr>
        <p:blipFill>
          <a:blip r:embed="rId2"/>
          <a:stretch/>
        </p:blipFill>
        <p:spPr>
          <a:xfrm>
            <a:off x="5072040" y="2000160"/>
            <a:ext cx="3143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2:00:55Z</dcterms:created>
  <dc:creator>Admin</dc:creator>
  <dc:description/>
  <dc:language>en-US</dc:language>
  <cp:lastModifiedBy>Резеда</cp:lastModifiedBy>
  <dcterms:modified xsi:type="dcterms:W3CDTF">2019-10-14T17:51:38Z</dcterms:modified>
  <cp:revision>53</cp:revision>
  <dc:subject/>
  <dc:title>ДЕРЕВЯННАЯ МАТРЁШКА</dc:title>
</cp:coreProperties>
</file>