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07A-B190-4C74-9859-1AE51F10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547-481C-467E-8A1F-1E68FC21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D23-5256-4F57-9A72-A3AE8824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E51-D80F-43F0-BF8B-F09B4EAF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6B7-958B-4B4C-BA70-2D0EF1F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D36-8363-450E-B734-8C8F8EB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8A6-2817-447D-AB2E-7620E8B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180-03A6-48F4-A801-C61DFAA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AE3-1A4E-4923-9A7D-603B4E66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05A-FCC8-4EAB-A0D6-B0144EA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64B-0542-4506-86B7-4DFC65D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496-79C1-4ACF-9E50-AA1A986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F43-D3BF-42F2-A196-D3DBA1451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32000" y="324324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411280" y="5805360"/>
            <a:ext cx="4572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венина Екатерина Александ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БОУ «Начальная школа - детский сад №1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Константин</cp:lastModifiedBy>
  <dcterms:modified xsi:type="dcterms:W3CDTF">2019-10-10T08:14:52Z</dcterms:modified>
  <cp:revision>7</cp:revision>
  <dc:subject/>
  <dc:title>Слайд 1</dc:title>
</cp:coreProperties>
</file>