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A81-0C1E-4B2B-AC56-632955B5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BF5-CA62-48DE-B070-7C959F9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A45-C116-443C-A114-2D296184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700-1BB6-4C62-A57A-BCEE0C46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214-5363-4D5A-9DCD-096AE0B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91C-548B-4647-93E4-80F99E16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071-DC9E-4804-88BA-B659F4B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BD3-DD65-4425-96DD-3BF25388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A7F-26E5-4010-88D4-52D1E7F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8B5-136C-40BF-BED2-198251B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9E8-6131-4637-B673-8C7A229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548-D2DF-4E7A-B90E-497C12B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9B8-F845-48A9-AC72-176D2A699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395360" y="549360"/>
            <a:ext cx="6632640" cy="267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99160" y="2703600"/>
            <a:ext cx="92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ntiqua"/>
              </a:rPr>
              <a:t>Цель: развивать умение ориентироваться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j49379_1246858299.png"/>
          <p:cNvPicPr/>
          <p:nvPr/>
        </p:nvPicPr>
        <p:blipFill>
          <a:blip r:embed="rId3"/>
          <a:stretch/>
        </p:blipFill>
        <p:spPr>
          <a:xfrm>
            <a:off x="3132000" y="2986200"/>
            <a:ext cx="2457720" cy="3071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360" y="350028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j54190_1231180876.png"/>
          <p:cNvPicPr/>
          <p:nvPr/>
        </p:nvPicPr>
        <p:blipFill>
          <a:blip r:embed="rId6"/>
          <a:stretch/>
        </p:blipFill>
        <p:spPr>
          <a:xfrm>
            <a:off x="176040" y="3637080"/>
            <a:ext cx="2934000" cy="2933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4498920" y="5857920"/>
            <a:ext cx="45720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оспитатель: Свенина Екатерина Александ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БОУ «Начальная школа - детский сад №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верх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j49379_1246858299.png"/>
          <p:cNvPicPr/>
          <p:nvPr/>
        </p:nvPicPr>
        <p:blipFill>
          <a:blip r:embed="rId1"/>
          <a:stretch/>
        </p:blipFill>
        <p:spPr>
          <a:xfrm>
            <a:off x="2928960" y="2000160"/>
            <a:ext cx="3386160" cy="4232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67264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правом верхне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j68067_123451977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23572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856600" y="1285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j54190_1231180876.png"/>
          <p:cNvPicPr/>
          <p:nvPr/>
        </p:nvPicPr>
        <p:blipFill>
          <a:blip r:embed="rId1"/>
          <a:stretch/>
        </p:blipFill>
        <p:spPr>
          <a:xfrm>
            <a:off x="2357280" y="2143080"/>
            <a:ext cx="4149720" cy="4149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2286000" y="1071720"/>
            <a:ext cx="48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пра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91ed58879d0f.png"/>
          <p:cNvPicPr/>
          <p:nvPr/>
        </p:nvPicPr>
        <p:blipFill>
          <a:blip r:embed="rId1"/>
          <a:stretch/>
        </p:blipFill>
        <p:spPr>
          <a:xfrm>
            <a:off x="3000240" y="1643040"/>
            <a:ext cx="2648160" cy="46148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458440" y="50004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серед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post-30397-1234556612.png"/>
          <p:cNvPicPr/>
          <p:nvPr/>
        </p:nvPicPr>
        <p:blipFill>
          <a:blip r:embed="rId1"/>
          <a:stretch/>
        </p:blipFill>
        <p:spPr>
          <a:xfrm>
            <a:off x="2857680" y="1928880"/>
            <a:ext cx="4485960" cy="4486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27442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42:25Z</dcterms:created>
  <dc:creator>storm</dc:creator>
  <dc:description/>
  <dc:language>en-US</dc:language>
  <cp:lastModifiedBy>Admin</cp:lastModifiedBy>
  <dcterms:modified xsi:type="dcterms:W3CDTF">2019-10-07T10:47:00Z</dcterms:modified>
  <cp:revision>6</cp:revision>
  <dc:subject/>
  <dc:title>Слайд 1</dc:title>
</cp:coreProperties>
</file>