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applause.wav" ContentType="audio/x-wav"/>
  <Override PartName="/ppt/media/image10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79C-C6D5-4C28-8231-0D53780D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85F-9A33-4AD1-A070-9F489B0B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158-0985-418A-9AC2-E27059F9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D45-A6C9-4FD9-B71C-12422B19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200-407F-4CAF-A678-57E92B59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A5B-B828-4A9F-80C2-753FD308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561-7514-42B9-BB32-621C2A75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9FA-0980-47BD-B9CB-A69BB3D5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9F0-4C6D-4DD5-A0D9-E4DFA06A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041-8B48-4A09-AB2B-6F21CE67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894-5E51-4C11-9BD4-A7722AC3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A2A-DF3D-48C1-871E-78BBC541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AA16-7045-48F6-BE86-517EF7BC1A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" Target="slide9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Antiqua HW"/>
              </a:rPr>
              <a:t>Слева, справа…</a:t>
            </a:r>
            <a:br>
              <a:rPr sz="4000"/>
            </a:br>
            <a:r>
              <a:rPr b="1" lang="ru-RU" sz="2200" spc="-1" strike="noStrike">
                <a:solidFill>
                  <a:srgbClr val="77933c"/>
                </a:solidFill>
                <a:latin typeface="Ampir Deco"/>
              </a:rPr>
              <a:t>Цель: закрепление пространственных представлений (слева, справ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affb74e76dc0.png"/>
          <p:cNvPicPr/>
          <p:nvPr/>
        </p:nvPicPr>
        <p:blipFill>
          <a:blip r:embed="rId1"/>
          <a:stretch/>
        </p:blipFill>
        <p:spPr>
          <a:xfrm>
            <a:off x="7143840" y="0"/>
            <a:ext cx="1698480" cy="25858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b3df46a0c6f8.png"/>
          <p:cNvPicPr/>
          <p:nvPr/>
        </p:nvPicPr>
        <p:blipFill>
          <a:blip r:embed="rId2"/>
          <a:stretch/>
        </p:blipFill>
        <p:spPr>
          <a:xfrm>
            <a:off x="6421320" y="3637080"/>
            <a:ext cx="2421000" cy="1955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b79290a9e9f1.png"/>
          <p:cNvPicPr/>
          <p:nvPr/>
        </p:nvPicPr>
        <p:blipFill>
          <a:blip r:embed="rId3"/>
          <a:stretch/>
        </p:blipFill>
        <p:spPr>
          <a:xfrm>
            <a:off x="500040" y="3284640"/>
            <a:ext cx="2774880" cy="2658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ade75f1d903a.png"/>
          <p:cNvPicPr/>
          <p:nvPr/>
        </p:nvPicPr>
        <p:blipFill>
          <a:blip r:embed="rId4"/>
          <a:stretch/>
        </p:blipFill>
        <p:spPr>
          <a:xfrm>
            <a:off x="357120" y="428760"/>
            <a:ext cx="248292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3916440" y="5943600"/>
            <a:ext cx="5010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Воспитатель: Свенина Екатерина Александро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МБОУ «Начальная школа - детский сад №1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974600" y="4714920"/>
            <a:ext cx="538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AlgeriusBlw"/>
              </a:rPr>
              <a:t>Что расположено спра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9b400aa7d8cf.png"/>
          <p:cNvPicPr/>
          <p:nvPr/>
        </p:nvPicPr>
        <p:blipFill>
          <a:blip r:embed="rId1"/>
          <a:stretch/>
        </p:blipFill>
        <p:spPr>
          <a:xfrm>
            <a:off x="928800" y="1214280"/>
            <a:ext cx="2960640" cy="250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36c835dd2677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86280" y="714240"/>
            <a:ext cx="1760760" cy="2938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357280" y="135720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_Latino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36c835dd2677.png"/>
          <p:cNvPicPr/>
          <p:nvPr/>
        </p:nvPicPr>
        <p:blipFill>
          <a:blip r:embed="rId1"/>
          <a:stretch/>
        </p:blipFill>
        <p:spPr>
          <a:xfrm>
            <a:off x="3500280" y="2643120"/>
            <a:ext cx="1760760" cy="293868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1829160" y="4857840"/>
            <a:ext cx="57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AlgeriusBlw"/>
              </a:rPr>
              <a:t>Что расположено сле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f04bf0cef1dc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5840" y="785880"/>
            <a:ext cx="3346200" cy="37497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1ef8da11d380.png"/>
          <p:cNvPicPr/>
          <p:nvPr/>
        </p:nvPicPr>
        <p:blipFill>
          <a:blip r:embed="rId3"/>
          <a:stretch/>
        </p:blipFill>
        <p:spPr>
          <a:xfrm>
            <a:off x="5143680" y="1071720"/>
            <a:ext cx="3246120" cy="30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2357280" y="135720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_Latino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6" descr="f04bf0cef1dc.png"/>
          <p:cNvPicPr/>
          <p:nvPr/>
        </p:nvPicPr>
        <p:blipFill>
          <a:blip r:embed="rId1"/>
          <a:stretch/>
        </p:blipFill>
        <p:spPr>
          <a:xfrm>
            <a:off x="2643120" y="2500200"/>
            <a:ext cx="3346560" cy="3749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826640" y="4857840"/>
            <a:ext cx="56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AlgeriusBlw"/>
              </a:rPr>
              <a:t>Что расположено сле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AlgeriusBlw"/>
              </a:rPr>
              <a:t>от ябло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f04bf0cef1dc.png"/>
          <p:cNvPicPr/>
          <p:nvPr/>
        </p:nvPicPr>
        <p:blipFill>
          <a:blip r:embed="rId1"/>
          <a:stretch/>
        </p:blipFill>
        <p:spPr>
          <a:xfrm>
            <a:off x="3357720" y="1357200"/>
            <a:ext cx="2388960" cy="2678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8a213a604fdd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0040" y="1928880"/>
            <a:ext cx="2654280" cy="20098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8c4d6d3ac3e5.png"/>
          <p:cNvPicPr/>
          <p:nvPr/>
        </p:nvPicPr>
        <p:blipFill>
          <a:blip r:embed="rId4"/>
          <a:stretch/>
        </p:blipFill>
        <p:spPr>
          <a:xfrm>
            <a:off x="5754600" y="1357200"/>
            <a:ext cx="3389400" cy="28400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2357280" y="135720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_Latino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" descr="8a213a604fdd.png"/>
          <p:cNvPicPr/>
          <p:nvPr/>
        </p:nvPicPr>
        <p:blipFill>
          <a:blip r:embed="rId1"/>
          <a:stretch/>
        </p:blipFill>
        <p:spPr>
          <a:xfrm>
            <a:off x="2786040" y="2643120"/>
            <a:ext cx="3726000" cy="282276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2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1829160" y="4857840"/>
            <a:ext cx="594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AlgeriusBlw"/>
              </a:rPr>
              <a:t>Что расположено спра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AlgeriusBlw"/>
              </a:rPr>
              <a:t>от капус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8c4d6d3ac3e5.png"/>
          <p:cNvPicPr/>
          <p:nvPr/>
        </p:nvPicPr>
        <p:blipFill>
          <a:blip r:embed="rId1"/>
          <a:stretch/>
        </p:blipFill>
        <p:spPr>
          <a:xfrm>
            <a:off x="3000240" y="1428840"/>
            <a:ext cx="3389400" cy="28400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affb74e76dc0.png"/>
          <p:cNvPicPr/>
          <p:nvPr/>
        </p:nvPicPr>
        <p:blipFill>
          <a:blip r:embed="rId2"/>
          <a:stretch/>
        </p:blipFill>
        <p:spPr>
          <a:xfrm>
            <a:off x="1138320" y="1357200"/>
            <a:ext cx="1690560" cy="2571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b3df46a0c6f8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15040" y="1500120"/>
            <a:ext cx="2725920" cy="220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2357280" y="135720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_Latino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b3df46a0c6f8.png"/>
          <p:cNvPicPr/>
          <p:nvPr/>
        </p:nvPicPr>
        <p:blipFill>
          <a:blip r:embed="rId1"/>
          <a:stretch/>
        </p:blipFill>
        <p:spPr>
          <a:xfrm>
            <a:off x="2857680" y="2714760"/>
            <a:ext cx="3439800" cy="2779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6:10:15Z</dcterms:created>
  <dc:creator>storm</dc:creator>
  <dc:description/>
  <dc:language>en-US</dc:language>
  <cp:lastModifiedBy>Admin</cp:lastModifiedBy>
  <dcterms:modified xsi:type="dcterms:W3CDTF">2019-10-07T10:48:09Z</dcterms:modified>
  <cp:revision>6</cp:revision>
  <dc:subject/>
  <dc:title>Слева, справа…</dc:title>
</cp:coreProperties>
</file>