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8A16-004C-4440-9362-FBA43EB6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6B8A-40FC-4FDA-B6CD-F738FF85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332A-BC76-4A95-8658-09A9AA62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9233-0C7F-440F-B8B5-CCB4D7777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68CF-86E6-4E17-8579-AE5C020F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300C-7D5E-4DE9-B0BC-07767459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F29D-5919-4023-9576-19355C68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860A-A909-4196-A64E-12183290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B5D1-AF3D-4217-9D17-FD02FA3C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E155-65A3-4F1B-9B2A-D5A2DA20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A9C8-8962-48DA-B92E-3AE13F8E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F110-5D1F-4236-9055-B8EC6188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AB9F-CBA2-482C-AC6F-51F4D6273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yzdorov.ru/lechenie_stafilokokk_nar.php" TargetMode="External"/><Relationship Id="rId3" Type="http://schemas.openxmlformats.org/officeDocument/2006/relationships/hyperlink" Target="http://www.ayzdorov.ru/lechenie_bessonica_nar.php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Геран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1844640"/>
            <a:ext cx="3311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натная герань - очень красивое, прекрасное растение, которое обладает целым рядом целебных свойств. Герань комнатная может называться еще пеларгонией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т удивительный цветок любит небольшие цветочные горшки, цветет с весны по осень и дарит ежегодно много зелени . Ее цветы необыкновенные, насыщенные разными оттен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95640" y="1628640"/>
            <a:ext cx="4969080" cy="39340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ход за герань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007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Даже неопытному и начинающему цветоводу под силу ухаживать за растением, так как этот цветок крайне неприхотлив и не требует особенного отношения к себе. Очень малый процент того, что герань не приживется в домашних условиях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4392360" cy="33494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675280" y="-5248440"/>
            <a:ext cx="22716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тимальной температур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для цветка считается нормальная комнатная температура. В холодную пору года, наиболее приемлемая температура для цветка от +10 до -15 градусов, поэтому лучше расположить растение на подоконнике или в одном из самых прохладных помещ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касается освещ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то принцип такой: чем больше света, тем лучше. Можно даже позволить некоторое попадание прямых солнечных лучей. Как результат недостатка света, цветок будет иметь мелкие листья и не порадует вас обильностью цве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обенности гера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ань обладает массой полезных свойств для человека. К примеру, растение выделяет в воздух бактерицидные вещества. А эти вещества губят различные виды микробов, в том числе и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тафилокок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лечебных целях используют траву, цветки, корни и листья герани. Препараты из этого растения содержат в себе галловую кислоту, крахмал, пектин, танины и камедь, благодаря которым они оказывают стягивающее действие на организм человека. Герань является препятствием для секреции жидкостей в организме. Рестение применяют при фарингите, носовом и другом кровотечении в качестве кровоостанавливающего сред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ань помогает избавиться от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бессонниц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снять усталость, нормализовать нервную систему. Чай из герани принимают в случае расстройства кишечника или при дизентер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795920" y="1916280"/>
            <a:ext cx="3854520" cy="4392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одина гера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00244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на большинства разновидностей и сортов пеларгонии, в том числе и комнатной герани как исходного растения – Южная Африка, а конкретнее Капская область, которая дала нам множество и других декоративных растений: хлорофитум, кливия, сансевьера. В африканской саванне очень жарко, постоянно светит солнце, а каменистые и песчаные почвы почти не содержат влаги. Растения приспосабливаются к таким засушливым экстремальным условиям и сохраняют запасы воды в утолщенных стеб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56000" y="3500280"/>
            <a:ext cx="5394240" cy="3213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16720" y="-5234040"/>
            <a:ext cx="3697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зже другие виды герани обнаружили в Индии, Австралии, на Мадагаскаре. Вероятно, герань была распространена еще во времена существования древнего единого материка Гондваны В Европу растение попало с моряками в XVI веке, сначала оно вошло в моду среди аристократов, а позднее попало и в дома обычных горожан. Знатные вельможи выращивали герань в своих зимних садах и оранжереях, при дворе дамы украшали цветами одежду и головные уборы. Простые люди тоже с удовольствием выращивали яркий и нетребовательный к уходу цветок, тем более что он обладает полезными для здоровья человека свой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каком интерьере используется гера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подходящая для спальни и детской комнаты, пеларгония заняла свою нишу в гостиной. Большие размеры помещения как бы растворяют в пространстве аромат герани, он не утомляет, как в комнате для сна, и красота новых декоративных сортов не только восхищает, но и побуждает к приобретению новых видов. Единственным условием хорошего цветения является с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788000" y="1341360"/>
            <a:ext cx="4130640" cy="51832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16:04:00Z</dcterms:created>
  <dc:creator>tolik</dc:creator>
  <dc:description/>
  <dc:language>en-US</dc:language>
  <cp:lastModifiedBy>tolik</cp:lastModifiedBy>
  <dcterms:modified xsi:type="dcterms:W3CDTF">2015-04-08T16:42:59Z</dcterms:modified>
  <cp:revision>3</cp:revision>
  <dc:subject/>
  <dc:title>Герань</dc:title>
</cp:coreProperties>
</file>