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A86-5C91-4FF1-8D48-CBACB3CD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917-1CA6-4BF2-947B-9FB4A41C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EF8-EE77-4273-B958-C936A564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090-A3AB-4CB6-B587-8AD05314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0616-E69A-4D36-BC42-4701880F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B6A6-A4D5-467A-8A3A-4B37F168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E66A-457D-4955-BF13-E874A7B1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664C-82CD-4BD0-A4A0-A98B7EA7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2E76-E2B9-4379-9F3C-C8EA54D7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BE96-CFFD-4267-AC42-0A271A3E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6E64-7CAE-417E-9C8B-C6BF433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8C2-BB7C-43B2-9814-E28E50EA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781E-2B70-4483-B9F0-368421E3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82F8-B3B6-4335-9D12-51D6C2AC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BFB1-EEC2-4723-8749-E7FDB56C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D8B1-5918-4105-89B0-A3664B1F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8E6C-BF70-469E-BEA0-E87F31BF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2CB-16BC-45EA-8812-08CC6D16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317-AE7F-4A0E-A9E8-491F6708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021-B285-4877-8916-E6E68DC3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ADC-3B8A-4E6B-A47A-D99BD951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FEA-8119-4B49-96DA-B737F132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EE4-96A8-43AC-B88A-0E728E20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A77-D2B6-4DD3-BC6C-63A23333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378C-3584-4978-8F77-83ACAE6F8A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9206-141D-4AE7-81C0-79A657A47F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9480" y="380880"/>
            <a:ext cx="81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осударственные символы Российской Федерац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ерб, гимн, фла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10080" y="0"/>
            <a:ext cx="3733920" cy="67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идент Российской Федерации – Владимир Владимирович Пут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едеральные законы 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сударственных символах России приняты в декабре 200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525780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Государственный флаг Российской Федерац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лаг России – это ее государственный символ наряду с гимном и герб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ый, синий и красный цвета с древних времен на Руси напоминали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ый цвет – белоствольные березы, белый снег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ний цвет – небо, реки, моря, озера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асный цвет – огонь, солнце, тепло, рад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ый, синий и красный цвета с древних времен на Руси означали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ый цвет – мир, благородство и откровен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ний цвет – верность, честность, безупречность и целомудрие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асный цвет – мужество, смелость, великодушие и любов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Государственный герб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Российской Федерац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рб России – это ее государственный символ наряду с флагом и гим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енный герб Российской Федерации представляет собой четырёхугольный, с закруглёнными нижними углами, заострённый в оконечности красный геральдический щит с золотым двуглавым орлом, поднявшим вверх распущенные крылья. Орёл увенчан двумя малыми коронами и — над ними — одной большой короной, соединёнными лентой. В правой лапе орла — скипетр, в левой — держава. На груди орла, в красном щите, — серебряный всадник в синем плаще на серебряном коне, поражающий серебряным копьём чёрного, опрокинутого навзничь и попранного конём драк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Государственный гимн Российской Федерац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имн России - один из главных официальных государственных символов Российской Федерации, наряду с флагом и герб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узыка и основа текста были заимствованы из гимна Советского Союза, мелодию к которому написал Александр Александров на стихи Сергея Михалк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0:55:18Z</dcterms:created>
  <dc:creator>Ярославна</dc:creator>
  <dc:description/>
  <dc:language>en-US</dc:language>
  <cp:lastModifiedBy>Ярославна</cp:lastModifiedBy>
  <dcterms:modified xsi:type="dcterms:W3CDTF">2015-01-31T12:27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