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10.jpeg" ContentType="image/jpeg"/>
  <Override PartName="/ppt/media/image2.gif" ContentType="image/gif"/>
  <Override PartName="/ppt/media/image5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BE8-5AC9-422B-9ECA-B69F00B7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854-C3F3-4597-9713-1E086513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620-D8D2-4DD7-A3D6-D70EEF1D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D38-CDAD-4AE9-A1AC-A70C41DF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A3F-A7EF-425C-9EA4-F0CB12E3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D6F-3F71-4434-96BD-11C554D1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BA2-87CF-424E-8F0B-E1593B27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ADD-4C80-4B30-A0F0-C3328F34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AF0-9EAC-4306-936E-C7ECC521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2D3-9ECE-49A4-8CD3-1037645A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50D-C823-4D27-88AC-62AFFA4A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16A-71F4-4031-B8CE-E34864D0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B475-4ECA-4B35-AD71-CC72184BD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2.xml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3;&#1077;&#1088;&#1073;" TargetMode="External"/><Relationship Id="rId2" Type="http://schemas.openxmlformats.org/officeDocument/2006/relationships/hyperlink" Target="https://ru.wikipedia.org/wiki/&#1065;&#1080;&#1090;" TargetMode="External"/><Relationship Id="rId3" Type="http://schemas.openxmlformats.org/officeDocument/2006/relationships/hyperlink" Target="https://ru.wikipedia.org/wiki/&#1050;&#1088;&#1091;&#1075;" TargetMode="External"/><Relationship Id="rId4" Type="http://schemas.openxmlformats.org/officeDocument/2006/relationships/hyperlink" Target="https://ru.wikipedia.org/wiki/&#1057;&#1080;&#1085;&#1080;&#1081;_&#1094;&#1074;&#1077;&#1090;" TargetMode="External"/><Relationship Id="rId5" Type="http://schemas.openxmlformats.org/officeDocument/2006/relationships/hyperlink" Target="https://ru.wikipedia.org/wiki/&#1041;&#1077;&#1083;&#1099;&#1081;_&#1094;&#1074;&#1077;&#1090;" TargetMode="External"/><Relationship Id="rId6" Type="http://schemas.openxmlformats.org/officeDocument/2006/relationships/hyperlink" Target="https://ru.wikipedia.org/wiki/&#1046;&#1105;&#1083;&#1090;&#1099;&#1081;_&#1094;&#1074;&#1077;&#1090;" TargetMode="External"/><Relationship Id="rId7" Type="http://schemas.openxmlformats.org/officeDocument/2006/relationships/hyperlink" Target="https://ru.wikipedia.org/wiki/&#1060;&#1083;&#1072;&#1075;" TargetMode="External"/><Relationship Id="rId8" Type="http://schemas.openxmlformats.org/officeDocument/2006/relationships/hyperlink" Target="https://ru.wikipedia.org/wiki/&#1057;&#1086;&#1105;&#1084;&#1073;&#1086;_(&#1089;&#1080;&#1084;&#1074;&#1086;&#1083;)" TargetMode="External"/><Relationship Id="rId9" Type="http://schemas.openxmlformats.org/officeDocument/2006/relationships/hyperlink" Target="https://ru.wikipedia.org/wiki/&#1057;&#1086;&#1083;&#1085;&#1094;&#1077;" TargetMode="External"/><Relationship Id="rId10" Type="http://schemas.openxmlformats.org/officeDocument/2006/relationships/hyperlink" Target="https://ru.wikipedia.org/wiki/&#1051;&#1091;&#1085;&#1072;" TargetMode="External"/><Relationship Id="rId11" Type="http://schemas.openxmlformats.org/officeDocument/2006/relationships/hyperlink" Target="https://ru.wikipedia.org/wiki/&#1054;&#1095;&#1072;&#1075;" TargetMode="External"/><Relationship Id="rId12" Type="http://schemas.openxmlformats.org/officeDocument/2006/relationships/hyperlink" Target="https://ru.wikipedia.org/wiki/&#1041;&#1072;&#1081;&#1082;&#1072;&#1083;" TargetMode="External"/><Relationship Id="rId13" Type="http://schemas.openxmlformats.org/officeDocument/2006/relationships/hyperlink" Target="https://ru.wikipedia.org/wiki/&#1047;&#1077;&#1083;&#1105;&#1085;&#1099;&#1081;_&#1094;&#1074;&#1077;&#1090;" TargetMode="External"/><Relationship Id="rId14" Type="http://schemas.openxmlformats.org/officeDocument/2006/relationships/hyperlink" Target="https://ru.wikipedia.org/wiki/&#1061;&#1072;&#1076;&#1072;&#1082;" TargetMode="External"/><Relationship Id="rId15" Type="http://schemas.openxmlformats.org/officeDocument/2006/relationships/image" Target="../media/image9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0;&#1084;&#1074;&#1086;&#1083;&#1080;&#1082;&#1072;#&#1043;&#1086;&#1089;&#1091;&#1076;&#1072;&#1088;&#1089;&#1090;&#1074;&#1077;&#1085;&#1085;&#1072;&#1103;_&#1089;&#1080;&#1084;&#1074;&#1086;&#1083;&#1080;&#1082;&#1072;" TargetMode="External"/><Relationship Id="rId2" Type="http://schemas.openxmlformats.org/officeDocument/2006/relationships/hyperlink" Target="https://ru.wikipedia.org/wiki/&#1057;&#1080;&#1084;&#1074;&#1086;&#1083;&#1080;&#1082;&#1072;#&#1043;&#1086;&#1089;&#1091;&#1076;&#1072;&#1088;&#1089;&#1090;&#1074;&#1077;&#1085;&#1085;&#1072;&#1103;_&#1089;&#1080;&#1084;&#1074;&#1086;&#1083;&#1080;&#1082;&#1072;" TargetMode="External"/><Relationship Id="rId3" Type="http://schemas.openxmlformats.org/officeDocument/2006/relationships/hyperlink" Target="https://ru.wikipedia.org/wiki/&#1056;&#1086;&#1089;&#1089;&#1080;&#1103;" TargetMode="External"/><Relationship Id="rId4" Type="http://schemas.openxmlformats.org/officeDocument/2006/relationships/hyperlink" Target="https://ru.wikipedia.org/wiki/&#1056;&#1086;&#1089;&#1089;&#1080;&#1103;" TargetMode="External"/><Relationship Id="rId5" Type="http://schemas.openxmlformats.org/officeDocument/2006/relationships/hyperlink" Target="https://ru.wikipedia.org/wiki/&#1060;&#1083;&#1072;&#1075;_&#1056;&#1086;&#1089;&#1089;&#1080;&#1080;#cite_note-1fkz-5" TargetMode="External"/><Relationship Id="rId6" Type="http://schemas.openxmlformats.org/officeDocument/2006/relationships/hyperlink" Target="https://ru.wikipedia.org/wiki/&#1043;&#1077;&#1088;&#1073;_&#1056;&#1086;&#1089;&#1089;&#1080;&#1080;" TargetMode="External"/><Relationship Id="rId7" Type="http://schemas.openxmlformats.org/officeDocument/2006/relationships/image" Target="../media/image2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0854-88E3-4A63-91D2-94CCEB117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072800" y="2071800"/>
            <a:ext cx="716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Baskerville Old Face"/>
              </a:rPr>
              <a:t>ГОСУДАРСТВЕН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Baskerville Old Face"/>
              </a:rPr>
              <a:t>СИМВОЛ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Baskerville Old Face"/>
              </a:rPr>
              <a:t>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флаг России"/>
          <p:cNvPicPr/>
          <p:nvPr/>
        </p:nvPicPr>
        <p:blipFill>
          <a:blip r:embed="rId1"/>
          <a:stretch/>
        </p:blipFill>
        <p:spPr>
          <a:xfrm>
            <a:off x="3492360" y="404640"/>
            <a:ext cx="1533600" cy="1047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ine4.gif (11519 bytes)"/>
          <p:cNvPicPr/>
          <p:nvPr/>
        </p:nvPicPr>
        <p:blipFill>
          <a:blip r:embed="rId2"/>
          <a:stretch/>
        </p:blipFill>
        <p:spPr>
          <a:xfrm>
            <a:off x="0" y="6524640"/>
            <a:ext cx="8820000" cy="14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ne4.gif (11519 bytes)"/>
          <p:cNvPicPr/>
          <p:nvPr/>
        </p:nvPicPr>
        <p:blipFill>
          <a:blip r:embed="rId3"/>
          <a:stretch/>
        </p:blipFill>
        <p:spPr>
          <a:xfrm rot="5400000">
            <a:off x="5483880" y="3264480"/>
            <a:ext cx="6669000" cy="139680"/>
          </a:xfrm>
          <a:prstGeom prst="rect">
            <a:avLst/>
          </a:prstGeom>
          <a:ln w="0">
            <a:noFill/>
          </a:ln>
        </p:spPr>
      </p:pic>
      <p:pic>
        <p:nvPicPr>
          <p:cNvPr id="46" name="01-Gospodi, pomiluy.mp3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южных морей до полярн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лись наши леса и по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ы на свете! Одна ты так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мая Богом родная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5FD7-F399-41BA-8127-FEC457512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ущая от края и д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добрым светом солнечным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ежная, озерная, степ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 счастлива, родная сто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F9C6-4A05-4CEE-B837-D04EF9188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ежная, озерная, степ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добрым светом солнечным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ущая от края и д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 счастлива, родная сто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7B0F-FFEA-45E5-BE14-43EAAE1FA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8DCD-AC99-4907-8871-163825D88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4" descr="Описание: http://www.neoland.ru/images/Yugoslavia2.gif"/>
          <p:cNvPicPr/>
          <p:nvPr/>
        </p:nvPicPr>
        <p:blipFill>
          <a:blip r:embed="rId1"/>
          <a:stretch/>
        </p:blipFill>
        <p:spPr>
          <a:xfrm>
            <a:off x="2428920" y="4071960"/>
            <a:ext cx="221436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Описание: http://www.my-mir.info/image/r/g%20rum.gif"/>
          <p:cNvPicPr/>
          <p:nvPr/>
        </p:nvPicPr>
        <p:blipFill>
          <a:blip r:embed="rId2"/>
          <a:stretch/>
        </p:blipFill>
        <p:spPr>
          <a:xfrm>
            <a:off x="714240" y="1857240"/>
            <a:ext cx="1857600" cy="2000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Описание: http://www.votpusk.ru/story/edit/foto/large/37407.jpg"/>
          <p:cNvPicPr/>
          <p:nvPr/>
        </p:nvPicPr>
        <p:blipFill>
          <a:blip r:embed="rId3"/>
          <a:stretch/>
        </p:blipFill>
        <p:spPr>
          <a:xfrm>
            <a:off x="4000680" y="1714680"/>
            <a:ext cx="1857240" cy="2357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Coat of Arms of Buryatia.svg"/>
          <p:cNvPicPr/>
          <p:nvPr/>
        </p:nvPicPr>
        <p:blipFill>
          <a:blip r:embed="rId4"/>
          <a:stretch/>
        </p:blipFill>
        <p:spPr>
          <a:xfrm>
            <a:off x="6500880" y="3143160"/>
            <a:ext cx="18572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 цвет означ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ий цвет означ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ый цвет означ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флаг России можно увиде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8D39-1966-40A6-9660-ED8A8DAE9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аких полос состоит фла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изображено в левом верхнем углу фла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мы можем увидеть флаг Республики Бур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4DF2-BF47-4A14-89C5-8276E8F2E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в мире краше …………………… Родины наш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ная землица……………………… и во сне с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ни с мечом, …………ни с калачом не шу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без Родины - ……. что соловей без пес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59BB-53F7-4A0C-BB14-F48D17183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3820-6183-49DB-9F22-2E02D6B1A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9B31-53B9-492E-888E-323C2E518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line4.gif (11519 bytes)"/>
          <p:cNvPicPr/>
          <p:nvPr/>
        </p:nvPicPr>
        <p:blipFill>
          <a:blip r:embed="rId1"/>
          <a:stretch/>
        </p:blipFill>
        <p:spPr>
          <a:xfrm>
            <a:off x="0" y="6524640"/>
            <a:ext cx="88884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line4.gif (11519 bytes)"/>
          <p:cNvPicPr/>
          <p:nvPr/>
        </p:nvPicPr>
        <p:blipFill>
          <a:blip r:embed="rId2"/>
          <a:stretch/>
        </p:blipFill>
        <p:spPr>
          <a:xfrm rot="5400000">
            <a:off x="5488560" y="3264480"/>
            <a:ext cx="6669000" cy="13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ARROW39"/>
          <p:cNvPicPr/>
          <p:nvPr/>
        </p:nvPicPr>
        <p:blipFill>
          <a:blip r:embed="rId3"/>
          <a:stretch/>
        </p:blipFill>
        <p:spPr>
          <a:xfrm rot="3511800">
            <a:off x="5389920" y="1962720"/>
            <a:ext cx="807840" cy="4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ARROW39"/>
          <p:cNvPicPr/>
          <p:nvPr/>
        </p:nvPicPr>
        <p:blipFill>
          <a:blip r:embed="rId4"/>
          <a:stretch/>
        </p:blipFill>
        <p:spPr>
          <a:xfrm rot="7791000">
            <a:off x="2726640" y="1963080"/>
            <a:ext cx="807840" cy="428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ARROW39"/>
          <p:cNvPicPr/>
          <p:nvPr/>
        </p:nvPicPr>
        <p:blipFill>
          <a:blip r:embed="rId5"/>
          <a:stretch/>
        </p:blipFill>
        <p:spPr>
          <a:xfrm rot="5400000">
            <a:off x="4024800" y="3618720"/>
            <a:ext cx="808200" cy="4284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3"/>
          <p:cNvSpPr/>
          <p:nvPr/>
        </p:nvSpPr>
        <p:spPr>
          <a:xfrm>
            <a:off x="468360" y="620640"/>
            <a:ext cx="8064360" cy="1042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11280" y="765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askerville Old Face"/>
              </a:rPr>
              <a:t>СИМВОЛЫ    ГОСУДАРСТВА</a:t>
            </a:r>
            <a:r>
              <a:rPr b="1" lang="ru-RU" sz="3600" spc="-1" strike="noStrike">
                <a:solidFill>
                  <a:srgbClr val="ffff00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>
            <a:hlinkClick r:id="rId6" action="ppaction://hlinksldjump"/>
          </p:cNvPr>
          <p:cNvSpPr/>
          <p:nvPr/>
        </p:nvSpPr>
        <p:spPr>
          <a:xfrm>
            <a:off x="755640" y="2492280"/>
            <a:ext cx="1833480" cy="863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>
            <a:hlinkClick r:id="rId7" action="ppaction://hlinksldjump"/>
          </p:cNvPr>
          <p:cNvSpPr/>
          <p:nvPr/>
        </p:nvSpPr>
        <p:spPr>
          <a:xfrm>
            <a:off x="3500280" y="4357800"/>
            <a:ext cx="2016360" cy="863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>
            <a:hlinkClick r:id="rId8" action="ppaction://hlinksldjump"/>
          </p:cNvPr>
          <p:cNvSpPr/>
          <p:nvPr/>
        </p:nvSpPr>
        <p:spPr>
          <a:xfrm>
            <a:off x="6227640" y="2421000"/>
            <a:ext cx="201636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787560" y="4429080"/>
            <a:ext cx="1346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Baskerville Old Face"/>
                <a:hlinkClick r:id="rId9" action="ppaction://hlinksldjump"/>
              </a:rPr>
              <a:t>ГЕР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826920" y="2565360"/>
            <a:ext cx="2016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Baskerville Old Face"/>
                <a:hlinkClick r:id="rId10" action="ppaction://hlinksldjump"/>
              </a:rPr>
              <a:t>ФЛ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6424920" y="2565360"/>
            <a:ext cx="1672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Baskerville Old Face"/>
                <a:hlinkClick r:id="rId11" action="ppaction://hlinksldjump"/>
              </a:rPr>
              <a:t>ГИМ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616400" y="5950080"/>
            <a:ext cx="54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е кнопки:        возврат на этот сла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8" descr="flash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211640" y="602136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1796-B630-4523-AC14-C2E6BF284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62440" y="2060640"/>
            <a:ext cx="826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ржественная песн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обое музыкальное произве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личающе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разностью литературного текс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ирокой, легко запоминающейся мелоди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меренным, чаще маршевым ритм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чавостью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19120" y="1268280"/>
            <a:ext cx="20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askerville Old Face"/>
              </a:rPr>
              <a:t>ГИМ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Гимн России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флаг России"/>
          <p:cNvPicPr/>
          <p:nvPr/>
        </p:nvPicPr>
        <p:blipFill>
          <a:blip r:embed="rId2"/>
          <a:stretch/>
        </p:blipFill>
        <p:spPr>
          <a:xfrm>
            <a:off x="539640" y="260280"/>
            <a:ext cx="201636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флаг России"/>
          <p:cNvPicPr/>
          <p:nvPr/>
        </p:nvPicPr>
        <p:blipFill>
          <a:blip r:embed="rId3"/>
          <a:stretch/>
        </p:blipFill>
        <p:spPr>
          <a:xfrm>
            <a:off x="5940360" y="260280"/>
            <a:ext cx="2016360" cy="13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russia"/>
          <p:cNvPicPr/>
          <p:nvPr/>
        </p:nvPicPr>
        <p:blipFill>
          <a:blip r:embed="rId4"/>
          <a:stretch/>
        </p:blipFill>
        <p:spPr>
          <a:xfrm>
            <a:off x="3564000" y="0"/>
            <a:ext cx="1376280" cy="126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flas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820000" y="653400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734760" y="5464080"/>
            <a:ext cx="76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вучит Гимн России – музыка А. Александр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а   С. Михал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792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5A73-E493-4367-AB73-EECB2171E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usgerb3"/>
          <p:cNvPicPr/>
          <p:nvPr/>
        </p:nvPicPr>
        <p:blipFill>
          <a:blip r:embed="rId1"/>
          <a:stretch/>
        </p:blipFill>
        <p:spPr>
          <a:xfrm>
            <a:off x="2484360" y="333360"/>
            <a:ext cx="3597480" cy="4321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24280" y="4797360"/>
            <a:ext cx="89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рб России – двуглавый Орё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своих мощных крыльях взмывающий над стра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ее четырёх столетий олицетворял нашу держ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ного найдётся в мире таких долговечных герб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flas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20000" y="653400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Гер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и Бурятия представляет собой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щ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радиционной формы, на котором размещен трехцветный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кру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син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бе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жёлтый цве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ционального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фла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В верхней части круга — золотое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соёмб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традиционный символ вечной жизни (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солнц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лу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оча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В центре круга — одинаковой ширины сине-белые полосы — волны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Байка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светло-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зелён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темно-зелёного фона горные вершины. Нижнюю часть круга обрамляет голубая лента «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хада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 — символ гостеприимства народа Бурятии. Центральная часть хадака служит основанием герб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8038-681B-4000-B716-97107BAA1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s://im0-tub-ru.yandex.net/i?id=063536f5e45ed9f0ebeeb3d9d41b132b&amp;n=13"/>
          <p:cNvPicPr/>
          <p:nvPr/>
        </p:nvPicPr>
        <p:blipFill>
          <a:blip r:embed="rId16"/>
          <a:stretch/>
        </p:blipFill>
        <p:spPr>
          <a:xfrm>
            <a:off x="3071880" y="2214720"/>
            <a:ext cx="335736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D098-7DB0-4927-AD09-EB989F4E7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лаг России  — один из официальных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осударственных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имволо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оссийск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Федерации</a:t>
            </a:r>
            <a:r>
              <a:rPr b="0" lang="ru-RU" sz="24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[4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ряду с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герб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мн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Представляет собой прямоугольное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отнищ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из трёх равновеликих горизонтальных полос: верхней —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л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средней —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не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и нижней —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асн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флаг России"/>
          <p:cNvPicPr/>
          <p:nvPr/>
        </p:nvPicPr>
        <p:blipFill>
          <a:blip r:embed="rId7"/>
          <a:stretch/>
        </p:blipFill>
        <p:spPr>
          <a:xfrm>
            <a:off x="2484360" y="2781360"/>
            <a:ext cx="345600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flash"/>
          <p:cNvPicPr/>
          <p:nvPr/>
        </p:nvPicPr>
        <p:blipFill>
          <a:blip r:embed="rId8"/>
          <a:stretch/>
        </p:blipFill>
        <p:spPr>
          <a:xfrm>
            <a:off x="8820000" y="653400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6380-D648-4B77-9DAE-3A7B04FA5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s://pbs.twimg.com/media/Dd3IxcVU0AEuGjR.jpg:large"/>
          <p:cNvPicPr/>
          <p:nvPr/>
        </p:nvPicPr>
        <p:blipFill>
          <a:blip r:embed="rId1"/>
          <a:stretch/>
        </p:blipFill>
        <p:spPr>
          <a:xfrm>
            <a:off x="2786040" y="3643200"/>
            <a:ext cx="3992760" cy="24289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214200" y="214200"/>
            <a:ext cx="89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Республики Бурятия представляет собой прямоугольник, состоящий из трёх цветных полос: верхней — синего цвета, средней — белого цвета, и нижней — жёлтого цвета. В левом верхнем углу синей части флага изображён жёлтым цветом традиционный символ Бурятии (соёмбо), представляющий собой изображение луны, солнца и очага: внизу — серп луны, над ним — круг солнца, а над ними — изображение очага из трёх языков пла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30AF-7CF6-4C65-9DE8-65B6583EA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328840" y="1773360"/>
            <a:ext cx="414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askerville Old Face"/>
              </a:rPr>
              <a:t>СИМВ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askerville Old Face"/>
              </a:rPr>
              <a:t>ГОСУДАРСТ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askerville Old Face"/>
              </a:rPr>
              <a:t>РОССИЙ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флаг России"/>
          <p:cNvPicPr/>
          <p:nvPr/>
        </p:nvPicPr>
        <p:blipFill>
          <a:blip r:embed="rId1"/>
          <a:stretch/>
        </p:blipFill>
        <p:spPr>
          <a:xfrm>
            <a:off x="3492360" y="404640"/>
            <a:ext cx="1511280" cy="103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line4.gif (11519 bytes)"/>
          <p:cNvPicPr/>
          <p:nvPr/>
        </p:nvPicPr>
        <p:blipFill>
          <a:blip r:embed="rId2"/>
          <a:stretch/>
        </p:blipFill>
        <p:spPr>
          <a:xfrm>
            <a:off x="0" y="6524640"/>
            <a:ext cx="8888400" cy="14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line4.gif (11519 bytes)"/>
          <p:cNvPicPr/>
          <p:nvPr/>
        </p:nvPicPr>
        <p:blipFill>
          <a:blip r:embed="rId3"/>
          <a:stretch/>
        </p:blipFill>
        <p:spPr>
          <a:xfrm rot="5400000">
            <a:off x="5488560" y="3264480"/>
            <a:ext cx="6669000" cy="139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451880" y="4929120"/>
            <a:ext cx="631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общение – подведение итого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13-Marsh slavyanki.mp3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1035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мая Богом родная земл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лись наши леса и пол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южных морей до полярн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ы на свете! Одна ты такая 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EE22-19A6-4DB8-9F00-0748C88E1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3:12:26Z</dcterms:created>
  <dc:creator>Kate</dc:creator>
  <dc:description/>
  <dc:language>en-US</dc:language>
  <cp:lastModifiedBy>юра</cp:lastModifiedBy>
  <dcterms:modified xsi:type="dcterms:W3CDTF">2019-10-14T15:45:57Z</dcterms:modified>
  <cp:revision>23</cp:revision>
  <dc:subject/>
  <dc:title>Слайд 1</dc:title>
</cp:coreProperties>
</file>