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>
    <p:sldRg st="1" end="2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05E4-271A-4DDD-8568-22AE6DFA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7EB3-A27E-4E77-AB11-40115BF2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4A89-C090-493B-A0DE-7C296202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E200-1942-47D3-893D-5F1E6DBD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1E7A-0D7A-4FD8-966F-2BF687180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4338-366F-4D32-AA5E-AEE210E9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86F7-A710-448D-9CC6-B43E1997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86AB-4807-43E5-A3C7-F44F0EC0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4909-4552-4621-A934-44EA154E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CC76-E4E4-416A-9885-B7B8450E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658B-242C-4899-85C0-4FE4C5ED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D811-4F0E-427D-BA7E-0D0E2812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28B6-8F2A-4AC4-91C9-F65A3B43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2298-FAFD-493C-9EFC-9B50D9C5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15EC-B1B0-40B9-B84B-BB0B48AD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A87D-DFFB-414B-BE31-26430357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5ED8-D947-4DA9-B502-B9D7379EE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6491D-172E-454A-8808-0F18B8C92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6C6D4-8AF2-4EE5-870F-74345AD3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F87D1-15DA-420D-BE23-EFEBEDC1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59D7F-CA5C-4D75-A434-72AA55F0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77B47-82FC-45BD-A76D-0BC8C0EE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141D-E2D1-419A-A8E1-68D63BF7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8B534-2804-4C19-AE2D-941F8B7A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2B715-E8B7-41B0-8F13-46729FAB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89D24-1665-46E9-91F9-5D24490A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83272-6E3D-4940-880A-3A8A616D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F88E0-4E19-45BE-B56F-52BFC277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EFAED-B44E-4A31-BA3B-24AE63DCC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214A6-4025-49EA-8D20-0D72B14A6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CD897-8425-4EEF-BFD1-CEA09324B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4DF6C-6470-4FAD-9AAD-578AF4D8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0106B-A492-4B80-AC6B-B2673A49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C979-A2F7-4E68-97F6-E3E01EA5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6BCC1-A2BB-4950-96D0-9308ACFF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EC26B-FBF4-4288-BE1C-17861770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79876-4CE7-4324-BC1E-76723DE2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41CE0-81A7-40B5-8DCB-43BABE22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E84EC-A7E7-4F97-8F7A-AF866EF8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492B2-9CE1-4176-B279-A3F2237A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2081C-3495-4F05-BF42-42FD4A0A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F6C20-5E5D-4CF0-B73A-9C9CD4DFD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EFB76-1A65-4C61-B3FC-A21011067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D0D7-079D-4D62-ACD9-51E12356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25E0-DDB1-459A-8809-3707F8D9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9B67-0A59-41D1-80F8-416107D2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1975-2B71-44B9-8FCC-8EAD5D03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0FF8-6E69-4D14-B351-C0D6EE47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9124-1721-4B1C-B77B-71B4F72FBAC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4932-3CB0-4F9F-BEF3-4096E01375A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DF5E-F9AC-4678-A0F7-1E52B9D2DBD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DE51-FCCA-402A-8BCA-0097BBA7EED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2505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Constantia"/>
              </a:rPr>
              <a:t>Мастер-класс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20.03.2015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Назаренко С.Е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Дубик А.С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"/>
          <p:cNvSpPr/>
          <p:nvPr/>
        </p:nvSpPr>
        <p:spPr>
          <a:xfrm>
            <a:off x="480240" y="1074240"/>
            <a:ext cx="7916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торая- открытая фор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на сопровождается  инструкци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« Дополнит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2303e"/>
                </a:solidFill>
                <a:latin typeface="Arial"/>
                <a:ea typeface="Times New Roman"/>
              </a:rPr>
              <a:t>«Пожарные гидранты устанавливаю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303e"/>
                </a:solidFill>
                <a:latin typeface="Arial"/>
                <a:ea typeface="Times New Roman"/>
              </a:rPr>
              <a:t>через …………… метр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"/>
          <p:cNvSpPr/>
          <p:nvPr/>
        </p:nvSpPr>
        <p:spPr>
          <a:xfrm>
            <a:off x="623520" y="856440"/>
            <a:ext cx="7732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тья форма имеет инструкцию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«Установите соответствие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этом имеется специальное мест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студенты должны зафиксировать отв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10253f"/>
                </a:solidFill>
                <a:latin typeface="Arial"/>
                <a:ea typeface="Times New Roman"/>
              </a:rPr>
              <a:t>Пример такого теста приведен на рисунке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Тест%20№11"/>
          <p:cNvPicPr/>
          <p:nvPr/>
        </p:nvPicPr>
        <p:blipFill>
          <a:blip r:embed="rId2"/>
          <a:stretch/>
        </p:blipFill>
        <p:spPr>
          <a:xfrm>
            <a:off x="349200" y="260280"/>
            <a:ext cx="8794800" cy="5616720"/>
          </a:xfrm>
          <a:prstGeom prst="rect">
            <a:avLst/>
          </a:prstGeom>
          <a:ln w="0">
            <a:noFill/>
          </a:ln>
        </p:spPr>
      </p:pic>
      <p:sp>
        <p:nvSpPr>
          <p:cNvPr id="208" name="TextBox 2"/>
          <p:cNvSpPr/>
          <p:nvPr/>
        </p:nvSpPr>
        <p:spPr>
          <a:xfrm>
            <a:off x="971640" y="6021360"/>
            <a:ext cx="75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Рисунок 1. Схема водонапорной башни. ( Установить соответствие )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en-US" sz="1800" spc="-1" strike="noStrike">
                <a:solidFill>
                  <a:srgbClr val="02303e"/>
                </a:solidFill>
                <a:latin typeface="Constantia"/>
              </a:rPr>
              <a:t>     </a:t>
            </a:r>
            <a:r>
              <a:rPr b="1" lang="en-US" sz="1800" spc="-1" strike="noStrike">
                <a:solidFill>
                  <a:srgbClr val="02303e"/>
                </a:solidFill>
                <a:latin typeface="Constantia"/>
              </a:rPr>
              <a:t>В выделенной области  необходимо поставить номер отв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415440" y="470160"/>
            <a:ext cx="8352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 заданиях  четвертой фор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нструкция  непосредственно  содерж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 тексте 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р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«Установите последовательност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. Резервуар чистой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.  Сме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 Фильт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. Осветл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5. Водозаб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 Насосная станция второго подъ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3" descr=""/>
          <p:cNvPicPr/>
          <p:nvPr/>
        </p:nvPicPr>
        <p:blipFill>
          <a:blip r:embed="rId2"/>
          <a:stretch/>
        </p:blipFill>
        <p:spPr>
          <a:xfrm>
            <a:off x="-49320" y="1189080"/>
            <a:ext cx="8656920" cy="15476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1b2c9"/>
                </a:solidFill>
                <a:latin typeface="Constantia"/>
              </a:rPr>
              <a:t>ЧЕРТЕЖ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1b2c9"/>
                </a:solidFill>
                <a:latin typeface="Constantia"/>
              </a:rPr>
              <a:t>ЭСКИЗ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2"/>
          <a:stretch/>
        </p:blipFill>
        <p:spPr>
          <a:xfrm>
            <a:off x="536400" y="457200"/>
            <a:ext cx="8326440" cy="25606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nstantia"/>
              </a:rPr>
              <a:t>ТЕСТЫ НА СООТВЕТСТВИЕ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"/>
          <p:cNvSpPr/>
          <p:nvPr/>
        </p:nvSpPr>
        <p:spPr>
          <a:xfrm>
            <a:off x="917280" y="786960"/>
            <a:ext cx="7899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сты представлены в письменн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установления соответствия студен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ъявляется изображение (схема, чертеж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лакат, рисунки, компьютерные 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енного технического устройст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рафики определенных процессов и т. 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можно усложнение данной формы тест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ний, преобразовав тесты в многовариант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 точки зрения проверяемого,  варианты практиче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дентичны, что дает возможность превращ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стовые задания в упраж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 выполнением второго, третьего вариантов зад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удент закрепляет свои зн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"/>
          <p:cNvSpPr/>
          <p:nvPr/>
        </p:nvSpPr>
        <p:spPr>
          <a:xfrm>
            <a:off x="847440" y="739800"/>
            <a:ext cx="7511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ставленная форма тестовых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зволяет использовать их не т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ностью (все варианты 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о и  по частям, (по отдельным варианта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зависимости от дидактических ц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дает возможность провод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стирование когда угодно – в начал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ередине или конце  заня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ные тесты могут быть использова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 при самостоятельной работе студен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целях самопроверки и самооценки свое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1139760" y="785520"/>
            <a:ext cx="732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стовые задания на соответствие могу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няться в различных видах контроля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варительном, текущем, периодичес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 итого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ние тестовых заданий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варительного контроля позволя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означить начальную рефлексию в отнош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лагаемого материала, для текущ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роля – проверить  знания студ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 параллельным изучением нового материа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периодического контроля – диагностиро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личностные образовательные прира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16920" y="569520"/>
            <a:ext cx="9111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ние тестовых заданий на установление соответств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и других видов тестового контроля, позволя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перативно получать результаты контроля и вносить корректи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знания студен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ффективно использовать время занятий, т.е. за короткий ср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ролировать знания у большого количества студ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позволяет преподавателю обеспечить такую частоту контрол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которой каждый ожидал бы проверку ежедневно и по этому стал 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олнять исполнительские действия не от случая к случаю, а регулярн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кратить затраты времени на выявление результатов контро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менить квалифицированного преподавателя лаборант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выявлении результатов контро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дуру определения результатов и  оценки работы сдел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ективными, что  исключительно важно для мотив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гулярной добросовестной работы студен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"/>
          <p:cNvSpPr/>
          <p:nvPr/>
        </p:nvSpPr>
        <p:spPr>
          <a:xfrm>
            <a:off x="420840" y="1981080"/>
            <a:ext cx="872316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рка и оценка, т.е. контроль усвоения содерж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зования,  достигнутого студентами, яв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отъемлемой  составной частью процесса обу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  формирования профессиональных компетен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иболее объективным из имеющихся на сегодняш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ень  средством контроля являются тестовые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"/>
          <p:cNvSpPr/>
          <p:nvPr/>
        </p:nvSpPr>
        <p:spPr>
          <a:xfrm>
            <a:off x="359280" y="595440"/>
            <a:ext cx="8765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дежность тестового контроля обеспечивае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преподаватель,  контролирует сравнитель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большую часть информ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ное условие позволяет использовать тестовые зад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 соответствие и в качестве тренировочных упраж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стовые задания способствуют актив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 закреплению  знаний всех обучающ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уденты воспринимают их как игр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гра – разминка, игра – переключение вним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правило, студенты их ждут и с радост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ключаются в иг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Users\SERGEY\Documents\ПЕЧАТЬ ТЕСТ\РУБТЕСТ\РУБТЕСТ 5.png"/>
          <p:cNvPicPr/>
          <p:nvPr/>
        </p:nvPicPr>
        <p:blipFill>
          <a:blip r:embed="rId2"/>
          <a:stretch/>
        </p:blipFill>
        <p:spPr>
          <a:xfrm>
            <a:off x="0" y="0"/>
            <a:ext cx="9720360" cy="73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Users\SERGEY\Documents\РУБТЕСТ\РУБТЕСТ 4.bmp"/>
          <p:cNvPicPr/>
          <p:nvPr/>
        </p:nvPicPr>
        <p:blipFill>
          <a:blip r:embed="rId2"/>
          <a:stretch/>
        </p:blipFill>
        <p:spPr>
          <a:xfrm>
            <a:off x="0" y="-11448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C:\Users\SERGEY\Documents\РУБТЕСТ\РУБТЕСТ 3.bmp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C:\Users\SERGEY\Documents\РУБТЕСТ\РУБТЕСТ 2.bmp"/>
          <p:cNvPicPr/>
          <p:nvPr/>
        </p:nvPicPr>
        <p:blipFill>
          <a:blip r:embed="rId2"/>
          <a:stretch/>
        </p:blipFill>
        <p:spPr>
          <a:xfrm>
            <a:off x="0" y="0"/>
            <a:ext cx="9221760" cy="69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C:\Users\SERGEY\Documents\РУБТЕСТ\РУБТЕСТ 1.bmp"/>
          <p:cNvPicPr/>
          <p:nvPr/>
        </p:nvPicPr>
        <p:blipFill>
          <a:blip r:embed="rId2"/>
          <a:stretch/>
        </p:blipFill>
        <p:spPr>
          <a:xfrm>
            <a:off x="-900000" y="-603360"/>
            <a:ext cx="10077480" cy="8001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Заголовок 1" descr=""/>
          <p:cNvPicPr/>
          <p:nvPr/>
        </p:nvPicPr>
        <p:blipFill>
          <a:blip r:embed="rId2"/>
          <a:stretch/>
        </p:blipFill>
        <p:spPr>
          <a:xfrm>
            <a:off x="0" y="1628640"/>
            <a:ext cx="865656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"/>
          <p:cNvSpPr/>
          <p:nvPr/>
        </p:nvSpPr>
        <p:spPr>
          <a:xfrm>
            <a:off x="244080" y="243720"/>
            <a:ext cx="8965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пулярность тестовых заданий как сре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роля результатов обучения резко возро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штабы применения тестов увеличива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лавинообраз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обусловлено рядом причи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 увеличение внимания к результатам обу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к показатель его качества в связи с иде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ндартизации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   широкое внедрение в учебный процесс компьютер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хники и возможность автоматизирован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работки результатов выполнения контрольной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 точный подсчет числа верно ( неверно ) выполненных ответ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 значит высокая степень объективности выставляемых отме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полнительный интерес к  тестовому контролю в послед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ды связан с попытками организации аттес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удентов в режиме «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o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lin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»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"/>
          <p:cNvSpPr/>
          <p:nvPr/>
        </p:nvSpPr>
        <p:spPr>
          <a:xfrm>
            <a:off x="179280" y="734400"/>
            <a:ext cx="838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днако  современное состояние пробл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стового контроля в последние годы характеризуется резким разрывом между теорией и практи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ется огромное количество разнообразных тестовых  материалов, при том, что основы  теории тестирования находятся в стадии разработ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, безусловно, сказывается на каче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стовых материа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1"/>
          <p:cNvSpPr/>
          <p:nvPr/>
        </p:nvSpPr>
        <p:spPr>
          <a:xfrm>
            <a:off x="1332000" y="907920"/>
            <a:ext cx="5976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«Педагогический тест-множество заданий специфической формы, позволяющие объективно измерять уровень подготовленности испытуемого по определенной области знани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1"/>
          <p:cNvSpPr/>
          <p:nvPr/>
        </p:nvSpPr>
        <p:spPr>
          <a:xfrm>
            <a:off x="179280" y="549360"/>
            <a:ext cx="78487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Тестовые задания, формирующие тест,  характеризуются определенными статистическими показателями. Отбором заданий и компоновкой теста занимается специальная дисциплина- </a:t>
            </a: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«Теория моделирования и параметризации педагогических тестов» (ТМПТ).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Таким образом, педагогический тест - «</a:t>
            </a:r>
            <a:r>
              <a:rPr b="0" lang="en-US" sz="3200" spc="-1" strike="noStrike">
                <a:solidFill>
                  <a:srgbClr val="02303e"/>
                </a:solidFill>
                <a:latin typeface="Constantia"/>
              </a:rPr>
              <a:t>Штучный товар» и для его создания необходимы не только грамотные преподаватели- предметники, но и специалисты по ТМПТ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357120" y="947880"/>
            <a:ext cx="8215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днако, не замахиваясь на  создание теста в  вышеуказанном толковании,  преподавателю вполне по силам разработать некую совокуп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тестовых заданий по  преподаваемой  дисциплине или ПМ. Для этого необходимо знать их основные 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 правила сост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"/>
          <p:cNvSpPr/>
          <p:nvPr/>
        </p:nvSpPr>
        <p:spPr>
          <a:xfrm>
            <a:off x="838800" y="1229760"/>
            <a:ext cx="8245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огласно взглядам В.С. Аванесова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ются 4 основные 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тестовых заданий: закрытая, откры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ния на устано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оответствия и установления правиль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ледова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аждая из форм имеет определен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роение и специфическ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нструкцию по выполн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"/>
          <p:cNvSpPr/>
          <p:nvPr/>
        </p:nvSpPr>
        <p:spPr>
          <a:xfrm>
            <a:off x="479520" y="1359720"/>
            <a:ext cx="8629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ой и наиболее распространенной закрытая фор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р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«Укажите расстояние между пожарными  гидрантам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50 ме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 50- 100 ме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 100-150  ме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 150-200 ме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 не более 250 мет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нструкция к подобному роду задани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вучит примерно так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253f"/>
                </a:solidFill>
                <a:latin typeface="Arial"/>
                <a:ea typeface="Times New Roman"/>
              </a:rPr>
              <a:t>«Обведите номер (букву) верного ответа».</a:t>
            </a:r>
            <a:r>
              <a:rPr b="0" lang="en-US" sz="2400" spc="-1" strike="noStrike">
                <a:solidFill>
                  <a:srgbClr val="10253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8T03:37:57Z</dcterms:created>
  <dc:creator>SERGEY</dc:creator>
  <dc:description/>
  <dc:language>en-US</dc:language>
  <cp:lastModifiedBy>Преподаватель</cp:lastModifiedBy>
  <dcterms:modified xsi:type="dcterms:W3CDTF">2011-10-10T22:26:15Z</dcterms:modified>
  <cp:revision>14</cp:revision>
  <dc:subject/>
  <dc:title>КОНФЕРЕНЦИЯ</dc:title>
</cp:coreProperties>
</file>