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D85-271C-41FA-9304-862C7185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DE5-B520-4B48-B611-18B10D7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92A-1728-4984-B352-76A2CC6D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3B5-43FF-4CAB-8339-46B18AD5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7EE-B45D-4ACF-967C-8B426DAE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634-5ECF-455B-9BCB-6D1F000A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136-A1B7-47D1-BBEF-3357713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5FB-5849-4EC1-8C1D-5B39216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56B-8066-4901-BA24-2B5006F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0BF-73BC-4C76-939F-003209D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EB6-C1FF-41E2-AB24-C5E4957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BFF-0E1A-477F-AD68-43B0569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E93-B9EA-4AA0-A458-80C7FA2C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ешение  задач повышенной сложности физико-географической направленности,  применение их на уроках и во внеурочн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723920"/>
            <a:ext cx="41148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географии: Герасимова Ири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BDA-30EB-4B49-A7E7-DC0489C72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показаны климатодиаграммы, характеризующие климат пунктов А и Б, расположенных в Европе примерно на одинаковой широте и одинаковой высоте над уровнем мор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get_file?id=8502"/>
          <p:cNvPicPr/>
          <p:nvPr/>
        </p:nvPicPr>
        <p:blipFill>
          <a:blip r:embed="rId1"/>
          <a:stretch/>
        </p:blipFill>
        <p:spPr>
          <a:xfrm>
            <a:off x="250920" y="1341360"/>
            <a:ext cx="8748720" cy="4179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611280" y="55162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какой из этих пунктов расположен западнее. Для обоснования своего ответа приведите два довода. Если Вы приведёте более двух доводов, оцениваться будут только два, указанных пер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97A-2C2E-497C-BC56-A3936491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0" y="33300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3357360"/>
            <a:ext cx="849600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Европе континентальность климата нарастает при движении с запада на восток. В пункте Б выпадает больше осад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Амплитуда к востоку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е А: 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(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 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е Б: 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е Б теплее зимой, там зимние температуры выше нуля, меньше годовая амплитуда температур, прохладнее лето, что связано с влиянием океа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849-1A89-4A02-9984-00341C10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et_file?id=8502"/>
          <p:cNvPicPr/>
          <p:nvPr/>
        </p:nvPicPr>
        <p:blipFill>
          <a:blip r:embed="rId1"/>
          <a:stretch/>
        </p:blipFill>
        <p:spPr>
          <a:xfrm>
            <a:off x="179280" y="476280"/>
            <a:ext cx="6408720" cy="306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77080" y="1700280"/>
            <a:ext cx="18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Западнее расположен пункт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, в каком из пунктов, обозначенных буквами на карте мира, суммарная солнечная радиация в декабре больше. Для обоснования Вашего ответа приведите два д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et_file?id=19214"/>
          <p:cNvPicPr/>
          <p:nvPr/>
        </p:nvPicPr>
        <p:blipFill>
          <a:blip r:embed="rId1"/>
          <a:stretch/>
        </p:blipFill>
        <p:spPr>
          <a:xfrm>
            <a:off x="611280" y="2205000"/>
            <a:ext cx="8137440" cy="43768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06B5-BADD-4E01-BBD7-BAA01EEE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56360" y="1267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et_file?id=19214"/>
          <p:cNvPicPr/>
          <p:nvPr/>
        </p:nvPicPr>
        <p:blipFill>
          <a:blip r:embed="rId1"/>
          <a:stretch/>
        </p:blipFill>
        <p:spPr>
          <a:xfrm>
            <a:off x="395280" y="190440"/>
            <a:ext cx="5977080" cy="298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32846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В декабре Солнце в зените над южным тропиком, т. е. там Солнце стоит в зените и территория получает больше всего солнечной ради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Точка В расположена на линии южного тропика, т. е. она будет получать максимальное количество солнечной ради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Точка А расположена на линии северного тропика. В декабре Солнце в зените над южным тропиком, поэтому точка А будет получать меньше суммарной солнечной радиации, чем точка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8880" y="530064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менты вер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37372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 включает в себя все три названных выше элемент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 включает в себя два (любых) из названных выше элементо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475920"/>
            <a:ext cx="822960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в каком полушарии (в Северном или в Южном) и в каком климатическом поясе расположен пункт, климат которого показан на климатограмме. Для обоснования Вашего ответа приведите два д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https://geo-ege.sdamgia.ru/get_file?id=13173"/>
          <p:cNvPicPr/>
          <p:nvPr/>
        </p:nvPicPr>
        <p:blipFill>
          <a:blip r:embed="rId1"/>
          <a:stretch/>
        </p:blipFill>
        <p:spPr>
          <a:xfrm>
            <a:off x="2484360" y="2349360"/>
            <a:ext cx="4321080" cy="36720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805-4CCB-436C-893C-4E4EB442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2836800"/>
            <a:ext cx="87487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ункт расположен в Северном полушарии, потому что средняя температура июля выше, чем средняя температура янва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н расположен в субэкваториальном климатическом поясе, потому что хорошо выражены летний сезон дождей и зимний сухой период, и при этом температура воздуха высокая весь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71E-71E1-4DF2-8388-2633B571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https://geo-ege.sdamgia.ru/get_file?id=13173"/>
          <p:cNvPicPr/>
          <p:nvPr/>
        </p:nvPicPr>
        <p:blipFill>
          <a:blip r:embed="rId1"/>
          <a:stretch/>
        </p:blipFill>
        <p:spPr>
          <a:xfrm>
            <a:off x="5292720" y="260280"/>
            <a:ext cx="2293920" cy="252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7128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99F3-F76B-48ED-A57D-D91410CC4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в какой из точек, обозначенных буквами на карте мира, 1 сентября Солнце будет находиться выше всего над горизонтом в 7 часов по солнечному времени Гринвичского мериди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get_file?id=8586"/>
          <p:cNvPicPr/>
          <p:nvPr/>
        </p:nvPicPr>
        <p:blipFill>
          <a:blip r:embed="rId1"/>
          <a:stretch/>
        </p:blipFill>
        <p:spPr>
          <a:xfrm>
            <a:off x="179280" y="2349360"/>
            <a:ext cx="586908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283-0219-407E-B968-443A6C9C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84720" y="2276640"/>
            <a:ext cx="291492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м расположение полуденного мери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ч.-7ч.=5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ч.х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ериди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.д. пол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84720" y="5877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 точка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, в какой из точек, географические координаты которых указаны в таблице,        1 мая Солнце будет находиться выше всего над горизонтом в 8 часов по солнечному времени Гринвичского меридиана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get_file?id=18679"/>
          <p:cNvPicPr/>
          <p:nvPr/>
        </p:nvPicPr>
        <p:blipFill>
          <a:blip r:embed="rId1"/>
          <a:stretch/>
        </p:blipFill>
        <p:spPr>
          <a:xfrm>
            <a:off x="755640" y="2276640"/>
            <a:ext cx="7920000" cy="219528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28D8-6FA0-4F2D-A78F-3F887309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508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 мае в полдень Солнце в зените в Северном полушарии между тропиком и экв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22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(12ч. – 8ч.) · 15° = 60° в. д.  расположение полуденного мери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877000"/>
            <a:ext cx="88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точка А (Солнце будет находиться выше всего над горизонтом в точке 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менты верного от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B2DD-FC57-455A-8122-23FBDC14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684360" y="134136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Название верного ответа (Солнце будет находиться над горизонтом в пункте 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В обосновании говорится, что:  в этот момент на меридиане 60° в.д. полдень, ИЛИ для определения полуденного меридиана используется вычис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8) × 15°, ИЛИ в ответе правильно вычисляется солнечное время для каждого из указанных в условии пунк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ункт расположен ближе всего к полуденному меридиану ИЛИ искомый пункт определяется путём сравнения времени суток в указанных в условии пункт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в каком из пунктов, обозначенных буквами на карте Северного полушария, 1 января Солнце раньше (по времени Гринвичского меридиана) поднимется над горизо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et_file?id=5650"/>
          <p:cNvPicPr/>
          <p:nvPr/>
        </p:nvPicPr>
        <p:blipFill>
          <a:blip r:embed="rId1"/>
          <a:stretch/>
        </p:blipFill>
        <p:spPr>
          <a:xfrm>
            <a:off x="468360" y="2349360"/>
            <a:ext cx="8207280" cy="39531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EDA-D5B6-4651-8845-42E550DBB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65920" y="105228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сн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3500280"/>
            <a:ext cx="889308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ьше Солнце поднимется в точке С. Точка А лежит за полярным кругом, в это время года там полярная ночь и Солнце не поднимается из-за горизонта. Точка В расположена севернее, там день короче ночи, Солнце поднимается позднее и заходит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A56-7797-4489-AF6B-772A74E1E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get_file?id=5650"/>
          <p:cNvPicPr/>
          <p:nvPr/>
        </p:nvPicPr>
        <p:blipFill>
          <a:blip r:embed="rId1"/>
          <a:stretch/>
        </p:blipFill>
        <p:spPr>
          <a:xfrm>
            <a:off x="179280" y="620640"/>
            <a:ext cx="5869080" cy="2826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003640" y="602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 точк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географическую долготу точки, если известно, что в 14 часов по солнечному времени Гринвичского меридиана местное солнечное время в ней 18 часов 20 мину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решение задач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с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ч.20м. - 14ч.00м. = 4.20.м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ица во времени с Гринвичским меридианом составляет 4 ч. 2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ица во времени в 1 час соответствует разнице в долготе в 15°, разница  во времени в 20 мин. – 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та точки составляет 15° × 4 + 5° = 6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65° в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811-10EA-4740-A13D-DABE6A5E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менты верного от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Ответ: 65° в. д. –в  ответе правильно определена долгота пун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риведена верная последовательность всех шагов ре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лучен неверный ответ, так как допущена ошибка при вычислении значения долготы в градусах, ИЛИ получен неверный ответ, так как неверно определено полушарие, в котором расположен пункт, ответ оценивается в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7C3A-ABD7-4C6E-8E78-882F65885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ческие координаты пун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расположенного в Северном полушарии, если известно, что 21 марта в 18 часов по солнечному времени Гринвичского меридиана в этом пункте полдень и Солнце находится на высоте 45° над горизонто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548-70EC-4FBC-8AE1-EBB5A2902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C:\Users\Admin\Desktop\угол.png"/>
          <p:cNvPicPr/>
          <p:nvPr/>
        </p:nvPicPr>
        <p:blipFill>
          <a:blip r:embed="rId1"/>
          <a:srcRect l="9085" t="2383" r="23931" b="35327"/>
          <a:stretch/>
        </p:blipFill>
        <p:spPr>
          <a:xfrm>
            <a:off x="324000" y="2852640"/>
            <a:ext cx="410364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91636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00000" y="3716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16360" y="4437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долг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 х 15° = 90°(з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643280" y="321300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шир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.ш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643280" y="5877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  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ш 90°з.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788000" y="2781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5:53:42Z</dcterms:created>
  <dc:creator>Anna</dc:creator>
  <dc:description/>
  <dc:language>en-US</dc:language>
  <cp:lastModifiedBy>Anna</cp:lastModifiedBy>
  <dcterms:modified xsi:type="dcterms:W3CDTF">2016-12-07T13:14:44Z</dcterms:modified>
  <cp:revision>99</cp:revision>
  <dc:subject/>
  <dc:title>Слайд 1</dc:title>
</cp:coreProperties>
</file>