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548B-B689-480A-8030-65C1F998C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B9AD-2DF9-4807-A562-845E64DE1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6E53-2DF6-4E38-856F-9DB44C864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7C99-04D4-4680-A849-DACFCA6B9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6F77-828B-4F03-8DCC-84FFB2886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641-88D4-44BB-A999-AD51E701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15F-3F21-49DE-A35B-4AD65ED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005-5AE3-475A-A755-B385DE68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EAB-5A4A-4A5C-A97F-7AF16195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4FA-2026-4270-9B0A-62C4ABF5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C66-88ED-49AE-91C6-D6CCF2E9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637-2F93-4CC5-A04C-6B61596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E6E-EB9D-4DD2-99A8-08C680A3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80B-E6B0-474B-9BE9-8B2DAAA3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59D-DB13-4887-8BD2-20A3E215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183-7525-4803-9F59-0C9B65E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A9F-7013-4139-BED9-44545FA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1AA-8478-444A-8847-9E6D5C816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" y="45720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Cambria"/>
              </a:rPr>
              <a:t>Педагогическое мастерство классного руководител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29000" y="60958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6000" y="240048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классный руководитель –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социальным педагогом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352680" y="159984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организует и проводит мероприятия по работе с неблагополучными семьями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выявляет неблагоприятные условия для жизни и учебы учащихся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 выявляет «трудновоспитуемых»  детей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проводит мероприятия, направленные на развитие социальных инициатив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3049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400" y="2209320"/>
            <a:ext cx="3124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классный руководитель –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со школьным библиотекарем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138120" y="15235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расширяет круг чтения учащихся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способствует формированию  культуры чтения, отношения к нравственным идеалам, этическим нормам поведения, осознания собственной индивидуальности через освоение классической и современной литературы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38088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1752480"/>
            <a:ext cx="3276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классный руководитель - медицинский работник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05320" y="2133360"/>
            <a:ext cx="4952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привлекает медицинских работников к  профилактическим  мероприятиям  для учащихся их родителей и педагогов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3808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0520" y="2437920"/>
            <a:ext cx="3200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классный руководитель –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с родителям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6120" y="15998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формируют общие подходы к воспитанию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привлекает родителей к участию в воспитательном процессе класса;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организует работу по повышению педагогической и психологической культуры родителей через индивидуальные беседы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3049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</a:rPr>
              <a:t>Уровни профессионального развития классного руководителя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135" name="Схема 2" descr=""/>
          <p:cNvPicPr/>
          <p:nvPr/>
        </p:nvPicPr>
        <p:blipFill>
          <a:blip r:embed="rId1"/>
          <a:stretch/>
        </p:blipFill>
        <p:spPr>
          <a:xfrm>
            <a:off x="596880" y="1109520"/>
            <a:ext cx="8109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Заголовок 1"/>
          <p:cNvGrpSpPr/>
          <p:nvPr/>
        </p:nvGrpSpPr>
        <p:grpSpPr>
          <a:xfrm>
            <a:off x="-6480" y="407880"/>
            <a:ext cx="7882200" cy="1414440"/>
            <a:chOff x="-6480" y="407880"/>
            <a:chExt cx="7882200" cy="1414440"/>
          </a:xfrm>
        </p:grpSpPr>
        <p:pic>
          <p:nvPicPr>
            <p:cNvPr id="13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407880"/>
              <a:ext cx="78822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04920" y="457200"/>
              <a:ext cx="7211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300" spc="-1" strike="noStrike">
                  <a:solidFill>
                    <a:srgbClr val="660033"/>
                  </a:solidFill>
                  <a:latin typeface="Cambria"/>
                </a:rPr>
                <a:t>Педагогическая умелость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304920" y="2514600"/>
            <a:ext cx="5657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Cambria"/>
              </a:rPr>
              <a:t>достаточно хорошее владение педагогом системой обучающих и воспитательных умений и навыков.</a:t>
            </a:r>
            <a:endParaRPr b="0" lang="en-US" sz="2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40" name="Picture 7" descr="HOMEWORK"/>
          <p:cNvPicPr/>
          <p:nvPr/>
        </p:nvPicPr>
        <p:blipFill>
          <a:blip r:embed="rId2"/>
          <a:stretch/>
        </p:blipFill>
        <p:spPr>
          <a:xfrm>
            <a:off x="6324480" y="2590920"/>
            <a:ext cx="242892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Содержимое 3"/>
          <p:cNvGrpSpPr/>
          <p:nvPr/>
        </p:nvGrpSpPr>
        <p:grpSpPr>
          <a:xfrm>
            <a:off x="378000" y="1219320"/>
            <a:ext cx="8888400" cy="3376440"/>
            <a:chOff x="378000" y="1219320"/>
            <a:chExt cx="8888400" cy="3376440"/>
          </a:xfrm>
        </p:grpSpPr>
        <p:pic>
          <p:nvPicPr>
            <p:cNvPr id="142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78000" y="1219320"/>
              <a:ext cx="888840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5120" y="1314360"/>
              <a:ext cx="8540640" cy="31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2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00"/>
                  </a:solidFill>
                  <a:latin typeface="Cambria"/>
                </a:rPr>
                <a:t>Доведенная до высокой степени совершенства обучающая и воспитательная </a:t>
              </a:r>
              <a:r>
                <a:rPr b="1" i="1" lang="ru-RU" sz="2600" spc="-1" strike="noStrike">
                  <a:solidFill>
                    <a:srgbClr val="800000"/>
                  </a:solidFill>
                  <a:latin typeface="Cambria"/>
                </a:rPr>
                <a:t>умелость </a:t>
              </a:r>
              <a:r>
                <a:rPr b="1" lang="ru-RU" sz="2600" spc="-1" strike="noStrike">
                  <a:solidFill>
                    <a:srgbClr val="800000"/>
                  </a:solidFill>
                  <a:latin typeface="Cambria"/>
                </a:rPr>
                <a:t> благодаря  чему обеспечивается высокая эффективность учебно-воспитательного процесса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Стрелка вверх 4"/>
          <p:cNvSpPr/>
          <p:nvPr/>
        </p:nvSpPr>
        <p:spPr>
          <a:xfrm>
            <a:off x="4341960" y="3048120"/>
            <a:ext cx="785520" cy="4111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Заголовок 1"/>
          <p:cNvGrpSpPr/>
          <p:nvPr/>
        </p:nvGrpSpPr>
        <p:grpSpPr>
          <a:xfrm>
            <a:off x="438120" y="6480"/>
            <a:ext cx="8334360" cy="1365120"/>
            <a:chOff x="438120" y="6480"/>
            <a:chExt cx="8334360" cy="1365120"/>
          </a:xfrm>
        </p:grpSpPr>
        <p:pic>
          <p:nvPicPr>
            <p:cNvPr id="14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38120" y="6480"/>
              <a:ext cx="833436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01560" y="55440"/>
              <a:ext cx="7810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300" spc="-1" strike="noStrike">
                  <a:solidFill>
                    <a:srgbClr val="660033"/>
                  </a:solidFill>
                  <a:latin typeface="Cambria"/>
                </a:rPr>
                <a:t>Педагогическое мастерство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Содержимое 2"/>
          <p:cNvGrpSpPr/>
          <p:nvPr/>
        </p:nvGrpSpPr>
        <p:grpSpPr>
          <a:xfrm>
            <a:off x="201600" y="3638520"/>
            <a:ext cx="8942400" cy="1262160"/>
            <a:chOff x="201600" y="3638520"/>
            <a:chExt cx="8942400" cy="1262160"/>
          </a:xfrm>
        </p:grpSpPr>
        <p:pic>
          <p:nvPicPr>
            <p:cNvPr id="149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201600" y="3638520"/>
              <a:ext cx="89424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74680" y="3733920"/>
              <a:ext cx="87501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00"/>
                  </a:solidFill>
                  <a:latin typeface="Cambria"/>
                </a:rPr>
                <a:t>Педагогическая техника - совокупность различных профессиональных умений преподавател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Заголовок 1"/>
          <p:cNvGrpSpPr/>
          <p:nvPr/>
        </p:nvGrpSpPr>
        <p:grpSpPr>
          <a:xfrm>
            <a:off x="444600" y="225360"/>
            <a:ext cx="8553240" cy="1414440"/>
            <a:chOff x="444600" y="225360"/>
            <a:chExt cx="8553240" cy="1414440"/>
          </a:xfrm>
        </p:grpSpPr>
        <p:pic>
          <p:nvPicPr>
            <p:cNvPr id="15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25360"/>
              <a:ext cx="8553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57080" y="274680"/>
              <a:ext cx="7883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300" spc="-1" strike="noStrike">
                  <a:solidFill>
                    <a:srgbClr val="660033"/>
                  </a:solidFill>
                  <a:latin typeface="Cambria"/>
                </a:rPr>
                <a:t>Педагогическое творчество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19047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mbria"/>
              </a:rPr>
              <a:t>это творчество, направленное на повышение эффективности воспитательного процесса.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  <a:p>
            <a:pPr marL="774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Заголовок 1"/>
          <p:cNvGrpSpPr/>
          <p:nvPr/>
        </p:nvGrpSpPr>
        <p:grpSpPr>
          <a:xfrm>
            <a:off x="-79200" y="407880"/>
            <a:ext cx="8619840" cy="1414440"/>
            <a:chOff x="-79200" y="407880"/>
            <a:chExt cx="8619840" cy="1414440"/>
          </a:xfrm>
        </p:grpSpPr>
        <p:pic>
          <p:nvPicPr>
            <p:cNvPr id="1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407880"/>
              <a:ext cx="86198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52280" y="457200"/>
              <a:ext cx="8028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300" spc="-1" strike="noStrike">
                  <a:solidFill>
                    <a:srgbClr val="660033"/>
                  </a:solidFill>
                  <a:latin typeface="Cambria"/>
                </a:rPr>
                <a:t>Педагогическое новаторство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 txBox="1"/>
          <p:nvPr/>
        </p:nvSpPr>
        <p:spPr>
          <a:xfrm>
            <a:off x="1218960" y="22093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Педагог-новатор – это автор новой педагогической системы, то есть совокупности взаимосвязанных идей и соответствующих технологий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Заголовок 1"/>
          <p:cNvGrpSpPr/>
          <p:nvPr/>
        </p:nvGrpSpPr>
        <p:grpSpPr>
          <a:xfrm>
            <a:off x="341280" y="1359000"/>
            <a:ext cx="8461440" cy="1287360"/>
            <a:chOff x="341280" y="1359000"/>
            <a:chExt cx="8461440" cy="1287360"/>
          </a:xfrm>
        </p:grpSpPr>
        <p:pic>
          <p:nvPicPr>
            <p:cNvPr id="16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41280" y="1359000"/>
              <a:ext cx="846144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12920" y="1407960"/>
              <a:ext cx="8027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300" spc="-1" strike="noStrike">
                  <a:solidFill>
                    <a:srgbClr val="660033"/>
                  </a:solidFill>
                  <a:latin typeface="Cambria"/>
                </a:rPr>
                <a:t>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5"/>
          <p:cNvSpPr/>
          <p:nvPr/>
        </p:nvSpPr>
        <p:spPr>
          <a:xfrm>
            <a:off x="609480" y="140796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Cambria"/>
              </a:rPr>
              <a:t>Продолжи фраз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12560" y="2967120"/>
            <a:ext cx="8350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</a:rPr>
              <a:t>Принимать ребёнка таким, каков он есть – это значит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0172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533520" y="1066680"/>
            <a:ext cx="8153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</a:rPr>
              <a:t>Ян Амос Каменский считал, что главное назначение учителя</a:t>
            </a:r>
            <a:r>
              <a:rPr b="1" lang="en-US" sz="3200" spc="-1" strike="noStrike">
                <a:solidFill>
                  <a:srgbClr val="66003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Cambria"/>
              </a:rPr>
              <a:t>состоит в том, чтобы своей высокой нравственностью, любовью к людям, знаниями, трудолюбием, и другими качествами стать образцом для подражания со стороны учащихся и личным примером воспитывать у них человеч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ania\Pictures\kamenskii.jpg"/>
          <p:cNvPicPr/>
          <p:nvPr/>
        </p:nvPicPr>
        <p:blipFill>
          <a:blip r:embed="rId2"/>
          <a:stretch/>
        </p:blipFill>
        <p:spPr>
          <a:xfrm>
            <a:off x="7504200" y="5029200"/>
            <a:ext cx="1639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-14400" y="0"/>
            <a:ext cx="87631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оведи педагогического общ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ы за внимание борись, не строй общение «сверху вниз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емись изучать детей настроение, их мимику, жесты и глаз вы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они вчера и сегодня, какие с утра и какие в полдень. Как говорят они: смехом, слезами…Учись себя видеть детей глаз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бите детей, будьте вежливы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в любом возрасте очень раним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 уважения детей добиться, слово с делом не должно расход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вьте себя на место детей и сможете их понять поскор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не любят грубые фразы: выполнят просьбу, но не прик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 детям своим относитесь лю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иться вы можете лишь на себ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Любимчиков» не заводите, за прегрешения не мс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едине не выясняйте и перед всеми не руга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их при всех. Ведь убивает даже сме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89064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93" name="Rectangle 3"/>
          <p:cNvSpPr/>
          <p:nvPr/>
        </p:nvSpPr>
        <p:spPr>
          <a:xfrm>
            <a:off x="304920" y="9144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Педагогическое мастерство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ambria"/>
              </a:rPr>
              <a:t>высший уровень педагогичес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ambria"/>
              </a:rPr>
              <a:t>деятельности, проявляющийся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ambria"/>
              </a:rPr>
              <a:t>творчестве педагога, постоя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ambria"/>
              </a:rPr>
              <a:t>совершенствовании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ambria"/>
              </a:rPr>
              <a:t>обучения, воспитания и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ambria"/>
              </a:rPr>
              <a:t>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89064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95" name="Rectangle 4"/>
          <p:cNvSpPr/>
          <p:nvPr/>
        </p:nvSpPr>
        <p:spPr>
          <a:xfrm>
            <a:off x="1371600" y="-720"/>
            <a:ext cx="712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mbria"/>
              </a:rPr>
              <a:t>Условия успешности деятельности классного руководител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71440" y="21330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– </a:t>
            </a: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качественно новый уровень профессиональной готовности, коммуникабельности (в аспекте делового общ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71440" y="351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– </a:t>
            </a: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мотивация  его деятельности, ориентирован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на результат;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334880" y="4364280"/>
            <a:ext cx="79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– </a:t>
            </a: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возможность проявления самосто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и творчества;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222280" y="5194800"/>
            <a:ext cx="68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– </a:t>
            </a: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оценка его деятельности по результату.</a:t>
            </a:r>
            <a:r>
              <a:rPr b="1" lang="ru-RU" sz="1800" spc="-1" strike="noStrike">
                <a:solidFill>
                  <a:srgbClr val="8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71280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01" name="Rectangle 3"/>
          <p:cNvSpPr/>
          <p:nvPr/>
        </p:nvSpPr>
        <p:spPr>
          <a:xfrm>
            <a:off x="1523880" y="-548640"/>
            <a:ext cx="584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ambria"/>
              </a:rPr>
              <a:t>Основные направления деятельности классного руководителя: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1523520" y="182880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886200" y="17524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638680" y="1828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6934320" y="167652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920" y="3124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работа с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724280" y="419112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работа с другими уч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934320" y="3200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работа с соци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743200" y="3352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29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981080"/>
            <a:ext cx="2590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классный руководитель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учителя-предметники: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42840" y="76212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совместная разработка общих педаг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 привлечение учителей к работе с родителями;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включение обучающихся своего класса в систему внеклассной работы по предметам;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 участие в разнообразных  объединениях ДОД, кружках, факультативах,  совместная организация и участие в предметных неделях, тематических вечерах и других мероприятиях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2133720"/>
            <a:ext cx="2633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классный руководитель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 -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Times New Roman"/>
              </a:rPr>
              <a:t>педагог- психолог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633760" y="1142640"/>
            <a:ext cx="57909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изучает индивидуальность  обучающихся, процесс их адаптации в социуме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координирует связь педагога-психолога с педагогами, родителями;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анализирует развитие коллектива класса, определяя познавательные, творческие способности и возможности воспитанников; 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координирует выбор форм и методов организации индивидуальной и групповой учебной и внеклассной деятельност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533520" y="22392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360" y="190476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классный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руководитель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160" y="12952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использовать многообразие  системы дополнительного для расширения  познавательных, творческих способностей своих воспитанников;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-способствует включению школьников в различные творческие объединения по интересам (объединения ДОД, кружки, секции), действующие как в общеобразовательных учреждениях, так и в учреждениях дополнительного образования детей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304920" y="30492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28600" y="2361960"/>
            <a:ext cx="2743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</a:rPr>
              <a:t>классный руководитель - педагог-организатор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00400" y="15998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привлекает его к проведению мероприятий внутри класса;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организует участие обучающихся своего класса в общешкольных мероприятиях во вне учебное время; 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-привлекает к работе с классом представителей культуры, спорта, общественность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23004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mbria"/>
                <a:ea typeface="Times New Roman"/>
              </a:rPr>
              <a:t>Взаимодействия 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 Харитонова</cp:lastModifiedBy>
  <dcterms:modified xsi:type="dcterms:W3CDTF">2019-10-14T15:23:2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