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8.gif" ContentType="image/gif"/>
  <Override PartName="/ppt/media/image26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7.jpeg" ContentType="image/jpeg"/>
  <Override PartName="/ppt/media/image27.jpeg" ContentType="image/jpeg"/>
  <Override PartName="/ppt/media/image9.gif" ContentType="image/gif"/>
  <Override PartName="/ppt/media/image5.wmf" ContentType="image/x-wmf"/>
  <Override PartName="/ppt/media/image8.gif" ContentType="image/gif"/>
  <Override PartName="/ppt/media/image11.gif" ContentType="image/gif"/>
  <Override PartName="/ppt/media/image14.png" ContentType="image/png"/>
  <Override PartName="/ppt/media/image10.gif" ContentType="image/gif"/>
  <Override PartName="/ppt/media/image13.png" ContentType="image/png"/>
  <Override PartName="/ppt/media/image30.gif" ContentType="image/gif"/>
  <Override PartName="/ppt/media/image6.png" ContentType="image/png"/>
  <Override PartName="/ppt/media/image31.gif" ContentType="image/gif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32.gif" ContentType="image/gif"/>
  <Override PartName="/ppt/media/image1.jpeg" ContentType="image/jpeg"/>
  <Override PartName="/ppt/media/image15.png" ContentType="image/png"/>
  <Override PartName="/ppt/media/image23.gif" ContentType="image/gif"/>
  <Override PartName="/ppt/media/image16.png" ContentType="image/png"/>
  <Override PartName="/ppt/media/image24.gif" ContentType="image/gif"/>
  <Override PartName="/ppt/media/image17.png" ContentType="image/png"/>
  <Override PartName="/ppt/media/image18.gif" ContentType="image/gif"/>
  <Override PartName="/ppt/media/image1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176-C0AC-4841-986D-43C5835A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728-C405-47AE-91DC-4668FF60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85E-0A5A-438F-809B-9331A1EC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196-A2A2-4C44-A593-34D01137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C7EC-175A-4782-8B40-37B63349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ACE3-5567-457E-A043-53F3434C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2640-5691-47A6-A000-06D48829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9A53-C423-402A-92CC-39C81695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0DF9-2BC0-40A5-84C8-2E210186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B4D7-4111-42F3-BD2C-B385ACA3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EB09-B324-483A-814D-50EDCE3C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B89-4AA8-4FB7-8125-F2DACF66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6898-B4A2-4E28-9B1A-9234C02A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DC36-78E3-4329-8566-84408ADD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E634-55EF-4CEF-96AB-5B6EC775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D90E-01E2-4B1A-B208-F991DE2C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7746-E000-417C-9E44-96034EC2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4D631-56CD-4ED7-8E5B-9C12E2C3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F38E-AD5B-4404-9F9C-897214E1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F909-7AA7-44D2-8961-55398220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2C8D-D7BA-4C3A-BBCC-0CF34C2B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11BD-3E8E-4A26-A21A-8C9439D9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B70-4B09-4C53-B344-C810AAE3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FFBB-90A2-4E83-B642-72FB885A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11F1-B671-4F16-AB75-2C37E47A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D7A8C-E76D-41FB-9CB2-B83CDDF4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E8D4-75FF-46F3-91F2-3B46CF90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C0999-F0A1-4A1C-BA4E-FAA11E9D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5340-0B21-4797-85F1-A042D327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69EA-3D56-47B5-98AC-7805C9FC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F953C-F144-4685-878F-F01CE32E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AEF8A-71DD-4DF5-9D98-A5C7CE9A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73759-839D-48BE-B504-887D1025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A9A-905E-43BC-8F2F-71092C0C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2ADC1-1617-4019-A0B1-F601FD00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B5918-516B-46D2-B87F-34E9B27B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8C2A7-166E-4268-A2A2-F77F5166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055EF-537D-48D8-9ADE-E09EDA8D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3E1D29-65BF-4479-97F7-872C6FC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64C3F-29C0-4D7D-AF0E-51F803A3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63102-B556-44FE-862E-10F76595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72B73-2791-4077-BF91-A4FBD1B9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7B388-6328-4A05-A2D6-43B67B87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9A367-8C73-474B-85B9-A7D698C1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D37-ABEC-4AD4-8FA1-00751C04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04259-41AD-4E69-92C6-C1882120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77A67-54F1-41C6-90DA-E328897C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8296-B185-44FB-A88E-D507C6EE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A1897-60AD-4DF4-A552-A46F5348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9073F-CA96-4C8A-8542-D7C9C2B4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7D960-D2F8-4E44-A5EE-B17323ED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2A965-62A6-4E5B-A254-44B8FAF5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D8BB-C6FA-41FE-8FB7-6820AA33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8B770-2963-4AA6-9A3A-C0484B07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9CBA9-6BCD-43DE-8C30-8D4547E4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D05-AA95-49B1-A40B-D606A60D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94D01-12FF-49BC-A8B2-3A151330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14430-D8A0-4FDF-A1B3-989B5D12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64ACC-129C-468B-B41F-BA2B0785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9DC91-7276-4FC7-A49A-9172C16B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BB5F0-2588-4C6E-A12D-8B0C4A93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3A293-0662-4985-B6C9-AE7FDE08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7A8B-6F7E-4077-86C3-240AC552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B11D6-EE79-4E56-B9A1-CDF51377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F19B9-6C7B-41D4-B361-A405DD27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50428-53E9-4571-808D-0A85E109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CCD-14C5-445D-A254-D2261456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25409-7513-4041-B79E-C310431F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7611D-71E3-45D1-A536-0422DBD8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0B21C-3ED2-4BEF-B393-4AAC7A6E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AF7-8FFB-448A-B6F7-D60E6D8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7E5-8877-4C66-86C7-E41A351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4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BD12-4C87-4130-AF2C-F651848D3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8B5E-D4AD-499B-9780-26B56867CD1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AA4A-4D8B-49A9-9565-81318D6D66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0D48-B252-4819-A020-8073D4000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01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2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0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4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4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4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4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5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5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5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5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5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5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6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6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6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7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7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7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7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7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7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8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8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8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9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9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9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9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0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0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0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0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0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40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0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1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1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18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19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BAAC-8A72-406A-BC5F-FACE3D532D53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7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7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8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8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8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49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9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1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1921-558B-42FF-B5A1-C6058647E60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7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5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3.xml"/><Relationship Id="rId15" Type="http://schemas.openxmlformats.org/officeDocument/2006/relationships/slide" Target="slide36.xml"/><Relationship Id="rId16" Type="http://schemas.openxmlformats.org/officeDocument/2006/relationships/slide" Target="slide37.xml"/><Relationship Id="rId17" Type="http://schemas.openxmlformats.org/officeDocument/2006/relationships/slide" Target="slide34.xml"/><Relationship Id="rId18" Type="http://schemas.openxmlformats.org/officeDocument/2006/relationships/slide" Target="slide35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50" descr="726454"/>
          <p:cNvPicPr/>
          <p:nvPr/>
        </p:nvPicPr>
        <p:blipFill>
          <a:blip r:embed="rId2"/>
          <a:stretch/>
        </p:blipFill>
        <p:spPr>
          <a:xfrm rot="54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71" name="WordArt 51"/>
          <p:cNvSpPr txBox="1"/>
          <p:nvPr/>
        </p:nvSpPr>
        <p:spPr>
          <a:xfrm rot="21162000">
            <a:off x="431280" y="1768320"/>
            <a:ext cx="82328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Моза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здоров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755640" y="333360"/>
            <a:ext cx="754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122000" y="37861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кипяче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823680" y="2421000"/>
            <a:ext cx="47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. отжим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2. накло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3. присед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250920" y="40464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7. Упражнения для развития гибкости это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0" y="3040200"/>
            <a:ext cx="9144000" cy="360"/>
          </a:xfrm>
          <a:prstGeom prst="rect">
            <a:avLst/>
          </a:prstGeom>
          <a:solidFill>
            <a:srgbClr val="afb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357120" y="189000"/>
            <a:ext cx="878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8. Для тестирования уровня скоростных качеств нужно пробежат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846360" y="3789360"/>
            <a:ext cx="338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1. 30 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2. 300 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3. 3 по 10 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0" y="2894040"/>
            <a:ext cx="9144000" cy="360"/>
          </a:xfrm>
          <a:prstGeom prst="rect">
            <a:avLst/>
          </a:prstGeom>
          <a:solidFill>
            <a:srgbClr val="afb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2916360"/>
            <a:ext cx="9144000" cy="360"/>
          </a:xfrm>
          <a:prstGeom prst="rect">
            <a:avLst/>
          </a:prstGeom>
          <a:solidFill>
            <a:srgbClr val="afb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solidFill>
            <a:srgbClr val="afb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755640" y="333360"/>
            <a:ext cx="754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4122000" y="37861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кипяче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823680" y="2421000"/>
            <a:ext cx="47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. отжим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2. накло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3. присед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250920" y="40464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9. Упражнения для развития гибкости это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3040200"/>
            <a:ext cx="9144000" cy="360"/>
          </a:xfrm>
          <a:prstGeom prst="rect">
            <a:avLst/>
          </a:prstGeom>
          <a:solidFill>
            <a:srgbClr val="afb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0" y="33336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10. </a:t>
            </a:r>
            <a:r>
              <a:rPr b="1" lang="ru-RU" sz="4800" spc="-1" strike="noStrike">
                <a:solidFill>
                  <a:srgbClr val="ff0066"/>
                </a:solidFill>
                <a:latin typeface="Tahoma"/>
              </a:rPr>
              <a:t>Противовоспалительная трава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4122000" y="37861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кипяче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1123920" y="3141720"/>
            <a:ext cx="413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. крапи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2. подорож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3. рома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4. одуванч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755640" y="333360"/>
            <a:ext cx="754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4122000" y="37861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кипяче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250920" y="404640"/>
            <a:ext cx="864216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11. 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К основным физическим качествам, обеспечивающим высокий уровень здоровья, относятся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539640" y="3499200"/>
            <a:ext cx="820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1. скоростные качества;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2.  силовые качества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541440" y="480420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3.  психологические качества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755640" y="333360"/>
            <a:ext cx="754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4122000" y="37861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кипяче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250920" y="4046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12.Гиподинамия - эт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2749680"/>
            <a:ext cx="9144000" cy="360"/>
          </a:xfrm>
          <a:prstGeom prst="rect">
            <a:avLst/>
          </a:prstGeom>
          <a:solidFill>
            <a:srgbClr val="afb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Rectangle 21"/>
          <p:cNvSpPr/>
          <p:nvPr/>
        </p:nvSpPr>
        <p:spPr>
          <a:xfrm>
            <a:off x="324000" y="1477800"/>
            <a:ext cx="9361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1. физическое перенапряжение организма.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2. избыток движения;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Rectangle 22"/>
          <p:cNvSpPr/>
          <p:nvPr/>
        </p:nvSpPr>
        <p:spPr>
          <a:xfrm>
            <a:off x="324000" y="3498840"/>
            <a:ext cx="936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3. недостаток движения;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cc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AutoShape 7">
            <a:hlinkClick r:id="rId1" action="ppaction://hlinksldjump"/>
          </p:cNvPr>
          <p:cNvSpPr/>
          <p:nvPr/>
        </p:nvSpPr>
        <p:spPr>
          <a:xfrm>
            <a:off x="0" y="5950080"/>
            <a:ext cx="611280" cy="54900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4049" h="21600">
                <a:moveTo>
                  <a:pt x="0" y="0"/>
                </a:moveTo>
                <a:lnTo>
                  <a:pt x="24049" y="0"/>
                </a:lnTo>
                <a:lnTo>
                  <a:pt x="24049" y="21600"/>
                </a:lnTo>
                <a:lnTo>
                  <a:pt x="0" y="21600"/>
                </a:lnTo>
                <a:close/>
              </a:path>
              <a:path fill="lightenLess" w="24049" h="21600">
                <a:moveTo>
                  <a:pt x="0" y="0"/>
                </a:moveTo>
                <a:lnTo>
                  <a:pt x="24049" y="0"/>
                </a:lnTo>
                <a:lnTo>
                  <a:pt x="22649" y="1400"/>
                </a:lnTo>
                <a:lnTo>
                  <a:pt x="1400" y="1400"/>
                </a:lnTo>
                <a:close/>
              </a:path>
              <a:path fill="darken" w="24049" h="21600">
                <a:moveTo>
                  <a:pt x="24049" y="0"/>
                </a:moveTo>
                <a:lnTo>
                  <a:pt x="24049" y="21600"/>
                </a:lnTo>
                <a:lnTo>
                  <a:pt x="22649" y="20200"/>
                </a:lnTo>
                <a:lnTo>
                  <a:pt x="22649" y="1400"/>
                </a:lnTo>
                <a:close/>
              </a:path>
              <a:path fill="darkenLess" w="24049" h="21600">
                <a:moveTo>
                  <a:pt x="24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9" y="20200"/>
                </a:lnTo>
                <a:close/>
              </a:path>
              <a:path fill="lighten" w="24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9" h="21600">
                <a:moveTo>
                  <a:pt x="12024" y="3837"/>
                </a:moveTo>
                <a:lnTo>
                  <a:pt x="14601" y="6448"/>
                </a:lnTo>
                <a:lnTo>
                  <a:pt x="14601" y="4707"/>
                </a:lnTo>
                <a:lnTo>
                  <a:pt x="16376" y="4707"/>
                </a:lnTo>
                <a:lnTo>
                  <a:pt x="16376" y="8224"/>
                </a:lnTo>
                <a:lnTo>
                  <a:pt x="18987" y="10800"/>
                </a:lnTo>
                <a:lnTo>
                  <a:pt x="17334" y="10800"/>
                </a:lnTo>
                <a:lnTo>
                  <a:pt x="17334" y="17989"/>
                </a:lnTo>
                <a:lnTo>
                  <a:pt x="6715" y="17989"/>
                </a:lnTo>
                <a:lnTo>
                  <a:pt x="6715" y="10800"/>
                </a:lnTo>
                <a:lnTo>
                  <a:pt x="5061" y="10800"/>
                </a:lnTo>
                <a:close/>
              </a:path>
              <a:path fill="darkenLess" w="24049" h="21600">
                <a:moveTo>
                  <a:pt x="14601" y="6448"/>
                </a:moveTo>
                <a:lnTo>
                  <a:pt x="14601" y="4707"/>
                </a:lnTo>
                <a:lnTo>
                  <a:pt x="16376" y="4707"/>
                </a:lnTo>
                <a:lnTo>
                  <a:pt x="16376" y="8224"/>
                </a:lnTo>
                <a:close/>
              </a:path>
              <a:path fill="darkenLess" w="24049" h="21600">
                <a:moveTo>
                  <a:pt x="11102" y="14299"/>
                </a:moveTo>
                <a:lnTo>
                  <a:pt x="12947" y="14299"/>
                </a:lnTo>
                <a:lnTo>
                  <a:pt x="12947" y="17989"/>
                </a:lnTo>
                <a:lnTo>
                  <a:pt x="17334" y="17989"/>
                </a:lnTo>
                <a:lnTo>
                  <a:pt x="17334" y="10800"/>
                </a:lnTo>
                <a:lnTo>
                  <a:pt x="6715" y="10800"/>
                </a:lnTo>
                <a:lnTo>
                  <a:pt x="6715" y="17989"/>
                </a:lnTo>
                <a:lnTo>
                  <a:pt x="1110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2521080" y="2968560"/>
            <a:ext cx="320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. кара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2. ки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3. оку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4. мор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611280" y="476280"/>
            <a:ext cx="810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13. Любитель зимнего плавания.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5" descr="bange_mouse"/>
          <p:cNvPicPr/>
          <p:nvPr/>
        </p:nvPicPr>
        <p:blipFill>
          <a:blip r:embed="rId1"/>
          <a:stretch/>
        </p:blipFill>
        <p:spPr>
          <a:xfrm>
            <a:off x="395280" y="2492280"/>
            <a:ext cx="3382920" cy="2181240"/>
          </a:xfrm>
          <a:prstGeom prst="rect">
            <a:avLst/>
          </a:prstGeom>
          <a:ln w="0">
            <a:noFill/>
          </a:ln>
        </p:spPr>
      </p:pic>
      <p:sp>
        <p:nvSpPr>
          <p:cNvPr id="664" name="WordArt 7"/>
          <p:cNvSpPr txBox="1"/>
          <p:nvPr/>
        </p:nvSpPr>
        <p:spPr>
          <a:xfrm>
            <a:off x="1908000" y="620640"/>
            <a:ext cx="568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Поздравляю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665" name="WordArt 8"/>
          <p:cNvSpPr txBox="1"/>
          <p:nvPr/>
        </p:nvSpPr>
        <p:spPr>
          <a:xfrm>
            <a:off x="2556000" y="3213000"/>
            <a:ext cx="6048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У ва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переход хода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666" name="AutoShape 9">
            <a:hlinkClick r:id="rId2" action="ppaction://hlinksldjump"/>
          </p:cNvPr>
          <p:cNvSpPr/>
          <p:nvPr/>
        </p:nvSpPr>
        <p:spPr>
          <a:xfrm>
            <a:off x="0" y="609300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24"/>
          <p:cNvSpPr/>
          <p:nvPr/>
        </p:nvSpPr>
        <p:spPr>
          <a:xfrm>
            <a:off x="8604360" y="616572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14387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lnTo>
                  <a:pt x="21350" y="10800"/>
                </a:lnTo>
                <a:lnTo>
                  <a:pt x="19696" y="10800"/>
                </a:lnTo>
                <a:lnTo>
                  <a:pt x="19696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4" y="10800"/>
                </a:lnTo>
                <a:close/>
              </a:path>
              <a:path fill="darkenLess" w="28774" h="21600">
                <a:moveTo>
                  <a:pt x="16964" y="6448"/>
                </a:move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close/>
              </a:path>
              <a:path fill="darkenLess" w="28774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6" y="17989"/>
                </a:lnTo>
                <a:lnTo>
                  <a:pt x="19696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WordArt 18"/>
          <p:cNvSpPr txBox="1"/>
          <p:nvPr/>
        </p:nvSpPr>
        <p:spPr>
          <a:xfrm rot="20950800">
            <a:off x="539640" y="1052640"/>
            <a:ext cx="60595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гра с зал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b8b8d0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WordArt 5"/>
          <p:cNvSpPr txBox="1"/>
          <p:nvPr/>
        </p:nvSpPr>
        <p:spPr>
          <a:xfrm>
            <a:off x="971640" y="2997360"/>
            <a:ext cx="70563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cc00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rial Black"/>
              </a:rPr>
              <a:t>Получите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cc00"/>
                  </a:gs>
                  <a:gs pos="100000">
                    <a:srgbClr val="ff3300"/>
                  </a:gs>
                </a:gsLst>
                <a:lin ang="189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cc00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cc00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rial Black"/>
              </a:rPr>
              <a:t>дополнительно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cc00"/>
                  </a:gs>
                  <a:gs pos="100000">
                    <a:srgbClr val="ff3300"/>
                  </a:gs>
                </a:gsLst>
                <a:lin ang="189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cc00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cc00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rial Black"/>
              </a:rPr>
              <a:t>3 балла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cc00"/>
                  </a:gs>
                  <a:gs pos="100000">
                    <a:srgbClr val="ff3300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670" name="AutoShape 6"/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1" name="Picture 10" descr="61_1_mobile_themes_240x320"/>
          <p:cNvPicPr/>
          <p:nvPr/>
        </p:nvPicPr>
        <p:blipFill>
          <a:blip r:embed="rId1"/>
          <a:stretch/>
        </p:blipFill>
        <p:spPr>
          <a:xfrm>
            <a:off x="3635280" y="260280"/>
            <a:ext cx="194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4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uzzle3"/>
          <p:cNvSpPr/>
          <p:nvPr/>
        </p:nvSpPr>
        <p:spPr>
          <a:xfrm>
            <a:off x="2378160" y="0"/>
            <a:ext cx="1601640" cy="2171880"/>
          </a:xfrm>
          <a:custGeom>
            <a:avLst/>
            <a:gdLst>
              <a:gd name="textAreaLeft" fmla="*/ 168480 w 1601640"/>
              <a:gd name="textAreaRight" fmla="*/ 1420200 w 1601640"/>
              <a:gd name="textAreaTop" fmla="*/ 776160 h 2171880"/>
              <a:gd name="textAreaBottom" fmla="*/ 2035080 h 21718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uzzle2"/>
          <p:cNvSpPr/>
          <p:nvPr/>
        </p:nvSpPr>
        <p:spPr>
          <a:xfrm>
            <a:off x="1913040" y="1582560"/>
            <a:ext cx="2555640" cy="1978200"/>
          </a:xfrm>
          <a:custGeom>
            <a:avLst/>
            <a:gdLst>
              <a:gd name="textAreaLeft" fmla="*/ 637560 w 2555640"/>
              <a:gd name="textAreaRight" fmla="*/ 1914120 w 2555640"/>
              <a:gd name="textAreaTop" fmla="*/ 617400 h 1978200"/>
              <a:gd name="textAreaBottom" fmla="*/ 1872360 h 197820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uzzle4"/>
          <p:cNvSpPr/>
          <p:nvPr/>
        </p:nvSpPr>
        <p:spPr>
          <a:xfrm>
            <a:off x="923760" y="1558800"/>
            <a:ext cx="1541520" cy="2529000"/>
          </a:xfrm>
          <a:custGeom>
            <a:avLst/>
            <a:gdLst>
              <a:gd name="textAreaLeft" fmla="*/ 147960 w 1541520"/>
              <a:gd name="textAreaRight" fmla="*/ 1441800 w 1541520"/>
              <a:gd name="textAreaTop" fmla="*/ 663120 h 2529000"/>
              <a:gd name="textAreaBottom" fmla="*/ 1870920 h 252900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uzzle3"/>
          <p:cNvSpPr/>
          <p:nvPr/>
        </p:nvSpPr>
        <p:spPr>
          <a:xfrm>
            <a:off x="5292720" y="0"/>
            <a:ext cx="1601640" cy="2171880"/>
          </a:xfrm>
          <a:custGeom>
            <a:avLst/>
            <a:gdLst>
              <a:gd name="textAreaLeft" fmla="*/ 168480 w 1601640"/>
              <a:gd name="textAreaRight" fmla="*/ 1420200 w 1601640"/>
              <a:gd name="textAreaTop" fmla="*/ 776160 h 2171880"/>
              <a:gd name="textAreaBottom" fmla="*/ 2035080 h 21718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uzzle2"/>
          <p:cNvSpPr/>
          <p:nvPr/>
        </p:nvSpPr>
        <p:spPr>
          <a:xfrm>
            <a:off x="4848120" y="1582560"/>
            <a:ext cx="2556000" cy="1978200"/>
          </a:xfrm>
          <a:custGeom>
            <a:avLst/>
            <a:gdLst>
              <a:gd name="textAreaLeft" fmla="*/ 637560 w 2556000"/>
              <a:gd name="textAreaRight" fmla="*/ 1914480 w 2556000"/>
              <a:gd name="textAreaTop" fmla="*/ 617400 h 1978200"/>
              <a:gd name="textAreaBottom" fmla="*/ 1872360 h 197820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uzzle4"/>
          <p:cNvSpPr/>
          <p:nvPr/>
        </p:nvSpPr>
        <p:spPr>
          <a:xfrm>
            <a:off x="3859200" y="1558800"/>
            <a:ext cx="1541520" cy="2529000"/>
          </a:xfrm>
          <a:custGeom>
            <a:avLst/>
            <a:gdLst>
              <a:gd name="textAreaLeft" fmla="*/ 147960 w 1541520"/>
              <a:gd name="textAreaRight" fmla="*/ 1441800 w 1541520"/>
              <a:gd name="textAreaTop" fmla="*/ 663120 h 2529000"/>
              <a:gd name="textAreaBottom" fmla="*/ 1870920 h 252900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9933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uzzle1"/>
          <p:cNvSpPr/>
          <p:nvPr/>
        </p:nvSpPr>
        <p:spPr>
          <a:xfrm>
            <a:off x="3276720" y="692280"/>
            <a:ext cx="2587680" cy="1508040"/>
          </a:xfrm>
          <a:custGeom>
            <a:avLst/>
            <a:gdLst>
              <a:gd name="textAreaLeft" fmla="*/ 729000 w 2587680"/>
              <a:gd name="textAreaRight" fmla="*/ 1932840 w 2587680"/>
              <a:gd name="textAreaTop" fmla="*/ 179280 h 1508040"/>
              <a:gd name="textAreaBottom" fmla="*/ 1365120 h 150804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ff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uzzle3"/>
          <p:cNvSpPr/>
          <p:nvPr/>
        </p:nvSpPr>
        <p:spPr>
          <a:xfrm>
            <a:off x="2378160" y="2803680"/>
            <a:ext cx="1601640" cy="2171520"/>
          </a:xfrm>
          <a:custGeom>
            <a:avLst/>
            <a:gdLst>
              <a:gd name="textAreaLeft" fmla="*/ 168480 w 1601640"/>
              <a:gd name="textAreaRight" fmla="*/ 1420200 w 1601640"/>
              <a:gd name="textAreaTop" fmla="*/ 775800 h 2171520"/>
              <a:gd name="textAreaBottom" fmla="*/ 2034720 h 217152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uzzle2"/>
          <p:cNvSpPr/>
          <p:nvPr/>
        </p:nvSpPr>
        <p:spPr>
          <a:xfrm>
            <a:off x="1913040" y="4386240"/>
            <a:ext cx="2555640" cy="1978200"/>
          </a:xfrm>
          <a:custGeom>
            <a:avLst/>
            <a:gdLst>
              <a:gd name="textAreaLeft" fmla="*/ 637560 w 2555640"/>
              <a:gd name="textAreaRight" fmla="*/ 1914120 w 2555640"/>
              <a:gd name="textAreaTop" fmla="*/ 617400 h 1978200"/>
              <a:gd name="textAreaBottom" fmla="*/ 1872360 h 197820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uzzle1"/>
          <p:cNvSpPr/>
          <p:nvPr/>
        </p:nvSpPr>
        <p:spPr>
          <a:xfrm>
            <a:off x="395280" y="3460680"/>
            <a:ext cx="2587680" cy="1508040"/>
          </a:xfrm>
          <a:custGeom>
            <a:avLst/>
            <a:gdLst>
              <a:gd name="textAreaLeft" fmla="*/ 729000 w 2587680"/>
              <a:gd name="textAreaRight" fmla="*/ 1932840 w 2587680"/>
              <a:gd name="textAreaTop" fmla="*/ 179280 h 1508040"/>
              <a:gd name="textAreaBottom" fmla="*/ 1365120 h 150804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9933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uzzle3"/>
          <p:cNvSpPr/>
          <p:nvPr/>
        </p:nvSpPr>
        <p:spPr>
          <a:xfrm>
            <a:off x="5313240" y="2803680"/>
            <a:ext cx="1602000" cy="2171520"/>
          </a:xfrm>
          <a:custGeom>
            <a:avLst/>
            <a:gdLst>
              <a:gd name="textAreaLeft" fmla="*/ 168480 w 1602000"/>
              <a:gd name="textAreaRight" fmla="*/ 1420200 w 1602000"/>
              <a:gd name="textAreaTop" fmla="*/ 775800 h 2171520"/>
              <a:gd name="textAreaBottom" fmla="*/ 2034720 h 217152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uzzle2"/>
          <p:cNvSpPr/>
          <p:nvPr/>
        </p:nvSpPr>
        <p:spPr>
          <a:xfrm>
            <a:off x="4848120" y="4386240"/>
            <a:ext cx="2556000" cy="1978200"/>
          </a:xfrm>
          <a:custGeom>
            <a:avLst/>
            <a:gdLst>
              <a:gd name="textAreaLeft" fmla="*/ 637560 w 2556000"/>
              <a:gd name="textAreaRight" fmla="*/ 1914480 w 2556000"/>
              <a:gd name="textAreaTop" fmla="*/ 617400 h 1978200"/>
              <a:gd name="textAreaBottom" fmla="*/ 1872360 h 197820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uzzle4"/>
          <p:cNvSpPr/>
          <p:nvPr/>
        </p:nvSpPr>
        <p:spPr>
          <a:xfrm>
            <a:off x="3859200" y="4362480"/>
            <a:ext cx="1541520" cy="2529000"/>
          </a:xfrm>
          <a:custGeom>
            <a:avLst/>
            <a:gdLst>
              <a:gd name="textAreaLeft" fmla="*/ 147960 w 1541520"/>
              <a:gd name="textAreaRight" fmla="*/ 1441800 w 1541520"/>
              <a:gd name="textAreaTop" fmla="*/ 663120 h 2529000"/>
              <a:gd name="textAreaBottom" fmla="*/ 1870920 h 252900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9933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uzzle1"/>
          <p:cNvSpPr/>
          <p:nvPr/>
        </p:nvSpPr>
        <p:spPr>
          <a:xfrm>
            <a:off x="3348000" y="3429000"/>
            <a:ext cx="2587680" cy="1508040"/>
          </a:xfrm>
          <a:custGeom>
            <a:avLst/>
            <a:gdLst>
              <a:gd name="textAreaLeft" fmla="*/ 729000 w 2587680"/>
              <a:gd name="textAreaRight" fmla="*/ 1932840 w 2587680"/>
              <a:gd name="textAreaTop" fmla="*/ 179280 h 1508040"/>
              <a:gd name="textAreaBottom" fmla="*/ 1365120 h 150804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uzzle4"/>
          <p:cNvSpPr/>
          <p:nvPr/>
        </p:nvSpPr>
        <p:spPr>
          <a:xfrm>
            <a:off x="6761160" y="1558800"/>
            <a:ext cx="1541520" cy="2529000"/>
          </a:xfrm>
          <a:custGeom>
            <a:avLst/>
            <a:gdLst>
              <a:gd name="textAreaLeft" fmla="*/ 147960 w 1541520"/>
              <a:gd name="textAreaRight" fmla="*/ 1441800 w 1541520"/>
              <a:gd name="textAreaTop" fmla="*/ 663120 h 2529000"/>
              <a:gd name="textAreaBottom" fmla="*/ 1870920 h 252900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ff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uzzle1"/>
          <p:cNvSpPr/>
          <p:nvPr/>
        </p:nvSpPr>
        <p:spPr>
          <a:xfrm>
            <a:off x="6232680" y="657360"/>
            <a:ext cx="2587320" cy="1508040"/>
          </a:xfrm>
          <a:custGeom>
            <a:avLst/>
            <a:gdLst>
              <a:gd name="textAreaLeft" fmla="*/ 729000 w 2587320"/>
              <a:gd name="textAreaRight" fmla="*/ 1932480 w 2587320"/>
              <a:gd name="textAreaTop" fmla="*/ 179280 h 1508040"/>
              <a:gd name="textAreaBottom" fmla="*/ 1365120 h 150804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uzzle4"/>
          <p:cNvSpPr/>
          <p:nvPr/>
        </p:nvSpPr>
        <p:spPr>
          <a:xfrm>
            <a:off x="6761160" y="4362480"/>
            <a:ext cx="1541520" cy="2529000"/>
          </a:xfrm>
          <a:custGeom>
            <a:avLst/>
            <a:gdLst>
              <a:gd name="textAreaLeft" fmla="*/ 147960 w 1541520"/>
              <a:gd name="textAreaRight" fmla="*/ 1441800 w 1541520"/>
              <a:gd name="textAreaTop" fmla="*/ 663120 h 2529000"/>
              <a:gd name="textAreaBottom" fmla="*/ 1870920 h 252900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ff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uzzle1"/>
          <p:cNvSpPr/>
          <p:nvPr/>
        </p:nvSpPr>
        <p:spPr>
          <a:xfrm>
            <a:off x="395280" y="692280"/>
            <a:ext cx="2587680" cy="1508040"/>
          </a:xfrm>
          <a:custGeom>
            <a:avLst/>
            <a:gdLst>
              <a:gd name="textAreaLeft" fmla="*/ 729000 w 2587680"/>
              <a:gd name="textAreaRight" fmla="*/ 1932840 w 2587680"/>
              <a:gd name="textAreaTop" fmla="*/ 179280 h 1508040"/>
              <a:gd name="textAreaBottom" fmla="*/ 1365120 h 150804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ff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71640" y="1052640"/>
            <a:ext cx="4316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Text Box 29"/>
          <p:cNvSpPr/>
          <p:nvPr/>
        </p:nvSpPr>
        <p:spPr>
          <a:xfrm>
            <a:off x="2843280" y="476280"/>
            <a:ext cx="503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Text Box 31"/>
          <p:cNvSpPr/>
          <p:nvPr/>
        </p:nvSpPr>
        <p:spPr>
          <a:xfrm>
            <a:off x="5796000" y="549360"/>
            <a:ext cx="50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Text Box 32"/>
          <p:cNvSpPr/>
          <p:nvPr/>
        </p:nvSpPr>
        <p:spPr>
          <a:xfrm>
            <a:off x="3924360" y="1125360"/>
            <a:ext cx="50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Text Box 33"/>
          <p:cNvSpPr/>
          <p:nvPr/>
        </p:nvSpPr>
        <p:spPr>
          <a:xfrm>
            <a:off x="6804000" y="1052640"/>
            <a:ext cx="50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1476360" y="2133720"/>
            <a:ext cx="50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35"/>
          <p:cNvSpPr/>
          <p:nvPr/>
        </p:nvSpPr>
        <p:spPr>
          <a:xfrm>
            <a:off x="3276720" y="2205000"/>
            <a:ext cx="50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Text Box 36"/>
          <p:cNvSpPr/>
          <p:nvPr/>
        </p:nvSpPr>
        <p:spPr>
          <a:xfrm>
            <a:off x="4356000" y="2205000"/>
            <a:ext cx="505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Text Box 37"/>
          <p:cNvSpPr/>
          <p:nvPr/>
        </p:nvSpPr>
        <p:spPr>
          <a:xfrm>
            <a:off x="5867280" y="2060640"/>
            <a:ext cx="505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9" action="ppaction://hlinksldjump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Text Box 38"/>
          <p:cNvSpPr/>
          <p:nvPr/>
        </p:nvSpPr>
        <p:spPr>
          <a:xfrm>
            <a:off x="7093080" y="1989000"/>
            <a:ext cx="1008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0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Text Box 39"/>
          <p:cNvSpPr/>
          <p:nvPr/>
        </p:nvSpPr>
        <p:spPr>
          <a:xfrm>
            <a:off x="755640" y="3860640"/>
            <a:ext cx="1008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1" action="ppaction://hlinksldjump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40"/>
          <p:cNvSpPr/>
          <p:nvPr/>
        </p:nvSpPr>
        <p:spPr>
          <a:xfrm>
            <a:off x="2700360" y="3284640"/>
            <a:ext cx="1008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2" action="ppaction://hlinksldjump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Text Box 41"/>
          <p:cNvSpPr/>
          <p:nvPr/>
        </p:nvSpPr>
        <p:spPr>
          <a:xfrm>
            <a:off x="3780000" y="3860640"/>
            <a:ext cx="1008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3" action="ppaction://hlinksldjump"/>
              </a:rPr>
              <a:t>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Text Box 42"/>
          <p:cNvSpPr/>
          <p:nvPr/>
        </p:nvSpPr>
        <p:spPr>
          <a:xfrm>
            <a:off x="5724360" y="3284640"/>
            <a:ext cx="10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4" action="ppaction://hlinksldjump"/>
              </a:rPr>
              <a:t>1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Text Box 43"/>
          <p:cNvSpPr/>
          <p:nvPr/>
        </p:nvSpPr>
        <p:spPr>
          <a:xfrm>
            <a:off x="2700360" y="4941720"/>
            <a:ext cx="1008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5" action="ppaction://hlinksldjump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44"/>
          <p:cNvSpPr/>
          <p:nvPr/>
        </p:nvSpPr>
        <p:spPr>
          <a:xfrm>
            <a:off x="4140360" y="4797360"/>
            <a:ext cx="1008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6" action="ppaction://hlinksldjump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Text Box 45"/>
          <p:cNvSpPr/>
          <p:nvPr/>
        </p:nvSpPr>
        <p:spPr>
          <a:xfrm>
            <a:off x="5651640" y="4941720"/>
            <a:ext cx="1008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7" action="ppaction://hlinksldjump"/>
              </a:rPr>
              <a:t>1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Text Box 46"/>
          <p:cNvSpPr/>
          <p:nvPr/>
        </p:nvSpPr>
        <p:spPr>
          <a:xfrm>
            <a:off x="7020000" y="4797360"/>
            <a:ext cx="1008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8" action="ppaction://hlinksldjump"/>
              </a:rPr>
              <a:t>1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4" descr="2_1_mobile_themes_240x320"/>
          <p:cNvPicPr/>
          <p:nvPr/>
        </p:nvPicPr>
        <p:blipFill>
          <a:blip r:embed="rId1"/>
          <a:stretch/>
        </p:blipFill>
        <p:spPr>
          <a:xfrm>
            <a:off x="755640" y="126828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673" name="WordArt 15"/>
          <p:cNvSpPr txBox="1"/>
          <p:nvPr/>
        </p:nvSpPr>
        <p:spPr>
          <a:xfrm>
            <a:off x="3564000" y="476280"/>
            <a:ext cx="48942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Увы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74" name="WordArt 16"/>
          <p:cNvSpPr txBox="1"/>
          <p:nvPr/>
        </p:nvSpPr>
        <p:spPr>
          <a:xfrm>
            <a:off x="358920" y="3933720"/>
            <a:ext cx="8785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Вы потеряли 2 балл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0" y="602136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14387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lnTo>
                  <a:pt x="21350" y="10800"/>
                </a:lnTo>
                <a:lnTo>
                  <a:pt x="19696" y="10800"/>
                </a:lnTo>
                <a:lnTo>
                  <a:pt x="19696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4" y="10800"/>
                </a:lnTo>
                <a:close/>
              </a:path>
              <a:path fill="darkenLess" w="28774" h="21600">
                <a:moveTo>
                  <a:pt x="16964" y="6448"/>
                </a:move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close/>
              </a:path>
              <a:path fill="darkenLess" w="28774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6" y="17989"/>
                </a:lnTo>
                <a:lnTo>
                  <a:pt x="19696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WordArt 6"/>
          <p:cNvSpPr txBox="1"/>
          <p:nvPr/>
        </p:nvSpPr>
        <p:spPr>
          <a:xfrm>
            <a:off x="468360" y="333360"/>
            <a:ext cx="835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 Black"/>
              </a:rPr>
              <a:t>Массовый та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77" name="AutoShape 7"/>
          <p:cNvSpPr/>
          <p:nvPr/>
        </p:nvSpPr>
        <p:spPr>
          <a:xfrm>
            <a:off x="0" y="609300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8" name="Picture 9" descr="user posted image"/>
          <p:cNvPicPr/>
          <p:nvPr/>
        </p:nvPicPr>
        <p:blipFill>
          <a:blip r:embed="rId1"/>
          <a:stretch/>
        </p:blipFill>
        <p:spPr>
          <a:xfrm>
            <a:off x="11052000" y="-603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1" descr="user posted image"/>
          <p:cNvPicPr/>
          <p:nvPr/>
        </p:nvPicPr>
        <p:blipFill>
          <a:blip r:embed="rId2"/>
          <a:stretch/>
        </p:blipFill>
        <p:spPr>
          <a:xfrm>
            <a:off x="9972720" y="1916280"/>
            <a:ext cx="2038320" cy="28573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6" descr="7601387_3270917_495671_jeniusunplugged2"/>
          <p:cNvPicPr/>
          <p:nvPr/>
        </p:nvPicPr>
        <p:blipFill>
          <a:blip r:embed="rId3"/>
          <a:stretch/>
        </p:blipFill>
        <p:spPr>
          <a:xfrm>
            <a:off x="3780000" y="1341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8" descr="50 snoop (246x168, 306Kb)"/>
          <p:cNvPicPr/>
          <p:nvPr/>
        </p:nvPicPr>
        <p:blipFill>
          <a:blip r:embed="rId4"/>
          <a:stretch/>
        </p:blipFill>
        <p:spPr>
          <a:xfrm>
            <a:off x="10836360" y="5589720"/>
            <a:ext cx="2343240" cy="1600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9" descr="7658971_7175284_6308329_image010"/>
          <p:cNvPicPr/>
          <p:nvPr/>
        </p:nvPicPr>
        <p:blipFill>
          <a:blip r:embed="rId5"/>
          <a:stretch/>
        </p:blipFill>
        <p:spPr>
          <a:xfrm>
            <a:off x="6588000" y="1557360"/>
            <a:ext cx="1333800" cy="289548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0" descr="7658971_7175284_6308329_image010"/>
          <p:cNvPicPr/>
          <p:nvPr/>
        </p:nvPicPr>
        <p:blipFill>
          <a:blip r:embed="rId6"/>
          <a:stretch/>
        </p:blipFill>
        <p:spPr>
          <a:xfrm>
            <a:off x="5219640" y="2997360"/>
            <a:ext cx="1333440" cy="28954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21" descr="7658971_7175284_6308329_image010"/>
          <p:cNvPicPr/>
          <p:nvPr/>
        </p:nvPicPr>
        <p:blipFill>
          <a:blip r:embed="rId7"/>
          <a:stretch/>
        </p:blipFill>
        <p:spPr>
          <a:xfrm>
            <a:off x="2916360" y="3068640"/>
            <a:ext cx="1333440" cy="28954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2" descr="7658971_7175284_6308329_image010"/>
          <p:cNvPicPr/>
          <p:nvPr/>
        </p:nvPicPr>
        <p:blipFill>
          <a:blip r:embed="rId8"/>
          <a:stretch/>
        </p:blipFill>
        <p:spPr>
          <a:xfrm>
            <a:off x="1476360" y="1628640"/>
            <a:ext cx="1333440" cy="28958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3" descr="7658971_7175284_6308329_image010"/>
          <p:cNvPicPr/>
          <p:nvPr/>
        </p:nvPicPr>
        <p:blipFill>
          <a:blip r:embed="rId9"/>
          <a:stretch/>
        </p:blipFill>
        <p:spPr>
          <a:xfrm>
            <a:off x="0" y="2852640"/>
            <a:ext cx="1333440" cy="28958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4" descr="7658971_7175284_6308329_image010"/>
          <p:cNvPicPr/>
          <p:nvPr/>
        </p:nvPicPr>
        <p:blipFill>
          <a:blip r:embed="rId10"/>
          <a:stretch/>
        </p:blipFill>
        <p:spPr>
          <a:xfrm>
            <a:off x="8172360" y="2997360"/>
            <a:ext cx="1333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ce96be212e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9" name="WordArt 4"/>
          <p:cNvGrpSpPr/>
          <p:nvPr/>
        </p:nvGrpSpPr>
        <p:grpSpPr>
          <a:xfrm>
            <a:off x="1542960" y="689040"/>
            <a:ext cx="6418440" cy="1736640"/>
            <a:chOff x="1542960" y="689040"/>
            <a:chExt cx="6418440" cy="1736640"/>
          </a:xfrm>
        </p:grpSpPr>
        <p:pic>
          <p:nvPicPr>
            <p:cNvPr id="690" name="WordArt 4" descr=""/>
            <p:cNvPicPr/>
            <p:nvPr/>
          </p:nvPicPr>
          <p:blipFill>
            <a:blip r:embed="rId2"/>
            <a:stretch/>
          </p:blipFill>
          <p:spPr>
            <a:xfrm>
              <a:off x="1542960" y="689040"/>
              <a:ext cx="641844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1547640" y="692280"/>
              <a:ext cx="64090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 Black"/>
                </a:rPr>
                <a:t>Игра на внимание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6"/>
          <p:cNvSpPr/>
          <p:nvPr/>
        </p:nvSpPr>
        <p:spPr>
          <a:xfrm>
            <a:off x="539640" y="476280"/>
            <a:ext cx="49690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Человек имеет право на здоровь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539640" y="1121760"/>
            <a:ext cx="482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a06"/>
                </a:solidFill>
                <a:latin typeface="Tahoma"/>
              </a:rPr>
              <a:t>Человек - кузнец своего здоров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547560" y="1772640"/>
            <a:ext cx="3304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a06"/>
                </a:solidFill>
                <a:latin typeface="Tahoma"/>
              </a:rPr>
              <a:t>Чистота – залог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536040" y="2491560"/>
            <a:ext cx="47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a06"/>
                </a:solidFill>
                <a:latin typeface="Tahoma"/>
              </a:rPr>
              <a:t>Здоровье в порядке, спасибо заряд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Rectangle 10"/>
          <p:cNvSpPr/>
          <p:nvPr/>
        </p:nvSpPr>
        <p:spPr>
          <a:xfrm>
            <a:off x="681840" y="3212640"/>
            <a:ext cx="380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53a06"/>
                </a:solidFill>
                <a:latin typeface="Tahoma"/>
              </a:rPr>
              <a:t>Забудь пароль, сотри свой ни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53a06"/>
                </a:solidFill>
                <a:latin typeface="Tahoma"/>
              </a:rPr>
              <a:t>Нажми Esc – и на турник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11"/>
          <p:cNvSpPr/>
          <p:nvPr/>
        </p:nvSpPr>
        <p:spPr>
          <a:xfrm>
            <a:off x="623880" y="4220280"/>
            <a:ext cx="669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a06"/>
                </a:solidFill>
                <a:latin typeface="Tahoma"/>
              </a:rPr>
              <a:t>Здоровье дороже денег, здоров буду и денег добуду.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Rectangle 12"/>
          <p:cNvSpPr/>
          <p:nvPr/>
        </p:nvSpPr>
        <p:spPr>
          <a:xfrm>
            <a:off x="664200" y="5012640"/>
            <a:ext cx="3664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a06"/>
                </a:solidFill>
                <a:latin typeface="Tahoma"/>
              </a:rPr>
              <a:t>Где здоровье, там и красо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Rectangle 13"/>
          <p:cNvSpPr/>
          <p:nvPr/>
        </p:nvSpPr>
        <p:spPr>
          <a:xfrm>
            <a:off x="666360" y="5804640"/>
            <a:ext cx="381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a06"/>
                </a:solidFill>
                <a:latin typeface="Tahoma"/>
              </a:rPr>
              <a:t>Умеренность - мать здоровь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AutoShape 7"/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4" descr="100_1_mobile_themes_240x320"/>
          <p:cNvPicPr/>
          <p:nvPr/>
        </p:nvPicPr>
        <p:blipFill>
          <a:blip r:embed="rId1"/>
          <a:stretch/>
        </p:blipFill>
        <p:spPr>
          <a:xfrm>
            <a:off x="4952880" y="-747720"/>
            <a:ext cx="4191120" cy="5589720"/>
          </a:xfrm>
          <a:prstGeom prst="rect">
            <a:avLst/>
          </a:prstGeom>
          <a:ln w="0">
            <a:noFill/>
          </a:ln>
        </p:spPr>
      </p:pic>
      <p:sp>
        <p:nvSpPr>
          <p:cNvPr id="702" name="WordArt 5"/>
          <p:cNvSpPr txBox="1"/>
          <p:nvPr/>
        </p:nvSpPr>
        <p:spPr>
          <a:xfrm>
            <a:off x="250920" y="1773360"/>
            <a:ext cx="6789600" cy="48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У в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сгораю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3 балла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703" name="AutoShape 6"/>
          <p:cNvSpPr/>
          <p:nvPr/>
        </p:nvSpPr>
        <p:spPr>
          <a:xfrm>
            <a:off x="8604360" y="6237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WordArt 2"/>
          <p:cNvSpPr txBox="1"/>
          <p:nvPr/>
        </p:nvSpPr>
        <p:spPr>
          <a:xfrm>
            <a:off x="468360" y="1341360"/>
            <a:ext cx="5364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Чер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ящи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5" name="WordArt 3"/>
          <p:cNvSpPr txBox="1"/>
          <p:nvPr/>
        </p:nvSpPr>
        <p:spPr>
          <a:xfrm>
            <a:off x="4643280" y="5300640"/>
            <a:ext cx="410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(5 бал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за правильный ответ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06" name="Picture 4" descr="99_1_mobile_themes_240x320"/>
          <p:cNvPicPr/>
          <p:nvPr/>
        </p:nvPicPr>
        <p:blipFill>
          <a:blip r:embed="rId1"/>
          <a:stretch/>
        </p:blipFill>
        <p:spPr>
          <a:xfrm>
            <a:off x="6257880" y="0"/>
            <a:ext cx="28861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AutoShape 4"/>
          <p:cNvSpPr/>
          <p:nvPr/>
        </p:nvSpPr>
        <p:spPr>
          <a:xfrm>
            <a:off x="0" y="602136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14387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lnTo>
                  <a:pt x="21350" y="10800"/>
                </a:lnTo>
                <a:lnTo>
                  <a:pt x="19696" y="10800"/>
                </a:lnTo>
                <a:lnTo>
                  <a:pt x="19696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4" y="10800"/>
                </a:lnTo>
                <a:close/>
              </a:path>
              <a:path fill="darkenLess" w="28774" h="21600">
                <a:moveTo>
                  <a:pt x="16964" y="6448"/>
                </a:move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close/>
              </a:path>
              <a:path fill="darkenLess" w="28774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6" y="17989"/>
                </a:lnTo>
                <a:lnTo>
                  <a:pt x="19696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468360" y="981000"/>
            <a:ext cx="633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тец медицины Гиппокра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зывал этот необходим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ля жиз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мпонент «пастбищем жизни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2700360" y="52538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озду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0" name="Picture 7" descr="99_1_mobile_themes_240x320"/>
          <p:cNvPicPr/>
          <p:nvPr/>
        </p:nvPicPr>
        <p:blipFill>
          <a:blip r:embed="rId1"/>
          <a:stretch/>
        </p:blipFill>
        <p:spPr>
          <a:xfrm>
            <a:off x="6257880" y="0"/>
            <a:ext cx="28861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WordArt 2"/>
          <p:cNvSpPr txBox="1"/>
          <p:nvPr/>
        </p:nvSpPr>
        <p:spPr>
          <a:xfrm>
            <a:off x="1332000" y="2708280"/>
            <a:ext cx="712944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команда, котора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находится слев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от вас, получает дополнительны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 баллов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12" name="WordArt 3"/>
          <p:cNvSpPr txBox="1"/>
          <p:nvPr/>
        </p:nvSpPr>
        <p:spPr>
          <a:xfrm>
            <a:off x="3419640" y="620640"/>
            <a:ext cx="525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Поздравляю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713" name="Picture 4" descr="25_1_mobile_themes_240x320"/>
          <p:cNvPicPr/>
          <p:nvPr/>
        </p:nvPicPr>
        <p:blipFill>
          <a:blip r:embed="rId1"/>
          <a:stretch/>
        </p:blipFill>
        <p:spPr>
          <a:xfrm>
            <a:off x="179280" y="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714" name="AutoShape 5"/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WordArt 5"/>
          <p:cNvSpPr txBox="1"/>
          <p:nvPr/>
        </p:nvSpPr>
        <p:spPr>
          <a:xfrm>
            <a:off x="826920" y="620640"/>
            <a:ext cx="777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Карик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5"/>
          <p:cNvSpPr/>
          <p:nvPr/>
        </p:nvSpPr>
        <p:spPr>
          <a:xfrm>
            <a:off x="0" y="0"/>
            <a:ext cx="9144000" cy="76770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AutoShape 4"/>
          <p:cNvSpPr/>
          <p:nvPr/>
        </p:nvSpPr>
        <p:spPr>
          <a:xfrm>
            <a:off x="25092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WordArt 8"/>
          <p:cNvSpPr txBox="1"/>
          <p:nvPr/>
        </p:nvSpPr>
        <p:spPr>
          <a:xfrm>
            <a:off x="755640" y="2205000"/>
            <a:ext cx="77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 В здоровом теле - здоровый дух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99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4"/>
          <p:cNvSpPr txBox="1"/>
          <p:nvPr/>
        </p:nvSpPr>
        <p:spPr>
          <a:xfrm>
            <a:off x="684360" y="1197000"/>
            <a:ext cx="77040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Викторина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pic>
        <p:nvPicPr>
          <p:cNvPr id="610" name="Picture 9" descr="CAT33"/>
          <p:cNvPicPr/>
          <p:nvPr/>
        </p:nvPicPr>
        <p:blipFill>
          <a:blip r:embed="rId1"/>
          <a:stretch/>
        </p:blipFill>
        <p:spPr>
          <a:xfrm>
            <a:off x="6516720" y="4343400"/>
            <a:ext cx="2054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WordArt 4"/>
          <p:cNvSpPr txBox="1"/>
          <p:nvPr/>
        </p:nvSpPr>
        <p:spPr>
          <a:xfrm rot="21053400">
            <a:off x="178920" y="333360"/>
            <a:ext cx="6429600" cy="21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Фотореп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0" y="0"/>
            <a:ext cx="9144000" cy="76770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AutoShape 4"/>
          <p:cNvSpPr/>
          <p:nvPr/>
        </p:nvSpPr>
        <p:spPr>
          <a:xfrm>
            <a:off x="25092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511920" y="404640"/>
            <a:ext cx="833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1. Здоров будешь – всё добудешь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552960" y="1628640"/>
            <a:ext cx="797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2. Смех и сон лучшее лекарств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250920" y="3013920"/>
            <a:ext cx="845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3. Здоровому и нездоровое здорово, а нездоровому и здоровое нездорово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4" descr="17_1_mobile_themes_240x320"/>
          <p:cNvPicPr/>
          <p:nvPr/>
        </p:nvPicPr>
        <p:blipFill>
          <a:blip r:embed="rId1"/>
          <a:stretch/>
        </p:blipFill>
        <p:spPr>
          <a:xfrm>
            <a:off x="5796000" y="333360"/>
            <a:ext cx="2970000" cy="3960720"/>
          </a:xfrm>
          <a:prstGeom prst="rect">
            <a:avLst/>
          </a:prstGeom>
          <a:ln w="0">
            <a:noFill/>
          </a:ln>
        </p:spPr>
      </p:pic>
      <p:sp>
        <p:nvSpPr>
          <p:cNvPr id="726" name="WordArt 5"/>
          <p:cNvSpPr txBox="1"/>
          <p:nvPr/>
        </p:nvSpPr>
        <p:spPr>
          <a:xfrm>
            <a:off x="0" y="692280"/>
            <a:ext cx="698508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рисваивае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 балл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 дае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озмож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ткрыть ещё один сек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7" name="AutoShape 6"/>
          <p:cNvSpPr/>
          <p:nvPr/>
        </p:nvSpPr>
        <p:spPr>
          <a:xfrm>
            <a:off x="8604360" y="6237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" descr="29_1_mobile_themes_240x320"/>
          <p:cNvPicPr/>
          <p:nvPr/>
        </p:nvPicPr>
        <p:blipFill>
          <a:blip r:embed="rId1"/>
          <a:stretch/>
        </p:blipFill>
        <p:spPr>
          <a:xfrm>
            <a:off x="3203640" y="1197000"/>
            <a:ext cx="2673360" cy="3672000"/>
          </a:xfrm>
          <a:prstGeom prst="rect">
            <a:avLst/>
          </a:prstGeom>
          <a:ln w="0">
            <a:noFill/>
          </a:ln>
        </p:spPr>
      </p:pic>
      <p:sp>
        <p:nvSpPr>
          <p:cNvPr id="729" name="WordArt 5"/>
          <p:cNvSpPr txBox="1"/>
          <p:nvPr/>
        </p:nvSpPr>
        <p:spPr>
          <a:xfrm>
            <a:off x="1116000" y="5157720"/>
            <a:ext cx="7488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ереход х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30" name="AutoShape 6"/>
          <p:cNvSpPr/>
          <p:nvPr/>
        </p:nvSpPr>
        <p:spPr>
          <a:xfrm>
            <a:off x="0" y="609300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dance"/>
          <p:cNvPicPr/>
          <p:nvPr/>
        </p:nvPicPr>
        <p:blipFill>
          <a:blip r:embed="rId1"/>
          <a:stretch/>
        </p:blipFill>
        <p:spPr>
          <a:xfrm>
            <a:off x="395280" y="260280"/>
            <a:ext cx="3024360" cy="3024360"/>
          </a:xfrm>
          <a:prstGeom prst="rect">
            <a:avLst/>
          </a:prstGeom>
          <a:ln w="0">
            <a:noFill/>
          </a:ln>
        </p:spPr>
      </p:pic>
      <p:sp>
        <p:nvSpPr>
          <p:cNvPr id="732" name="WordArt 3"/>
          <p:cNvSpPr txBox="1"/>
          <p:nvPr/>
        </p:nvSpPr>
        <p:spPr>
          <a:xfrm>
            <a:off x="3708360" y="765000"/>
            <a:ext cx="518472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Вы очень щедр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оманд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0" y="6237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WordArt 3"/>
          <p:cNvSpPr txBox="1"/>
          <p:nvPr/>
        </p:nvSpPr>
        <p:spPr>
          <a:xfrm>
            <a:off x="900000" y="3429000"/>
            <a:ext cx="777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Вашим соперникам повезло с Вам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отому что ваши 2 балла уходят  командам - соперник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WordArt 2"/>
          <p:cNvSpPr txBox="1"/>
          <p:nvPr/>
        </p:nvSpPr>
        <p:spPr>
          <a:xfrm>
            <a:off x="2556000" y="476280"/>
            <a:ext cx="597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Торжествуйт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736" name="Picture 3" descr="dove"/>
          <p:cNvPicPr/>
          <p:nvPr/>
        </p:nvPicPr>
        <p:blipFill>
          <a:blip r:embed="rId1"/>
          <a:stretch/>
        </p:blipFill>
        <p:spPr>
          <a:xfrm rot="753000">
            <a:off x="0" y="476280"/>
            <a:ext cx="3166920" cy="234000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7"/>
          <p:cNvSpPr/>
          <p:nvPr/>
        </p:nvSpPr>
        <p:spPr>
          <a:xfrm>
            <a:off x="0" y="6237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WordArt 2"/>
          <p:cNvSpPr txBox="1"/>
          <p:nvPr/>
        </p:nvSpPr>
        <p:spPr>
          <a:xfrm>
            <a:off x="1403280" y="2924280"/>
            <a:ext cx="7201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оманды-сопер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дарят В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о 2 балл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6" descr="50_1_mobile_themes_240x320"/>
          <p:cNvPicPr/>
          <p:nvPr/>
        </p:nvPicPr>
        <p:blipFill>
          <a:blip r:embed="rId1"/>
          <a:stretch/>
        </p:blipFill>
        <p:spPr>
          <a:xfrm>
            <a:off x="2843280" y="2421000"/>
            <a:ext cx="3510000" cy="4680000"/>
          </a:xfrm>
          <a:prstGeom prst="rect">
            <a:avLst/>
          </a:prstGeom>
          <a:ln w="0">
            <a:noFill/>
          </a:ln>
        </p:spPr>
      </p:pic>
      <p:sp>
        <p:nvSpPr>
          <p:cNvPr id="740" name="WordArt 2"/>
          <p:cNvSpPr txBox="1"/>
          <p:nvPr/>
        </p:nvSpPr>
        <p:spPr>
          <a:xfrm>
            <a:off x="539640" y="549360"/>
            <a:ext cx="7920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циальная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лам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1" name="AutoShape 5"/>
          <p:cNvSpPr/>
          <p:nvPr/>
        </p:nvSpPr>
        <p:spPr>
          <a:xfrm>
            <a:off x="0" y="609300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WordArt 4"/>
          <p:cNvSpPr txBox="1"/>
          <p:nvPr/>
        </p:nvSpPr>
        <p:spPr>
          <a:xfrm>
            <a:off x="1187280" y="692280"/>
            <a:ext cx="6985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ая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а!!!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3" name="WordArt 5"/>
          <p:cNvSpPr txBox="1"/>
          <p:nvPr/>
        </p:nvSpPr>
        <p:spPr>
          <a:xfrm>
            <a:off x="468360" y="4869000"/>
            <a:ext cx="835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пплодисменты!!!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4" name="WordArt 6"/>
          <p:cNvSpPr txBox="1"/>
          <p:nvPr/>
        </p:nvSpPr>
        <p:spPr>
          <a:xfrm>
            <a:off x="755640" y="3429000"/>
            <a:ext cx="7885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годня ва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5" name="AutoShape 7"/>
          <p:cNvSpPr/>
          <p:nvPr/>
        </p:nvSpPr>
        <p:spPr>
          <a:xfrm>
            <a:off x="0" y="6237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0" y="6237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452520" y="442800"/>
            <a:ext cx="73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1. Главный призна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травм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9"/>
          <p:cNvSpPr/>
          <p:nvPr/>
        </p:nvSpPr>
        <p:spPr>
          <a:xfrm>
            <a:off x="2113560" y="2629080"/>
            <a:ext cx="4624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1. темпер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2. б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3. перел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4. синя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324000" y="333360"/>
            <a:ext cx="810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2. Массовое заболевание людей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-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2907360" y="2565360"/>
            <a:ext cx="4431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. карант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2. свиной грип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3. эпидем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4. просту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5" name="Содержимое 8" descr="sol.gif"/>
          <p:cNvPicPr/>
          <p:nvPr/>
        </p:nvPicPr>
        <p:blipFill>
          <a:blip r:embed="rId1"/>
          <a:stretch/>
        </p:blipFill>
        <p:spPr>
          <a:xfrm>
            <a:off x="468360" y="5300640"/>
            <a:ext cx="1344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57120" y="189000"/>
            <a:ext cx="878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3. Для развития силы мышц брюшного пресса нужно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26400" y="3213000"/>
            <a:ext cx="766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1. прыг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2. поднимать ноги в ви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3. подтяги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2894040"/>
            <a:ext cx="9144000" cy="360"/>
          </a:xfrm>
          <a:prstGeom prst="rect">
            <a:avLst/>
          </a:prstGeom>
          <a:solidFill>
            <a:srgbClr val="afb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9" name="Picture 9" descr="CAT33"/>
          <p:cNvPicPr/>
          <p:nvPr/>
        </p:nvPicPr>
        <p:blipFill>
          <a:blip r:embed="rId1"/>
          <a:stretch/>
        </p:blipFill>
        <p:spPr>
          <a:xfrm>
            <a:off x="6516720" y="4343400"/>
            <a:ext cx="2054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5"/>
          <p:cNvSpPr/>
          <p:nvPr/>
        </p:nvSpPr>
        <p:spPr>
          <a:xfrm>
            <a:off x="755640" y="333360"/>
            <a:ext cx="754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4. Простейший способ очистки воды.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4122000" y="37861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кипяче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468360" y="3141720"/>
            <a:ext cx="806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. кипяч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2. добавление с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3. пропустить через марл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4. перелить из одного стакана в друг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357120" y="189000"/>
            <a:ext cx="878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5. Для определения уровня силовой подготовки нужно выполнить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747720" y="3789360"/>
            <a:ext cx="8017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1. наклоны сид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2. прыжки в длину с мес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3. подтяги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0" y="2894040"/>
            <a:ext cx="9144000" cy="360"/>
          </a:xfrm>
          <a:prstGeom prst="rect">
            <a:avLst/>
          </a:prstGeom>
          <a:solidFill>
            <a:srgbClr val="afb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0" y="2916360"/>
            <a:ext cx="9144000" cy="360"/>
          </a:xfrm>
          <a:prstGeom prst="rect">
            <a:avLst/>
          </a:prstGeom>
          <a:solidFill>
            <a:srgbClr val="afb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755640" y="333360"/>
            <a:ext cx="754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4122000" y="37861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кипяче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1195200" y="2421000"/>
            <a:ext cx="413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. крапи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2. подорож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3. рома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4. одуванч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50920" y="4046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6. Заменитель йода в условиях поход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44:15Z</dcterms:created>
  <dc:creator>Admin</dc:creator>
  <dc:description/>
  <dc:language>en-US</dc:language>
  <cp:lastModifiedBy>Викуля и Кристина</cp:lastModifiedBy>
  <dcterms:modified xsi:type="dcterms:W3CDTF">2019-10-14T19:52:09Z</dcterms:modified>
  <cp:revision>39</cp:revision>
  <dc:subject/>
  <dc:title>Слайд 1</dc:title>
</cp:coreProperties>
</file>