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0806-6FFA-43EB-871E-402302E2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6D31-BC32-440B-822E-2F1A4D7E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76C7-A0E5-4842-B845-9D67B1AB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E2C9-8E19-42AC-8C1F-95F96EEC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7000-5568-4840-B522-F07376EB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D19A-D462-47B6-B73B-EAE8A67B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CB73-A331-4CBC-9B53-99930E44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294-7994-4631-BEB2-628CE98D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03A3-41F6-4760-93FF-92A07A3C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88F-E509-4665-BA33-88BEBB58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37EB-5F73-482B-BEEF-2B7C457C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0445-0E80-4045-8F77-4E1F67F4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cc00"/>
            </a:gs>
            <a:gs pos="100000">
              <a:srgbClr val="ff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BDE0-2327-4FE4-B219-36FA927840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74;&#1087;&#1082;.swf" TargetMode="External"/><Relationship Id="rId2" Type="http://schemas.openxmlformats.org/officeDocument/2006/relationships/hyperlink" Target="file:///&#1074;&#1087;&#1082;2.swf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жотраслевые комплекс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вклад в научн компл"/>
          <p:cNvPicPr/>
          <p:nvPr/>
        </p:nvPicPr>
        <p:blipFill>
          <a:blip r:embed="rId1"/>
          <a:stretch/>
        </p:blipFill>
        <p:spPr>
          <a:xfrm>
            <a:off x="179280" y="189000"/>
            <a:ext cx="8964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хнополи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от греч. techne - мастерство и polis - город), - современная форма территориальной интеграции науки, образования и высокоразвитого производства; он представляет собой единую научно-производственную и учебную, а также жилую и культурно-бытовую зону, объединенную вокруг научного центра, обеспечивающую непрерывный инновационный цикл на базе научных исследов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 определение  в учебнике стр. 1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исать принципы размещения предприятий ВП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траслевой состав В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187280" y="4797360"/>
            <a:ext cx="6409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Главные центры ВП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исать центры и продукцию ими выпускаем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онверс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1928880" y="2571840"/>
            <a:ext cx="55008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рсия высвобождает деньги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оборудование здраво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ьютеризацию в образо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 современной бытовой тех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оборудование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эких проблем путем ресурсосберегающих 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Documents and Settings\User\Рабочий стол\впк\черная акула.jpg"/>
          <p:cNvPicPr/>
          <p:nvPr/>
        </p:nvPicPr>
        <p:blipFill>
          <a:blip r:embed="rId1"/>
          <a:stretch/>
        </p:blipFill>
        <p:spPr>
          <a:xfrm>
            <a:off x="428760" y="558720"/>
            <a:ext cx="8286480" cy="574056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5429160" y="5643720"/>
            <a:ext cx="2786040" cy="520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рная ак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C:\Documents and Settings\User\Рабочий стол\впк\ракетн компл ку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0" y="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кетн комплекс «КУ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User\Рабочий стол\впк\самолет амфибия СА-1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3286080" y="564372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лет -амфи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User\Рабочий стол\впк\ракетоноситель протон.jpg"/>
          <p:cNvPicPr/>
          <p:nvPr/>
        </p:nvPicPr>
        <p:blipFill>
          <a:blip r:embed="rId1"/>
          <a:stretch/>
        </p:blipFill>
        <p:spPr>
          <a:xfrm>
            <a:off x="357120" y="0"/>
            <a:ext cx="85726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5286240" y="214200"/>
            <a:ext cx="33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кетоноситель «ПРОТ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жотраслевой комплек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совокупность близких по профилю деятельности технологически связанных отраслей, образующих единый комплек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357120" y="1357200"/>
            <a:ext cx="8286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остав ВПК входят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аучно-исследовательские организации (их задача – теоретические разработки)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онструкторские бюро (КБ), создающие прототипы (опытные образцы) оружия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испытательные лаборатории и полигоны, где происходит, во-первых, "доводка" опытных образцов в реальных условиях, а во-вторых, испытание оружия, только вышедшего из заводских стен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оизводственные предприятия, где осуществляется массовый выпуск оруж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357120" y="1582560"/>
            <a:ext cx="835812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оме военной продукции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риятия военно-промышленного комплекса производят продукцию гражданского назначения. Большая часть холодильников, магнитофонов, вычислительной техники, пылесосов и стиральных машин России производилась на предприятиях военно-промышленного комплекса. А телевизоры, видеомагнитофоны, фотоаппараты и швейные машины выпускались только на военных завод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714240" y="214200"/>
            <a:ext cx="8429760" cy="59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дерно-оружейный комплекс – часть атомной промышленности России. Он включает в себя следующие производ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Добыча урановой руды и изготовление уранового концентрата. В России сейчас действует только один урановый рудник в Краснокаменске (Читинская область). Там же производится урановый концентра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Обогащение урана (разделение урановых изотопов) происходит в городах Новоуральске (Свердловск-44), Зеленогорске (Красноярск-45), Северске (Томск-7) и Ангарске. В России сосредоточено 45% мировых мощностей по обогащению урана. С сокращением производства ядерных вооружений эти отрасли все более ориентируются на экспорт. Продукция этих предприятий идет как на гражданские АЭС, так и на производство ядерных боеприпасов и на промышленные реакторы для производства плуто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Изготовление тепловыделяющих элементов (ТВЭЛов) для атомных реакторов осуществляется в Электростали и Новосибирс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Наработка и выделение оружейного плутония сейчас осуществляется в Северске (Томск-7) и Железногорске (Красноярск-26). Запасы плутония в России накоплены на много лет вперед, но атомные реакторы в этих городах не останавливаются, поскольку они обеспечивают их теплом и электричеством. Ранее крупным центром производства плутония был Озерск (Челябинск-65), где в 1957 году из-за отказа системы охлаждения взорвалась одна из емкостей, в которой хранились жидкие отходы производства. В результате территория в 23 тыс. км оказалась загрязненной радиоактивными отход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Сборка ядерных боеприпасов происходила в Сарове (Арзамас-16), Заречном (Пенза-19), Лесном (Свердловск-45) и Трехгорном (Златоуст-16). Разработка опытных образцов осуществлялась в Сарове и Снежинске (Челябинск-70). Первые атомная и водородная бомбы были разработаны в Сарове, где сейчас находится Российский Федеральный ядерный цент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 Утилизация ядерных отходов на сегодняшний день является одной из самых сложных экологических проблем. Главным центром является Снежинск, где осуществляется переработка отходов и их захоронение в горных пород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285840" y="928800"/>
            <a:ext cx="8429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иационная промышленность размещ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к правило, в крупных промышленных центрах, где готовые изделия собираются на головных предприятиях из деталей и узлов, поставляемых сотнями (а иногда и тысячами) смежников. Главные факторы размещения производственных предприятий – удобство транспортных связей и наличие квалифицированной рабочей силы. А проектирование почти всех видов российских самолетов осуществляет КБ Москвы и Подмосковья. Единственное исключение – КБ имени Бериева в Таганроге, где производятся самолеты-амфиб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кетно-космическая промышленнос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одна из наиболее наукоемких и технически сложных отраслей. Например, межконтинентальная баллистическая ракета (МБР) содержит до 300 тысяч систем, подсистем, отдельных приборов и деталей, а крупный космический комплекс – до 10 миллионов. Поэтому ученых, конструкторов и инженеров в этой области гораздо больше, чем рабоч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4"/>
          <p:cNvSpPr/>
          <p:nvPr/>
        </p:nvSpPr>
        <p:spPr>
          <a:xfrm>
            <a:off x="826920" y="476280"/>
            <a:ext cx="3241800" cy="1800360"/>
          </a:xfrm>
          <a:prstGeom prst="ellipse">
            <a:avLst/>
          </a:prstGeom>
          <a:gradFill rotWithShape="0">
            <a:gsLst>
              <a:gs pos="0">
                <a:srgbClr val="fdbba1">
                  <a:alpha val="25098"/>
                </a:srgbClr>
              </a:gs>
              <a:gs pos="100000">
                <a:srgbClr val="ab7e6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шиностро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6372360" y="2133720"/>
            <a:ext cx="2519280" cy="2376360"/>
          </a:xfrm>
          <a:prstGeom prst="diamond">
            <a:avLst/>
          </a:prstGeom>
          <a:gradFill rotWithShape="0">
            <a:gsLst>
              <a:gs pos="0">
                <a:srgbClr val="ff9900">
                  <a:alpha val="30196"/>
                </a:srgbClr>
              </a:gs>
              <a:gs pos="100000">
                <a:srgbClr val="bd7100">
                  <a:alpha val="57254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Э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3635280" y="4149720"/>
            <a:ext cx="2305080" cy="2160720"/>
          </a:xfrm>
          <a:prstGeom prst="hexagon">
            <a:avLst>
              <a:gd name="adj" fmla="val 26670"/>
              <a:gd name="vf" fmla="val 115470"/>
            </a:avLst>
          </a:prstGeom>
          <a:gradFill rotWithShape="0">
            <a:gsLst>
              <a:gs pos="0">
                <a:srgbClr val="009999">
                  <a:alpha val="28235"/>
                </a:srgbClr>
              </a:gs>
              <a:gs pos="100000">
                <a:srgbClr val="34aea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5148360" y="549360"/>
            <a:ext cx="3708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00">
                  <a:alpha val="25098"/>
                </a:srgbClr>
              </a:gs>
              <a:gs pos="100000">
                <a:srgbClr val="648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лек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струкцио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химически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395280" y="2349360"/>
            <a:ext cx="2519280" cy="2376720"/>
          </a:xfrm>
          <a:prstGeom prst="diamond">
            <a:avLst/>
          </a:prstGeom>
          <a:gradFill rotWithShape="0">
            <a:gsLst>
              <a:gs pos="0">
                <a:srgbClr val="f8faa4">
                  <a:alpha val="27058"/>
                </a:srgbClr>
              </a:gs>
              <a:gs pos="100000">
                <a:srgbClr val="b9ba7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1979640" y="1125360"/>
            <a:ext cx="5184720" cy="3743640"/>
          </a:xfrm>
          <a:prstGeom prst="ellipse">
            <a:avLst/>
          </a:prstGeom>
          <a:gradFill rotWithShape="0">
            <a:gsLst>
              <a:gs pos="0">
                <a:srgbClr val="bbe0e3">
                  <a:alpha val="7058"/>
                </a:srgbClr>
              </a:gs>
              <a:gs pos="100000">
                <a:srgbClr val="d8edef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 характеристики межотраслевых комплек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Структура комплекса, важнейшие районы сосредоточения производ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Факторы размещения отрас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Хозяйственное значение компл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Основные проблемы развития комплекса и пути их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Перспективы развития компл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учный комплек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а—получение, хранение и распространение научных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личество занятых в научном комплек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 млн че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1 тыс.че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 от миров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 % от миров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уктура научный комплек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4"/>
          <p:cNvSpPr/>
          <p:nvPr/>
        </p:nvSpPr>
        <p:spPr>
          <a:xfrm>
            <a:off x="2484360" y="1844640"/>
            <a:ext cx="4319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й компл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 flipH="1">
            <a:off x="2410920" y="278136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4427640" y="2708280"/>
            <a:ext cx="73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6012000" y="2708280"/>
            <a:ext cx="64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611280" y="3284640"/>
            <a:ext cx="2448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слевые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611280" y="3933720"/>
            <a:ext cx="223200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руктор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роек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611280" y="5589720"/>
            <a:ext cx="2376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одской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3564000" y="3429000"/>
            <a:ext cx="2016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тель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6516720" y="3500280"/>
            <a:ext cx="1511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6516720" y="4508640"/>
            <a:ext cx="1584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6588000" y="5516640"/>
            <a:ext cx="1584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х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250920" y="2752560"/>
            <a:ext cx="5761080" cy="3989520"/>
          </a:xfrm>
          <a:prstGeom prst="octagon">
            <a:avLst>
              <a:gd name="adj" fmla="val 2928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карт научн компл"/>
          <p:cNvPicPr/>
          <p:nvPr/>
        </p:nvPicPr>
        <p:blipFill>
          <a:blip r:embed="rId1"/>
          <a:stretch/>
        </p:blipFill>
        <p:spPr>
          <a:xfrm>
            <a:off x="108000" y="115920"/>
            <a:ext cx="885672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svetloe03"/>
          <p:cNvPicPr/>
          <p:nvPr/>
        </p:nvPicPr>
        <p:blipFill>
          <a:blip r:embed="rId1"/>
          <a:stretch/>
        </p:blipFill>
        <p:spPr>
          <a:xfrm>
            <a:off x="1116000" y="2637000"/>
            <a:ext cx="7056360" cy="398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060913-F-9876J-111"/>
          <p:cNvPicPr/>
          <p:nvPr/>
        </p:nvPicPr>
        <p:blipFill>
          <a:blip r:embed="rId2"/>
          <a:stretch/>
        </p:blipFill>
        <p:spPr>
          <a:xfrm>
            <a:off x="468360" y="404640"/>
            <a:ext cx="4356000" cy="2808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7V4K6510"/>
          <p:cNvPicPr/>
          <p:nvPr/>
        </p:nvPicPr>
        <p:blipFill>
          <a:blip r:embed="rId3"/>
          <a:stretch/>
        </p:blipFill>
        <p:spPr>
          <a:xfrm>
            <a:off x="4932360" y="404640"/>
            <a:ext cx="39038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6:24:33Z</dcterms:created>
  <dc:creator>Ира</dc:creator>
  <dc:description/>
  <dc:language>en-US</dc:language>
  <cp:lastModifiedBy>Anna</cp:lastModifiedBy>
  <dcterms:modified xsi:type="dcterms:W3CDTF">2019-10-13T11:34:38Z</dcterms:modified>
  <cp:revision>39</cp:revision>
  <dc:subject/>
  <dc:title>Межотраслевые комплексы </dc:title>
</cp:coreProperties>
</file>