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3BE-1896-4B03-9E8A-75812E2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305-50AE-45A4-A2C1-F033C93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60B-35B6-413B-9D7B-ADBADF93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19B-0A1B-417D-8E92-10D9326F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02E5-70B4-4505-822B-2EBAC36B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A24C-F491-41AE-BDDE-123B421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6544-A847-4339-9FF5-D3106D10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C6F0-BCB4-4C60-B7DA-85676C2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156A-E6F1-4225-BD33-B174F0F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94C-5107-48C0-80C5-4C5F938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722-A6B8-4B80-B065-D2F75D0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6E7-8698-43A4-8EC3-A5D7F57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6DE0-98C8-4A5D-9282-F666C73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5C10-4339-4CD8-A9B9-AD04DD0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1B93-A61D-4A58-9B1B-A36564F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896A-A5BA-4712-9A9A-10812297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A2A7-19D5-4F52-B9A9-BD7495DB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44812-0AB1-42EC-A822-EB9E9833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41213-677F-44F5-AC68-BEC9EDA9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EA388-553B-40BB-9E70-10EF864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9E8D0-4C82-4DB4-A569-582F5D4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83E4A-E0CA-4AEE-AE74-0876636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DFB-6543-4D38-BB6D-B91F568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5BAD5-C5C8-45EF-B2C7-DE452248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7967C-9FD3-427E-B324-ABC3C8D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4CBB9-9D06-4855-A6CF-F3D3AB9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BDC90-9397-4E83-9632-B77F282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B51D4-E66B-46EC-B82B-616F328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DBE1C-EF47-4105-97A1-45E8DE11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CE9B2-278D-4F03-B42E-7D63A5C6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7914-151C-4744-98EB-952840B5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2DE3-BD2B-45F3-8C34-8B955F71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1731-AA18-4C04-BCC0-EBA6998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1CA-C470-45D4-99A2-1E0D427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E55A-4F65-4F48-BE98-49C739E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CD25-D1F7-4245-B645-37D4FC87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FB51-A46F-4343-A6AB-46018C5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0BED-AAAD-4ED2-99A4-0FFA43D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5E2B-3A68-45FF-9985-4278997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02B7-6AFE-452F-9EF9-9E662F4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602B-6CED-47CA-BA3E-CD2E0F0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4603-027F-484B-819B-2A941F90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A6C9-2354-4EAC-97FE-7C0D55B2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8646C-A86E-4536-A21A-55AF1EE7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4BF-B00A-477B-B65D-38690CD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D7212-3012-4644-90CE-152BD5E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C30DF-493C-4FEB-A197-9938A18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754F8-C751-4EED-A5A6-774A586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CC574-64AA-49CE-8D72-4EB7E86A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8A1CE-2021-410E-83E7-94B1EB9E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E2ABD-8603-412A-9B66-2B0415A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5B2E4-69A6-4885-BFE9-21C9BA4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291AC-99A5-4489-BF14-6203248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22AA9-6D81-434C-89AB-C3B26BA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9CA14-DE20-40EB-B554-7A62F27D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9EE-440D-4142-AFE3-9506835B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486E5-D879-466A-999A-95B55784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5B746-8B2E-4521-88B2-D03B05B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7E533-91B0-4104-8F16-C6E65A8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B10DA-D126-4FCC-8286-0CBE1425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19153-6371-48DD-ACA4-D22F2C6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B94DA-71A7-49A2-9A43-4865A62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EDFB7-81AB-443F-B00B-8A3C1B4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825B9-DF66-4474-A7FC-32E8A95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624A2-63ED-4924-8C63-D7BBE2D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B7FA6-E852-4288-8C21-2B2F7C0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019-B845-4068-9A3C-D18039C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4AC74-803B-4F9B-B5FF-3F957604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CB4A3-D249-4E19-B18D-D20B166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87C84-D087-42FB-8706-F37779E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EEE52-FCCC-4833-88F1-F0076644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6E3D8-5081-45DC-9CCC-7AB3231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7021F-2079-4499-B4CA-8DE2B4DE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12982-0F6B-4AF9-949A-3209214A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F2DF8-0C3A-475B-AB9A-A8D68A1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6AFA5-300C-4D03-91B6-31E5377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9963B-3BF9-4BF5-BA04-AF5C1A3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AA7-8E6E-4C86-85A2-58E6759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A2559-4A8F-4DCA-9082-2C48121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14B03-747C-4390-A6B8-B889684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DD3FD-1FAF-4FA9-83EE-DA82C68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BD2B8-9E26-4EF1-981D-5DBCDA8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D4BC1-01B7-427D-ADF7-6DF09135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CA1-6E03-45D9-806C-420BC46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3F3-9152-445F-866D-4412AFEA2C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BD7-537C-4A71-A3B3-1C83B739DF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4BE-AEBC-4402-9AB8-C12076AEE1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21F-22DF-403C-817D-0AAF59BD7B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E84C-60DB-40CF-8275-BFC4407530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C56-2FD3-4B23-9FCF-FD24ECD334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B99-1210-43B4-8B49-12DB770EB8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56920" y="16426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УРОК МАТЕМАТИКИ</a:t>
            </a:r>
            <a:br>
              <a:rPr sz="4000"/>
            </a:b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3   КЛАСС</a:t>
            </a:r>
            <a:br>
              <a:rPr sz="4000"/>
            </a:b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ОС «ШКОЛА 2100»</a:t>
            </a:r>
            <a:br>
              <a:rPr sz="2900"/>
            </a:b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втор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рокофьева М. 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КОУ «ООШ №9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3857760" y="57150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500120" y="1357200"/>
          <a:ext cx="6077160" cy="5467320"/>
        </p:xfrm>
        <a:graphic>
          <a:graphicData uri="http://schemas.openxmlformats.org/drawingml/2006/table">
            <a:tbl>
              <a:tblPr/>
              <a:tblGrid>
                <a:gridCol w="4748400"/>
                <a:gridCol w="1328760"/>
              </a:tblGrid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околад 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ilke we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околад 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niker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Чупа чу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индер сюрпри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ечен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5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аф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Чокоп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Яблоко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пельсин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нан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5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Упаковка конф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5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грушка – символ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евательная 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"/>
          <p:cNvSpPr/>
          <p:nvPr/>
        </p:nvSpPr>
        <p:spPr>
          <a:xfrm>
            <a:off x="857160" y="5760"/>
            <a:ext cx="7643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 ряд – менедж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ам необходимо собрать на сумму 350 рублей новогодний подарок, используя прейскуранты ц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йскуран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ПОЛЬЗУЕМАЯ ЛИТЕРАТУРА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Математика» Учебник для 3 класса в 3 частях Авторы Т.Е. Демидова, С.А. Козлова, А.П. Тонких -  М:  «Баласс»,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дактический материал к учебнику «Математика» 3 класс  Авторы С.А. Козлова, В.Н. Гераськин, Л.А. Волкова -  М:  «Баласс», 201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Математика. 3 класс» (Методические рекомендации для учителя)  Авторы  С.А. Козлова, А.Г. Рубин, А.В. Горячев -  М:  «Баласс» ,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9"/>
          <p:cNvGrpSpPr/>
          <p:nvPr/>
        </p:nvGrpSpPr>
        <p:grpSpPr>
          <a:xfrm>
            <a:off x="571680" y="1143000"/>
            <a:ext cx="2771640" cy="3562200"/>
            <a:chOff x="571680" y="1143000"/>
            <a:chExt cx="2771640" cy="3562200"/>
          </a:xfrm>
        </p:grpSpPr>
        <p:pic>
          <p:nvPicPr>
            <p:cNvPr id="355" name="Picture 2" descr="C:\Documents and Settings\Ольга\Мои документы\Мои рисунки\ВиЭксМ 2010\волшебник\volkov.jpg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2771640" cy="35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73200" y="3655440"/>
              <a:ext cx="191880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Овал 11"/>
          <p:cNvGrpSpPr/>
          <p:nvPr/>
        </p:nvGrpSpPr>
        <p:grpSpPr>
          <a:xfrm>
            <a:off x="285840" y="6229440"/>
            <a:ext cx="426960" cy="433440"/>
            <a:chOff x="285840" y="6229440"/>
            <a:chExt cx="426960" cy="433440"/>
          </a:xfrm>
        </p:grpSpPr>
        <p:pic>
          <p:nvPicPr>
            <p:cNvPr id="358" name="Овал 11" descr=""/>
            <p:cNvPicPr/>
            <p:nvPr/>
          </p:nvPicPr>
          <p:blipFill>
            <a:blip r:embed="rId3"/>
            <a:stretch/>
          </p:blipFill>
          <p:spPr>
            <a:xfrm>
              <a:off x="285840" y="6229440"/>
              <a:ext cx="42696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398520" y="63277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Picture 4" descr="C:\Documents and Settings\Ольга\Мои документы\Мои рисунки\ВиЭксМ 2010\волшебник\28.jpg"/>
          <p:cNvPicPr/>
          <p:nvPr/>
        </p:nvPicPr>
        <p:blipFill>
          <a:blip r:embed="rId4"/>
          <a:stretch/>
        </p:blipFill>
        <p:spPr>
          <a:xfrm>
            <a:off x="4500720" y="871560"/>
            <a:ext cx="360504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Ольга\Мои документы\Мои рисунки\ВиЭксМ 2010\волшебник\1.jpg"/>
          <p:cNvPicPr/>
          <p:nvPr/>
        </p:nvPicPr>
        <p:blipFill>
          <a:blip r:embed="rId1">
            <a:lum contrast="20000"/>
          </a:blip>
          <a:srcRect l="0" t="0" r="0" b="2083"/>
          <a:stretch/>
        </p:blipFill>
        <p:spPr>
          <a:xfrm>
            <a:off x="928800" y="142920"/>
            <a:ext cx="77756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678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a7007"/>
                </a:solidFill>
                <a:latin typeface="Century Schoolbook"/>
              </a:rPr>
              <a:t>ВЫПОЛНИТЕ  ЗАД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7120" y="642960"/>
            <a:ext cx="8429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) 498, …, 500, …, 50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)                     … 600 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…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740 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)  860 = … + 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48 = …  + … + 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704 = … + … + 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)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&gt;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&lt;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34 … 934            6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 … 6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          805 … 807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) 300 + 60 + 5            607 – 600        880 – 8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70 – 400                 300 – 1            999 + 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Прямая соединительная линия 4"/>
          <p:cNvSpPr/>
          <p:nvPr/>
        </p:nvSpPr>
        <p:spPr>
          <a:xfrm>
            <a:off x="785880" y="3929040"/>
            <a:ext cx="357120" cy="144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"/>
          <p:cNvSpPr/>
          <p:nvPr/>
        </p:nvSpPr>
        <p:spPr>
          <a:xfrm>
            <a:off x="4000680" y="3951360"/>
            <a:ext cx="285480" cy="144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6"/>
          <p:cNvSpPr/>
          <p:nvPr/>
        </p:nvSpPr>
        <p:spPr>
          <a:xfrm>
            <a:off x="7000920" y="3948120"/>
            <a:ext cx="285840" cy="144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>
            <a:off x="2000160" y="3929040"/>
            <a:ext cx="357120" cy="144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5143680" y="3949560"/>
            <a:ext cx="285480" cy="180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0"/>
          <p:cNvSpPr/>
          <p:nvPr/>
        </p:nvSpPr>
        <p:spPr>
          <a:xfrm>
            <a:off x="8083440" y="3960720"/>
            <a:ext cx="285840" cy="180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157176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3"/>
          <p:cNvSpPr/>
          <p:nvPr/>
        </p:nvSpPr>
        <p:spPr>
          <a:xfrm>
            <a:off x="457200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4"/>
          <p:cNvSpPr/>
          <p:nvPr/>
        </p:nvSpPr>
        <p:spPr>
          <a:xfrm>
            <a:off x="735804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2590920" cy="185724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3899160" y="200016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ОБЛЕМНЫ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2571840" y="5716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Задание № 1, с.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1071720" y="27860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 выполнить вычисления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СФОРМУЛИРУЙТЕ ТЕМУ УРО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0a80a"/>
                </a:solidFill>
                <a:latin typeface="Century Schoolbook"/>
              </a:rPr>
              <a:t>Тема:</a:t>
            </a:r>
            <a:r>
              <a:rPr b="0" i="1" lang="ru-RU" sz="4400" spc="-1" strike="noStrike">
                <a:solidFill>
                  <a:srgbClr val="d0a80a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ложение и вычитание трёхзначных чисел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отни и десятки можно складывать и вычитать так же, как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единицы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2"/>
          <p:cNvSpPr/>
          <p:nvPr/>
        </p:nvSpPr>
        <p:spPr>
          <a:xfrm>
            <a:off x="5429160" y="35712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 ряд - диспетч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5429160" y="1357200"/>
            <a:ext cx="328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ам необходимо сосчитать, сколько километров составляет путь до Лисок до Москвы и определить, какое количество бензина заправить в автобус. То есть вы должны подготовить путевой лист водителям автоб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Объект 1"/>
          <p:cNvGraphicFramePr/>
          <p:nvPr/>
        </p:nvGraphicFramePr>
        <p:xfrm>
          <a:off x="923760" y="-36360"/>
          <a:ext cx="384048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-36360"/>
                    <a:ext cx="384048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Прямая соединительная линия 7"/>
          <p:cNvSpPr/>
          <p:nvPr/>
        </p:nvSpPr>
        <p:spPr>
          <a:xfrm>
            <a:off x="3100320" y="5567400"/>
            <a:ext cx="216000" cy="7207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3084480" y="5556240"/>
            <a:ext cx="287280" cy="8859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0"/>
          <p:cNvSpPr/>
          <p:nvPr/>
        </p:nvSpPr>
        <p:spPr>
          <a:xfrm>
            <a:off x="3203640" y="5157720"/>
            <a:ext cx="1224000" cy="4842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орон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1"/>
          <p:cNvSpPr/>
          <p:nvPr/>
        </p:nvSpPr>
        <p:spPr>
          <a:xfrm>
            <a:off x="3387600" y="6288120"/>
            <a:ext cx="897120" cy="331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Л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2"/>
          <p:cNvSpPr/>
          <p:nvPr/>
        </p:nvSpPr>
        <p:spPr>
          <a:xfrm>
            <a:off x="2843280" y="4365720"/>
            <a:ext cx="46080" cy="442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3"/>
          <p:cNvSpPr/>
          <p:nvPr/>
        </p:nvSpPr>
        <p:spPr>
          <a:xfrm>
            <a:off x="2468520" y="3645000"/>
            <a:ext cx="1239840" cy="3445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Ефре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4"/>
          <p:cNvSpPr/>
          <p:nvPr/>
        </p:nvSpPr>
        <p:spPr>
          <a:xfrm>
            <a:off x="2097000" y="2565360"/>
            <a:ext cx="1106640" cy="358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Щё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5"/>
          <p:cNvSpPr/>
          <p:nvPr/>
        </p:nvSpPr>
        <p:spPr>
          <a:xfrm>
            <a:off x="2097000" y="1357200"/>
            <a:ext cx="1179720" cy="271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ерпу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6"/>
          <p:cNvSpPr/>
          <p:nvPr/>
        </p:nvSpPr>
        <p:spPr>
          <a:xfrm>
            <a:off x="2232000" y="636480"/>
            <a:ext cx="1116000" cy="292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о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7"/>
          <p:cNvSpPr/>
          <p:nvPr/>
        </p:nvSpPr>
        <p:spPr>
          <a:xfrm>
            <a:off x="2232000" y="260280"/>
            <a:ext cx="1332000" cy="289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18"/>
          <p:cNvSpPr/>
          <p:nvPr/>
        </p:nvSpPr>
        <p:spPr>
          <a:xfrm>
            <a:off x="3087720" y="5668920"/>
            <a:ext cx="120600" cy="150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22"/>
          <p:cNvSpPr/>
          <p:nvPr/>
        </p:nvSpPr>
        <p:spPr>
          <a:xfrm>
            <a:off x="3095640" y="5919840"/>
            <a:ext cx="119160" cy="150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3"/>
          <p:cNvSpPr/>
          <p:nvPr/>
        </p:nvSpPr>
        <p:spPr>
          <a:xfrm>
            <a:off x="3271680" y="6121440"/>
            <a:ext cx="120960" cy="150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2 РЯД – ТУРАГЕНТСТВО «ЛИСКИТУР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ам необходимо составить программу экскурсии по Москве и сосчитать, сколько рублей потребуется на одного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642960" y="322668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Times New Roman"/>
                <a:ea typeface="Calibri"/>
              </a:rPr>
              <a:t>Программа экскурсии</a:t>
            </a:r>
            <a:r>
              <a:rPr b="1" lang="en-US" sz="2400" spc="-1" strike="noStrike">
                <a:solidFill>
                  <a:srgbClr val="d0a80a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трак  в кафе – 1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зорная экскурсия  по городу – 5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улинг на крыше – 20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зыкальная сказка «Спящая красавица» - 3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 кукол – 5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ин в кафе – 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4:13:51Z</dcterms:created>
  <dc:creator>Наталья</dc:creator>
  <dc:description/>
  <dc:language>en-US</dc:language>
  <cp:lastModifiedBy>User</cp:lastModifiedBy>
  <dcterms:modified xsi:type="dcterms:W3CDTF">2018-12-15T17:26:51Z</dcterms:modified>
  <cp:revision>56</cp:revision>
  <dc:subject/>
  <dc:title>Урок математики 3 «в»  класс </dc:title>
</cp:coreProperties>
</file>