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png" ContentType="image/png"/>
  <Override PartName="/ppt/media/image28.jpeg" ContentType="image/jpe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B69-499B-492C-8824-D3B54EEF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25E-1F6A-492A-B89C-6403B617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83D-E771-4C85-8AE0-A124743B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7C8-85F1-46C7-8C65-633BD3C7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F41C-2AB1-4E4A-B640-58F84BA8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6A3D-5284-47BD-890F-1C51D89F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9DD8-EB3B-4BD5-AC32-D69F2565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5C5A-469C-48E3-BFDE-52A10DBA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3946-8B2F-4DA1-B140-E48E6CD4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3E04-A01B-4FFF-BD57-DB39CD27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BB30-88F4-419E-9D9B-87F2F930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E1E-20E4-4C2F-B42C-2D3D0DE6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3B52-7DD6-4293-8A89-8D02A3AE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76E2-5014-47C1-BAB7-37321FA6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BDB2-33B2-4F21-9737-06FA636E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2870-853A-43C1-983B-549DDE88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51CB-1B6B-4B5B-8130-D4C776F2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978-CF5E-463D-B5FC-02BDFFEE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04C-45B9-487C-BD36-20A95FE2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60B-3589-420C-96FC-B8C3CBDD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DA4-1037-49D7-BC31-8D6423C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AFF-C44C-41DA-B257-2AFBF3B7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B3D-0700-4525-84C0-A568B214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DE6-2601-4BB0-B5B7-E935FADA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A366-5907-460D-A12B-BE35F0429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19A9-60F0-4FDA-A3EF-2329C40C0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22.jpeg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image" Target="../media/image23.png"/><Relationship Id="rId7" Type="http://schemas.openxmlformats.org/officeDocument/2006/relationships/oleObject" Target="../embeddings/oleObject1.bin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vikafedotova38.ucoz.ru/load/shablony_prezentacij/pdd/shablon_pdd/50-1-0-77" TargetMode="External"/><Relationship Id="rId2" Type="http://schemas.openxmlformats.org/officeDocument/2006/relationships/hyperlink" Target="http://mbdou136.ucoz.ru/_nw/1/28296161.jpg" TargetMode="External"/><Relationship Id="rId3" Type="http://schemas.openxmlformats.org/officeDocument/2006/relationships/hyperlink" Target="http://zakras.ru/uploads/images/f63539b49486fe9e1f651e7a790bb4ec" TargetMode="External"/><Relationship Id="rId4" Type="http://schemas.openxmlformats.org/officeDocument/2006/relationships/hyperlink" Target="http://uidru.cdutt.ru/new/wp-content/uploads/2013/01/p65_raskraski_11-229x300.jpg" TargetMode="External"/><Relationship Id="rId5" Type="http://schemas.openxmlformats.org/officeDocument/2006/relationships/hyperlink" Target="http://mashintop.ru/images/template/pdd/3_10.gif" TargetMode="External"/><Relationship Id="rId6" Type="http://schemas.openxmlformats.org/officeDocument/2006/relationships/hyperlink" Target="http://mashintop.ru/images/template/pdd/3_9.gif" TargetMode="External"/><Relationship Id="rId7" Type="http://schemas.openxmlformats.org/officeDocument/2006/relationships/hyperlink" Target="http://mashintop.ru/images/template/pdd/5_19_2.gif" TargetMode="External"/><Relationship Id="rId8" Type="http://schemas.openxmlformats.org/officeDocument/2006/relationships/hyperlink" Target="http://mashintop.ru/images/template/pdd/6_7.gif" TargetMode="External"/><Relationship Id="rId9" Type="http://schemas.openxmlformats.org/officeDocument/2006/relationships/hyperlink" Target="http://mashintop.ru/images/template/pdd/1_22.gif" TargetMode="External"/><Relationship Id="rId10" Type="http://schemas.openxmlformats.org/officeDocument/2006/relationships/hyperlink" Target="https://yadi.sk/d/2_TRjHcFX86VS" TargetMode="External"/><Relationship Id="rId11" Type="http://schemas.openxmlformats.org/officeDocument/2006/relationships/hyperlink" Target="https://yadi.sk/d/2_TRjHcFX86VS" TargetMode="External"/><Relationship Id="rId12" Type="http://schemas.openxmlformats.org/officeDocument/2006/relationships/hyperlink" Target="https://yadi.sk/d/2_TRjHcFX86VS" TargetMode="External"/><Relationship Id="rId13" Type="http://schemas.openxmlformats.org/officeDocument/2006/relationships/hyperlink" Target="https://yadi.sk/d/2_TRjHcFX86VS" TargetMode="External"/><Relationship Id="rId14" Type="http://schemas.openxmlformats.org/officeDocument/2006/relationships/hyperlink" Target="https://yadi.sk/d/2_TRjHcFX86VS" TargetMode="External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voltage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Monotype Corsiva"/>
              </a:rPr>
              <a:t>Интерактивная викторина «Детям знать положено»</a:t>
            </a:r>
            <a:br>
              <a:rPr sz="4400"/>
            </a:br>
            <a:r>
              <a:rPr b="0" lang="ru-RU" sz="2400" spc="-1" strike="noStrike">
                <a:solidFill>
                  <a:srgbClr val="984807"/>
                </a:solidFill>
                <a:latin typeface="Monotype Corsiva"/>
              </a:rPr>
              <a:t>ПДД, 1 – 4 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395280" y="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53735"/>
                </a:solidFill>
                <a:latin typeface="Arial"/>
              </a:rPr>
              <a:t>Gold-</a:t>
            </a: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Мастер-класс «Интерактивная раскраска в программе Microsoft Office Power Poi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Управляющая кнопка: далее 5"/>
          <p:cNvGrpSpPr/>
          <p:nvPr/>
        </p:nvGrpSpPr>
        <p:grpSpPr>
          <a:xfrm>
            <a:off x="8326440" y="6199200"/>
            <a:ext cx="689040" cy="536400"/>
            <a:chOff x="8326440" y="6199200"/>
            <a:chExt cx="689040" cy="536400"/>
          </a:xfrm>
        </p:grpSpPr>
        <p:pic>
          <p:nvPicPr>
            <p:cNvPr id="85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326440" y="6199200"/>
              <a:ext cx="689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388360" y="6237360"/>
              <a:ext cx="5713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6" descr="http://zakras.ru/uploads/images/f63539b49486fe9e1f651e7a790bb4ec"/>
          <p:cNvPicPr/>
          <p:nvPr/>
        </p:nvPicPr>
        <p:blipFill>
          <a:blip r:embed="rId2"/>
          <a:stretch/>
        </p:blipFill>
        <p:spPr>
          <a:xfrm>
            <a:off x="3780000" y="2708280"/>
            <a:ext cx="2163600" cy="2736720"/>
          </a:xfrm>
          <a:prstGeom prst="rect">
            <a:avLst/>
          </a:prstGeom>
          <a:ln w="28440">
            <a:solidFill>
              <a:srgbClr val="21af28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0" y="0"/>
            <a:ext cx="719280" cy="911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с двумя скругленными противолежащими углами 5">
            <a:hlinkClick r:id="" action="ppaction://hlinkshowjump?jump=nextslide"/>
          </p:cNvPr>
          <p:cNvSpPr/>
          <p:nvPr/>
        </p:nvSpPr>
        <p:spPr>
          <a:xfrm>
            <a:off x="5508720" y="1484280"/>
            <a:ext cx="3384360" cy="1513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С 14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с двумя скругленными противолежащими углами 6">
            <a:hlinkClick r:id="rId2"/>
          </p:cNvPr>
          <p:cNvSpPr/>
          <p:nvPr/>
        </p:nvSpPr>
        <p:spPr>
          <a:xfrm>
            <a:off x="5508720" y="3213000"/>
            <a:ext cx="3384360" cy="18003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С 12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с двумя скругленными противолежащими углами 7">
            <a:hlinkClick r:id="rId3"/>
          </p:cNvPr>
          <p:cNvSpPr/>
          <p:nvPr/>
        </p:nvSpPr>
        <p:spPr>
          <a:xfrm>
            <a:off x="5508720" y="5157720"/>
            <a:ext cx="3384360" cy="15112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С 18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IVAN\Desktop\9.jpg"/>
          <p:cNvPicPr/>
          <p:nvPr/>
        </p:nvPicPr>
        <p:blipFill>
          <a:blip r:embed="rId4"/>
          <a:stretch/>
        </p:blipFill>
        <p:spPr>
          <a:xfrm>
            <a:off x="179280" y="1557360"/>
            <a:ext cx="5184720" cy="5111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1"/>
          <p:cNvSpPr/>
          <p:nvPr/>
        </p:nvSpPr>
        <p:spPr>
          <a:xfrm>
            <a:off x="0" y="-171360"/>
            <a:ext cx="99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С какого возраста разрешается выезжать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велосипеде на улиц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0" y="0"/>
            <a:ext cx="719280" cy="911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с двумя скругленными противолежащими углами 5">
            <a:hlinkClick r:id="rId2"/>
          </p:cNvPr>
          <p:cNvSpPr/>
          <p:nvPr/>
        </p:nvSpPr>
        <p:spPr>
          <a:xfrm>
            <a:off x="5508720" y="1484280"/>
            <a:ext cx="3384360" cy="1513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придерживаясь левой стороны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с двумя скругленными противолежащими углами 6">
            <a:hlinkClick r:id="" action="ppaction://hlinkshowjump?jump=nextslide"/>
          </p:cNvPr>
          <p:cNvSpPr/>
          <p:nvPr/>
        </p:nvSpPr>
        <p:spPr>
          <a:xfrm>
            <a:off x="5508720" y="3213000"/>
            <a:ext cx="3384360" cy="18003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Придерживаясь правой стороны, а где их нет – по обоч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с двумя скругленными противолежащими углами 7">
            <a:hlinkClick r:id="rId3"/>
          </p:cNvPr>
          <p:cNvSpPr/>
          <p:nvPr/>
        </p:nvSpPr>
        <p:spPr>
          <a:xfrm>
            <a:off x="5508720" y="5157720"/>
            <a:ext cx="3384360" cy="15112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Посередине троту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IVAN\Desktop\11.jpg"/>
          <p:cNvPicPr/>
          <p:nvPr/>
        </p:nvPicPr>
        <p:blipFill>
          <a:blip r:embed="rId4"/>
          <a:stretch/>
        </p:blipFill>
        <p:spPr>
          <a:xfrm>
            <a:off x="179280" y="1484280"/>
            <a:ext cx="5113440" cy="51958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8"/>
          <p:cNvSpPr/>
          <p:nvPr/>
        </p:nvSpPr>
        <p:spPr>
          <a:xfrm>
            <a:off x="611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Пешеходы должны двигаться по тротуар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0" y="0"/>
            <a:ext cx="719280" cy="9111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с двумя скругленными противолежащими углами 5">
            <a:hlinkClick r:id="rId2"/>
          </p:cNvPr>
          <p:cNvSpPr/>
          <p:nvPr/>
        </p:nvSpPr>
        <p:spPr>
          <a:xfrm>
            <a:off x="5508720" y="1484280"/>
            <a:ext cx="3384360" cy="1513080"/>
          </a:xfrm>
          <a:custGeom>
            <a:avLst/>
            <a:gdLst>
              <a:gd name="textAreaLeft" fmla="*/ 73800 w 3384360"/>
              <a:gd name="textAreaRight" fmla="*/ 3310560 w 3384360"/>
              <a:gd name="textAreaTop" fmla="*/ 73800 h 1513080"/>
              <a:gd name="textAreaBottom" fmla="*/ 1439280 h 1513080"/>
            </a:gdLst>
            <a:ahLst/>
            <a:rect l="textAreaLeft" t="textAreaTop" r="textAreaRight" b="textAreaBottom"/>
            <a:pathLst>
              <a:path w="3384550" h="1512887">
                <a:moveTo>
                  <a:pt x="252153" y="0"/>
                </a:moveTo>
                <a:lnTo>
                  <a:pt x="3384550" y="0"/>
                </a:lnTo>
                <a:lnTo>
                  <a:pt x="3384550" y="1260734"/>
                </a:lnTo>
                <a:lnTo>
                  <a:pt x="3384550" y="1260734"/>
                </a:lnTo>
                <a:arcTo wR="252153" hR="252153" stAng="0" swAng="5400000"/>
                <a:lnTo>
                  <a:pt x="0" y="1512887"/>
                </a:lnTo>
                <a:lnTo>
                  <a:pt x="0" y="252153"/>
                </a:lnTo>
                <a:lnTo>
                  <a:pt x="0" y="252153"/>
                </a:lnTo>
                <a:arcTo wR="252153" hR="252153" stAng="10800000" swAng="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с двумя скругленными противолежащими углами 6">
            <a:hlinkClick r:id="" action="ppaction://hlinkshowjump?jump=nextslide"/>
          </p:cNvPr>
          <p:cNvSpPr/>
          <p:nvPr/>
        </p:nvSpPr>
        <p:spPr>
          <a:xfrm>
            <a:off x="5508720" y="3213000"/>
            <a:ext cx="3384360" cy="1800360"/>
          </a:xfrm>
          <a:custGeom>
            <a:avLst/>
            <a:gdLst>
              <a:gd name="textAreaLeft" fmla="*/ 87840 w 3384360"/>
              <a:gd name="textAreaRight" fmla="*/ 3296520 w 3384360"/>
              <a:gd name="textAreaTop" fmla="*/ 87840 h 1800360"/>
              <a:gd name="textAreaBottom" fmla="*/ 1712520 h 1800360"/>
            </a:gdLst>
            <a:ahLst/>
            <a:rect l="textAreaLeft" t="textAreaTop" r="textAreaRight" b="textAreaBottom"/>
            <a:pathLst>
              <a:path w="3384550" h="1800225">
                <a:moveTo>
                  <a:pt x="300044" y="0"/>
                </a:moveTo>
                <a:lnTo>
                  <a:pt x="3384550" y="0"/>
                </a:lnTo>
                <a:lnTo>
                  <a:pt x="3384550" y="1500181"/>
                </a:lnTo>
                <a:lnTo>
                  <a:pt x="3384550" y="1500181"/>
                </a:lnTo>
                <a:arcTo wR="300044" hR="300044" stAng="0" swAng="5400000"/>
                <a:lnTo>
                  <a:pt x="0" y="1800225"/>
                </a:lnTo>
                <a:lnTo>
                  <a:pt x="0" y="300044"/>
                </a:lnTo>
                <a:lnTo>
                  <a:pt x="0" y="300044"/>
                </a:lnTo>
                <a:arcTo wR="300044" hR="300044" stAng="10800000" swAng="5400011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с двумя скругленными противолежащими углами 7">
            <a:hlinkClick r:id="rId3"/>
          </p:cNvPr>
          <p:cNvSpPr/>
          <p:nvPr/>
        </p:nvSpPr>
        <p:spPr>
          <a:xfrm>
            <a:off x="5508720" y="5157720"/>
            <a:ext cx="3384360" cy="1511280"/>
          </a:xfrm>
          <a:custGeom>
            <a:avLst/>
            <a:gdLst>
              <a:gd name="textAreaLeft" fmla="*/ 73440 w 3384360"/>
              <a:gd name="textAreaRight" fmla="*/ 3310920 w 3384360"/>
              <a:gd name="textAreaTop" fmla="*/ 73440 h 1511280"/>
              <a:gd name="textAreaBottom" fmla="*/ 1437840 h 1511280"/>
            </a:gdLst>
            <a:ahLst/>
            <a:rect l="textAreaLeft" t="textAreaTop" r="textAreaRight" b="textAreaBottom"/>
            <a:pathLst>
              <a:path w="3384550" h="1511300">
                <a:moveTo>
                  <a:pt x="251888" y="0"/>
                </a:moveTo>
                <a:lnTo>
                  <a:pt x="3384550" y="0"/>
                </a:lnTo>
                <a:lnTo>
                  <a:pt x="3384550" y="1259412"/>
                </a:lnTo>
                <a:lnTo>
                  <a:pt x="3384550" y="1259412"/>
                </a:lnTo>
                <a:arcTo wR="251888" hR="251888" stAng="0" swAng="5400000"/>
                <a:lnTo>
                  <a:pt x="0" y="1511300"/>
                </a:lnTo>
                <a:lnTo>
                  <a:pt x="0" y="251888"/>
                </a:lnTo>
                <a:lnTo>
                  <a:pt x="0" y="251888"/>
                </a:lnTo>
                <a:arcTo wR="251888" hR="251888" stAng="10800000" swAng="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611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C:\Users\IVAN\Desktop\12.jpg"/>
          <p:cNvPicPr/>
          <p:nvPr/>
        </p:nvPicPr>
        <p:blipFill>
          <a:blip r:embed="rId4"/>
          <a:stretch/>
        </p:blipFill>
        <p:spPr>
          <a:xfrm>
            <a:off x="179280" y="1484280"/>
            <a:ext cx="5113440" cy="5195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3357720"/>
            <a:ext cx="151920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Object 6"/>
          <p:cNvGraphicFramePr/>
          <p:nvPr/>
        </p:nvGraphicFramePr>
        <p:xfrm>
          <a:off x="6588000" y="5229360"/>
          <a:ext cx="1368720" cy="13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Object 6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88000" y="5229360"/>
                    <a:ext cx="13687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13"/>
          <p:cNvSpPr/>
          <p:nvPr/>
        </p:nvSpPr>
        <p:spPr>
          <a:xfrm>
            <a:off x="1116720" y="260280"/>
            <a:ext cx="72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Какой знак запрещает движение пешехо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4" descr="http://mashintop.ru/images/template/pdd/3_10.gif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6516720" y="1557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0" y="0"/>
            <a:ext cx="719280" cy="911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двумя скругленными противолежащими углами 5">
            <a:hlinkClick r:id="rId2"/>
          </p:cNvPr>
          <p:cNvSpPr/>
          <p:nvPr/>
        </p:nvSpPr>
        <p:spPr>
          <a:xfrm>
            <a:off x="5508720" y="1484280"/>
            <a:ext cx="3384360" cy="1513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Велосипедная дорож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с двумя скругленными противолежащими углами 6">
            <a:hlinkClick r:id="" action="ppaction://hlinkshowjump?jump=nextslide"/>
          </p:cNvPr>
          <p:cNvSpPr/>
          <p:nvPr/>
        </p:nvSpPr>
        <p:spPr>
          <a:xfrm>
            <a:off x="5508720" y="3213000"/>
            <a:ext cx="3384360" cy="18003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Езда на велосипеде запре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с двумя скругленными противолежащими углами 7">
            <a:hlinkClick r:id="rId3"/>
          </p:cNvPr>
          <p:cNvSpPr/>
          <p:nvPr/>
        </p:nvSpPr>
        <p:spPr>
          <a:xfrm>
            <a:off x="5508720" y="5157720"/>
            <a:ext cx="3384360" cy="15112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Стоянка для велосипе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8"/>
          <p:cNvSpPr/>
          <p:nvPr/>
        </p:nvSpPr>
        <p:spPr>
          <a:xfrm>
            <a:off x="611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4"/>
          <a:stretch/>
        </p:blipFill>
        <p:spPr>
          <a:xfrm>
            <a:off x="6227640" y="0"/>
            <a:ext cx="1008360" cy="1003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C:\Users\IVAN\Desktop\13.jpg"/>
          <p:cNvPicPr/>
          <p:nvPr/>
        </p:nvPicPr>
        <p:blipFill>
          <a:blip r:embed="rId5"/>
          <a:stretch/>
        </p:blipFill>
        <p:spPr>
          <a:xfrm>
            <a:off x="179280" y="1557360"/>
            <a:ext cx="5113440" cy="5122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3"/>
          <p:cNvSpPr/>
          <p:nvPr/>
        </p:nvSpPr>
        <p:spPr>
          <a:xfrm>
            <a:off x="1854000" y="190440"/>
            <a:ext cx="43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Что обозначает этот зн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0" y="0"/>
            <a:ext cx="719280" cy="911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с двумя скругленными противолежащими углами 5">
            <a:hlinkClick r:id="rId2"/>
          </p:cNvPr>
          <p:cNvSpPr/>
          <p:nvPr/>
        </p:nvSpPr>
        <p:spPr>
          <a:xfrm>
            <a:off x="5508720" y="1484280"/>
            <a:ext cx="3384360" cy="1513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В любом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с двумя скругленными противолежащими углами 6">
            <a:hlinkClick r:id="rId3"/>
          </p:cNvPr>
          <p:cNvSpPr/>
          <p:nvPr/>
        </p:nvSpPr>
        <p:spPr>
          <a:xfrm>
            <a:off x="5508720" y="3213000"/>
            <a:ext cx="3384360" cy="18003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На проезжей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с двумя скругленными противолежащими углами 7">
            <a:hlinkClick r:id="" action="ppaction://hlinkshowjump?jump=nextslide"/>
          </p:cNvPr>
          <p:cNvSpPr/>
          <p:nvPr/>
        </p:nvSpPr>
        <p:spPr>
          <a:xfrm>
            <a:off x="5508720" y="5157720"/>
            <a:ext cx="3384360" cy="15112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На останов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611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857520" y="26244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Где нужно ожидать общественный  транспор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4" descr="C:\Users\IVAN\Desktop\14.jpg"/>
          <p:cNvPicPr/>
          <p:nvPr/>
        </p:nvPicPr>
        <p:blipFill>
          <a:blip r:embed="rId4"/>
          <a:stretch/>
        </p:blipFill>
        <p:spPr>
          <a:xfrm>
            <a:off x="179280" y="1484280"/>
            <a:ext cx="511344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0" y="0"/>
            <a:ext cx="719280" cy="9111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с двумя скругленными противолежащими углами 7"/>
          <p:cNvSpPr/>
          <p:nvPr/>
        </p:nvSpPr>
        <p:spPr>
          <a:xfrm>
            <a:off x="5364000" y="1916280"/>
            <a:ext cx="3529080" cy="475272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Narrow"/>
              </a:rPr>
              <a:t>Шоссе - не место для игр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Narrow"/>
              </a:rPr>
              <a:t>Ведь есть площадки и двор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8"/>
          <p:cNvSpPr/>
          <p:nvPr/>
        </p:nvSpPr>
        <p:spPr>
          <a:xfrm>
            <a:off x="611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4" descr="C:\Users\IVAN\Desktop\14.jpg"/>
          <p:cNvPicPr/>
          <p:nvPr/>
        </p:nvPicPr>
        <p:blipFill>
          <a:blip r:embed="rId2"/>
          <a:stretch/>
        </p:blipFill>
        <p:spPr>
          <a:xfrm>
            <a:off x="179280" y="1484280"/>
            <a:ext cx="5113440" cy="51958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9"/>
          <p:cNvSpPr/>
          <p:nvPr/>
        </p:nvSpPr>
        <p:spPr>
          <a:xfrm>
            <a:off x="2792520" y="189000"/>
            <a:ext cx="37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Narrow"/>
              </a:rPr>
              <a:t>ДОРОГОЙ  ДРУГ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8">
            <a:hlinkClick r:id="" action="ppaction://hlinkshowjump?jump=endshow"/>
          </p:cNvPr>
          <p:cNvSpPr/>
          <p:nvPr/>
        </p:nvSpPr>
        <p:spPr>
          <a:xfrm>
            <a:off x="7704000" y="6237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eb2d"/>
                </a:solidFill>
                <a:latin typeface="Arial"/>
              </a:rPr>
              <a:t>Вы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468360" y="1628640"/>
            <a:ext cx="79912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http://vikafedotova38.ucoz.ru/load/shablony_prezentacij/pdd/shablon_pdd/50-1-0-77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 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 шабл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http://mbdou136.ucoz.ru/_nw/1/28296161.jpg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- мальчик </a:t>
            </a:r>
            <a:r>
              <a:rPr b="0" lang="arn-CL" sz="16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http://zakras.ru/uploads/images/f63539b49486fe9e1f651e7a790bb4ec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- светофор</a:t>
            </a:r>
            <a:r>
              <a:rPr b="0" lang="arn-C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n-CL" sz="1600" spc="-1" strike="noStrike" u="sng">
                <a:solidFill>
                  <a:srgbClr val="0000ff"/>
                </a:solidFill>
                <a:uFillTx/>
                <a:latin typeface="Arial Narrow"/>
                <a:hlinkClick r:id="rId4"/>
              </a:rPr>
              <a:t>http://uidru.cdutt.ru/new/wp-content/uploads/2013/01/p65_raskraski_11-229x300.jpg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- картинка - раскра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опросы викторины- автор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5"/>
              </a:rPr>
              <a:t>http://mashintop.ru/images/template/pdd/3_10.gif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– знак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движение пешеходов запрещ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6"/>
              </a:rPr>
              <a:t>http://mashintop.ru/images/template/pdd/3_9.gif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– знак дорож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7"/>
              </a:rPr>
              <a:t>http://mashintop.ru/images/template/pdd/5_19_2.gif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-знак пешеходный перех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8"/>
              </a:rPr>
              <a:t>http://mashintop.ru/images/template/pdd/6_7.gif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- надземный пешеходный перех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9"/>
              </a:rPr>
              <a:t>http://mashintop.ru/images/template/pdd/1_22.gif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- пешеходный перех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0"/>
              </a:rPr>
              <a:t>http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Narrow"/>
                <a:hlinkClick r:id="rId11"/>
              </a:rPr>
              <a:t>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2"/>
              </a:rPr>
              <a:t>yad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Narrow"/>
                <a:hlinkClick r:id="rId13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4"/>
              </a:rPr>
              <a:t>sk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 Narrow"/>
              </a:rPr>
              <a:t>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d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 Narrow"/>
              </a:rPr>
              <a:t>/2_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RjHcFX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 Narrow"/>
              </a:rPr>
              <a:t>86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VS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мастер-класс Фокиной Л. 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Управляющая кнопка: далее 3"/>
          <p:cNvGrpSpPr/>
          <p:nvPr/>
        </p:nvGrpSpPr>
        <p:grpSpPr>
          <a:xfrm>
            <a:off x="8253360" y="6126120"/>
            <a:ext cx="689040" cy="542880"/>
            <a:chOff x="8253360" y="6126120"/>
            <a:chExt cx="689040" cy="542880"/>
          </a:xfrm>
        </p:grpSpPr>
        <p:pic>
          <p:nvPicPr>
            <p:cNvPr id="203" name="Управляющая кнопка: далее 3" descr=""/>
            <p:cNvPicPr/>
            <p:nvPr/>
          </p:nvPicPr>
          <p:blipFill>
            <a:blip r:embed="rId15"/>
            <a:stretch/>
          </p:blipFill>
          <p:spPr>
            <a:xfrm>
              <a:off x="8253360" y="6126120"/>
              <a:ext cx="6890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8317080" y="6165720"/>
              <a:ext cx="571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0" y="1197000"/>
            <a:ext cx="4208400" cy="5327640"/>
          </a:xfrm>
          <a:prstGeom prst="rect">
            <a:avLst/>
          </a:prstGeom>
          <a:ln w="0">
            <a:noFill/>
          </a:ln>
        </p:spPr>
      </p:pic>
      <p:grpSp>
        <p:nvGrpSpPr>
          <p:cNvPr id="89" name="Управляющая кнопка: далее 4"/>
          <p:cNvGrpSpPr/>
          <p:nvPr/>
        </p:nvGrpSpPr>
        <p:grpSpPr>
          <a:xfrm>
            <a:off x="8253360" y="6199200"/>
            <a:ext cx="689040" cy="536400"/>
            <a:chOff x="8253360" y="6199200"/>
            <a:chExt cx="689040" cy="536400"/>
          </a:xfrm>
        </p:grpSpPr>
        <p:pic>
          <p:nvPicPr>
            <p:cNvPr id="90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253360" y="6199200"/>
              <a:ext cx="689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317080" y="6237360"/>
              <a:ext cx="5713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Управляющая кнопка: сведения 5"/>
          <p:cNvGrpSpPr/>
          <p:nvPr/>
        </p:nvGrpSpPr>
        <p:grpSpPr>
          <a:xfrm>
            <a:off x="189000" y="6059520"/>
            <a:ext cx="615960" cy="639720"/>
            <a:chOff x="189000" y="6059520"/>
            <a:chExt cx="615960" cy="639720"/>
          </a:xfrm>
        </p:grpSpPr>
        <p:pic>
          <p:nvPicPr>
            <p:cNvPr id="93" name="Управляющая кнопка: сведения 5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189000" y="6059520"/>
              <a:ext cx="6159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50920" y="6093000"/>
              <a:ext cx="5000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Загнутый угол 6"/>
          <p:cNvGrpSpPr/>
          <p:nvPr/>
        </p:nvGrpSpPr>
        <p:grpSpPr>
          <a:xfrm>
            <a:off x="4267080" y="1249200"/>
            <a:ext cx="3853080" cy="5437440"/>
            <a:chOff x="4267080" y="1249200"/>
            <a:chExt cx="3853080" cy="5437440"/>
          </a:xfrm>
        </p:grpSpPr>
        <p:pic>
          <p:nvPicPr>
            <p:cNvPr id="96" name="Загнутый угол 6" descr=""/>
            <p:cNvPicPr/>
            <p:nvPr/>
          </p:nvPicPr>
          <p:blipFill>
            <a:blip r:embed="rId4"/>
            <a:stretch/>
          </p:blipFill>
          <p:spPr>
            <a:xfrm>
              <a:off x="4267080" y="1249200"/>
              <a:ext cx="3853080" cy="543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284720" y="1268280"/>
              <a:ext cx="3816360" cy="47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Arial Narrow"/>
                </a:rPr>
                <a:t>Как только ты выходишь из школы, или из дома – ты становишься пешеходом. Ты должен знать и соблюдать правила дорожного движения. Проверь себя! Если ты отвечаешь на вопрос правильно, переходишь на  следующий слай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Arial Narrow"/>
                </a:rPr>
                <a:t>Желаю удач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Прямоугольник 7"/>
          <p:cNvSpPr/>
          <p:nvPr/>
        </p:nvSpPr>
        <p:spPr>
          <a:xfrm>
            <a:off x="2755080" y="260280"/>
            <a:ext cx="35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Narrow"/>
              </a:rPr>
              <a:t>Мой юный друг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571760" y="260280"/>
            <a:ext cx="62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На какой свет надо переходить улиц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179280" y="0"/>
            <a:ext cx="719280" cy="911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с двумя скругленными противолежащими углами 5">
            <a:hlinkClick r:id="rId2"/>
          </p:cNvPr>
          <p:cNvSpPr/>
          <p:nvPr/>
        </p:nvSpPr>
        <p:spPr>
          <a:xfrm>
            <a:off x="5508720" y="1484280"/>
            <a:ext cx="3384360" cy="1440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  <a:ea typeface="Times New Roman"/>
              </a:rPr>
              <a:t>Кра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с двумя скругленными противолежащими углами 6">
            <a:hlinkClick r:id="rId3"/>
          </p:cNvPr>
          <p:cNvSpPr/>
          <p:nvPr/>
        </p:nvSpPr>
        <p:spPr>
          <a:xfrm>
            <a:off x="5508720" y="3213000"/>
            <a:ext cx="3384360" cy="15843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  <a:ea typeface="Times New Roman"/>
              </a:rPr>
              <a:t>Жёлт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с двумя скругленными противолежащими углами 7">
            <a:hlinkClick r:id="" action="ppaction://hlinkshowjump?jump=nextslide"/>
          </p:cNvPr>
          <p:cNvSpPr/>
          <p:nvPr/>
        </p:nvSpPr>
        <p:spPr>
          <a:xfrm>
            <a:off x="5508720" y="5157720"/>
            <a:ext cx="3384360" cy="15112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  <a:ea typeface="Times New Roman"/>
              </a:rPr>
              <a:t>Зелё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File0158"/>
          <p:cNvPicPr/>
          <p:nvPr/>
        </p:nvPicPr>
        <p:blipFill>
          <a:blip r:embed="rId4"/>
          <a:stretch/>
        </p:blipFill>
        <p:spPr>
          <a:xfrm>
            <a:off x="250920" y="1557360"/>
            <a:ext cx="4968720" cy="5149800"/>
          </a:xfrm>
          <a:prstGeom prst="rect">
            <a:avLst/>
          </a:prstGeom>
          <a:ln w="38160">
            <a:solidFill>
              <a:srgbClr val="21af28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241720" y="260280"/>
            <a:ext cx="46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Переходить дорогу след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324000" y="0"/>
            <a:ext cx="718920" cy="911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с двумя скругленными противолежащими углами 5">
            <a:hlinkClick r:id="rId2"/>
          </p:cNvPr>
          <p:cNvSpPr/>
          <p:nvPr/>
        </p:nvSpPr>
        <p:spPr>
          <a:xfrm>
            <a:off x="5508720" y="1484280"/>
            <a:ext cx="3384360" cy="1513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бегом,не задерживая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с двумя скругленными противолежащими углами 6">
            <a:hlinkClick r:id="" action="ppaction://hlinkshowjump?jump=nextslide"/>
          </p:cNvPr>
          <p:cNvSpPr/>
          <p:nvPr/>
        </p:nvSpPr>
        <p:spPr>
          <a:xfrm>
            <a:off x="5508720" y="3213000"/>
            <a:ext cx="3384360" cy="18003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спокойно, под прямым углом к краю проезже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с двумя скругленными противолежащими углами 7">
            <a:hlinkClick r:id="rId3"/>
          </p:cNvPr>
          <p:cNvSpPr/>
          <p:nvPr/>
        </p:nvSpPr>
        <p:spPr>
          <a:xfrm>
            <a:off x="5508720" y="5157720"/>
            <a:ext cx="3384360" cy="15112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спокойно, наискосок к краю проезже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IVAN\Desktop\1.jpg"/>
          <p:cNvPicPr/>
          <p:nvPr/>
        </p:nvPicPr>
        <p:blipFill>
          <a:blip r:embed="rId4"/>
          <a:stretch/>
        </p:blipFill>
        <p:spPr>
          <a:xfrm>
            <a:off x="179280" y="1557360"/>
            <a:ext cx="518472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250920" y="0"/>
            <a:ext cx="718920" cy="9111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с двумя скругленными противолежащими углами 5">
            <a:hlinkClick r:id="" action="ppaction://hlinkshowjump?jump=nextslide"/>
          </p:cNvPr>
          <p:cNvSpPr/>
          <p:nvPr/>
        </p:nvSpPr>
        <p:spPr>
          <a:xfrm>
            <a:off x="5508720" y="1484280"/>
            <a:ext cx="3384360" cy="1513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Пешеходный переход</a:t>
            </a:r>
            <a:r>
              <a:rPr b="0" lang="en-US" sz="3200" spc="-1" strike="noStrike">
                <a:solidFill>
                  <a:srgbClr val="984807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с двумя скругленными противолежащими углами 6">
            <a:hlinkClick r:id="rId2"/>
          </p:cNvPr>
          <p:cNvSpPr/>
          <p:nvPr/>
        </p:nvSpPr>
        <p:spPr>
          <a:xfrm>
            <a:off x="5508720" y="3213000"/>
            <a:ext cx="3384360" cy="18003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Пешеходная дорожка</a:t>
            </a:r>
            <a:r>
              <a:rPr b="0" lang="en-US" sz="3200" spc="-1" strike="noStrike">
                <a:solidFill>
                  <a:srgbClr val="984807"/>
                </a:solidFill>
                <a:latin typeface="Arial Narrow"/>
              </a:rPr>
              <a:t>.</a:t>
            </a: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с двумя скругленными противолежащими углами 7">
            <a:hlinkClick r:id="rId3"/>
          </p:cNvPr>
          <p:cNvSpPr/>
          <p:nvPr/>
        </p:nvSpPr>
        <p:spPr>
          <a:xfrm>
            <a:off x="5508720" y="5157720"/>
            <a:ext cx="3384360" cy="15112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Островок безопасности</a:t>
            </a: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IVAN\Desktop\3.jpg"/>
          <p:cNvPicPr/>
          <p:nvPr/>
        </p:nvPicPr>
        <p:blipFill>
          <a:blip r:embed="rId4"/>
          <a:stretch/>
        </p:blipFill>
        <p:spPr>
          <a:xfrm>
            <a:off x="179280" y="1557360"/>
            <a:ext cx="5178600" cy="5111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1297800" y="3240"/>
            <a:ext cx="65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Как называется участок проезжей ча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где можно перейти на другую сторону доро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0" y="260280"/>
            <a:ext cx="719280" cy="911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с двумя скругленными противолежащими углами 5">
            <a:hlinkClick r:id="rId2"/>
          </p:cNvPr>
          <p:cNvSpPr/>
          <p:nvPr/>
        </p:nvSpPr>
        <p:spPr>
          <a:xfrm>
            <a:off x="5508720" y="1484280"/>
            <a:ext cx="3384360" cy="1513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в любом месте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с двумя скругленными противолежащими углами 6">
            <a:hlinkClick r:id="rId3"/>
          </p:cNvPr>
          <p:cNvSpPr/>
          <p:nvPr/>
        </p:nvSpPr>
        <p:spPr>
          <a:xfrm>
            <a:off x="5508720" y="3213000"/>
            <a:ext cx="3384360" cy="18003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На желтый сигнал светоф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с двумя скругленными противолежащими углами 7">
            <a:hlinkClick r:id="" action="ppaction://hlinkshowjump?jump=nextslide"/>
          </p:cNvPr>
          <p:cNvSpPr/>
          <p:nvPr/>
        </p:nvSpPr>
        <p:spPr>
          <a:xfrm>
            <a:off x="5508720" y="5157720"/>
            <a:ext cx="3384360" cy="15112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Посмотрев сначала  налево, а потом на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IVAN\Desktop\4.jpg"/>
          <p:cNvPicPr/>
          <p:nvPr/>
        </p:nvPicPr>
        <p:blipFill>
          <a:blip r:embed="rId4"/>
          <a:stretch/>
        </p:blipFill>
        <p:spPr>
          <a:xfrm>
            <a:off x="250920" y="1557360"/>
            <a:ext cx="5113080" cy="51116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9"/>
          <p:cNvSpPr/>
          <p:nvPr/>
        </p:nvSpPr>
        <p:spPr>
          <a:xfrm>
            <a:off x="2860560" y="260280"/>
            <a:ext cx="45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Переходить дорогу следует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0" y="260280"/>
            <a:ext cx="719280" cy="911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с двумя скругленными противолежащими углами 5">
            <a:hlinkClick r:id="rId2"/>
          </p:cNvPr>
          <p:cNvSpPr/>
          <p:nvPr/>
        </p:nvSpPr>
        <p:spPr>
          <a:xfrm>
            <a:off x="5508720" y="1484280"/>
            <a:ext cx="3384360" cy="1513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Красн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с двумя скругленными противолежащими углами 6">
            <a:hlinkClick r:id="rId3"/>
          </p:cNvPr>
          <p:cNvSpPr/>
          <p:nvPr/>
        </p:nvSpPr>
        <p:spPr>
          <a:xfrm>
            <a:off x="5508720" y="3213000"/>
            <a:ext cx="3384360" cy="18003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Жёл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с двумя скругленными противолежащими углами 7">
            <a:hlinkClick r:id="" action="ppaction://hlinkshowjump?jump=nextslide"/>
          </p:cNvPr>
          <p:cNvSpPr/>
          <p:nvPr/>
        </p:nvSpPr>
        <p:spPr>
          <a:xfrm>
            <a:off x="5508720" y="5157720"/>
            <a:ext cx="3384360" cy="15112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Зелё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IVAN\Desktop\6.jpg"/>
          <p:cNvPicPr/>
          <p:nvPr/>
        </p:nvPicPr>
        <p:blipFill>
          <a:blip r:embed="rId4"/>
          <a:stretch/>
        </p:blipFill>
        <p:spPr>
          <a:xfrm>
            <a:off x="179280" y="1557360"/>
            <a:ext cx="5173920" cy="5111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9"/>
          <p:cNvSpPr/>
          <p:nvPr/>
        </p:nvSpPr>
        <p:spPr>
          <a:xfrm>
            <a:off x="971640" y="26028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Какой сигнал светофора разрешает дви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0" y="0"/>
            <a:ext cx="719280" cy="911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с двумя скругленными противолежащими углами 5">
            <a:hlinkClick r:id="rId2"/>
          </p:cNvPr>
          <p:cNvSpPr/>
          <p:nvPr/>
        </p:nvSpPr>
        <p:spPr>
          <a:xfrm>
            <a:off x="5508720" y="1484280"/>
            <a:ext cx="3384360" cy="1513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Начинать движение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с двумя скругленными противолежащими углами 6">
            <a:hlinkClick r:id="rId3"/>
          </p:cNvPr>
          <p:cNvSpPr/>
          <p:nvPr/>
        </p:nvSpPr>
        <p:spPr>
          <a:xfrm>
            <a:off x="5508720" y="3213000"/>
            <a:ext cx="3384360" cy="18003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Начинать движение 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с двумя скругленными противолежащими углами 7">
            <a:hlinkClick r:id="" action="ppaction://hlinkshowjump?jump=nextslide"/>
          </p:cNvPr>
          <p:cNvSpPr/>
          <p:nvPr/>
        </p:nvSpPr>
        <p:spPr>
          <a:xfrm>
            <a:off x="5508720" y="5157720"/>
            <a:ext cx="3384360" cy="15112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Скоро  включится зелёный сигнал светоф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IVAN\Desktop\7.jpg"/>
          <p:cNvPicPr/>
          <p:nvPr/>
        </p:nvPicPr>
        <p:blipFill>
          <a:blip r:embed="rId4"/>
          <a:stretch/>
        </p:blipFill>
        <p:spPr>
          <a:xfrm>
            <a:off x="250920" y="1484280"/>
            <a:ext cx="5113080" cy="51847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9"/>
          <p:cNvSpPr/>
          <p:nvPr/>
        </p:nvSpPr>
        <p:spPr>
          <a:xfrm>
            <a:off x="0" y="0"/>
            <a:ext cx="100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Что означает жёлтый сигнал светоф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включенный после красного сигна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C:\Users\IVAN\Desktop\28296161.jpg"/>
          <p:cNvPicPr/>
          <p:nvPr/>
        </p:nvPicPr>
        <p:blipFill>
          <a:blip r:embed="rId1"/>
          <a:stretch/>
        </p:blipFill>
        <p:spPr>
          <a:xfrm>
            <a:off x="0" y="0"/>
            <a:ext cx="719280" cy="9111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4996080" y="24501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с двумя скругленными противолежащими углами 5">
            <a:hlinkClick r:id="rId2"/>
          </p:cNvPr>
          <p:cNvSpPr/>
          <p:nvPr/>
        </p:nvSpPr>
        <p:spPr>
          <a:xfrm>
            <a:off x="5508720" y="1484280"/>
            <a:ext cx="3384360" cy="1513080"/>
          </a:xfrm>
          <a:custGeom>
            <a:avLst/>
            <a:gdLst>
              <a:gd name="textAreaLeft" fmla="*/ 73800 w 3384360"/>
              <a:gd name="textAreaRight" fmla="*/ 3310560 w 3384360"/>
              <a:gd name="textAreaTop" fmla="*/ 73800 h 1513080"/>
              <a:gd name="textAreaBottom" fmla="*/ 1439280 h 1513080"/>
            </a:gdLst>
            <a:ahLst/>
            <a:rect l="textAreaLeft" t="textAreaTop" r="textAreaRight" b="textAreaBottom"/>
            <a:pathLst>
              <a:path w="3384550" h="1512887">
                <a:moveTo>
                  <a:pt x="252153" y="0"/>
                </a:moveTo>
                <a:lnTo>
                  <a:pt x="3384550" y="0"/>
                </a:lnTo>
                <a:lnTo>
                  <a:pt x="3384550" y="1260734"/>
                </a:lnTo>
                <a:lnTo>
                  <a:pt x="3384550" y="1260734"/>
                </a:lnTo>
                <a:arcTo wR="252153" hR="252153" stAng="0" swAng="5400000"/>
                <a:lnTo>
                  <a:pt x="0" y="1512887"/>
                </a:lnTo>
                <a:lnTo>
                  <a:pt x="0" y="252153"/>
                </a:lnTo>
                <a:lnTo>
                  <a:pt x="0" y="252153"/>
                </a:lnTo>
                <a:arcTo wR="252153" hR="252153" stAng="10800000" swAng="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с двумя скругленными противолежащими углами 6">
            <a:hlinkClick r:id="" action="ppaction://hlinkshowjump?jump=nextslide"/>
          </p:cNvPr>
          <p:cNvSpPr/>
          <p:nvPr/>
        </p:nvSpPr>
        <p:spPr>
          <a:xfrm>
            <a:off x="5508720" y="3213000"/>
            <a:ext cx="3384360" cy="1800360"/>
          </a:xfrm>
          <a:custGeom>
            <a:avLst/>
            <a:gdLst>
              <a:gd name="textAreaLeft" fmla="*/ 87840 w 3384360"/>
              <a:gd name="textAreaRight" fmla="*/ 3296520 w 3384360"/>
              <a:gd name="textAreaTop" fmla="*/ 87840 h 1800360"/>
              <a:gd name="textAreaBottom" fmla="*/ 1712520 h 1800360"/>
            </a:gdLst>
            <a:ahLst/>
            <a:rect l="textAreaLeft" t="textAreaTop" r="textAreaRight" b="textAreaBottom"/>
            <a:pathLst>
              <a:path w="3384550" h="1800225">
                <a:moveTo>
                  <a:pt x="300044" y="0"/>
                </a:moveTo>
                <a:lnTo>
                  <a:pt x="3384550" y="0"/>
                </a:lnTo>
                <a:lnTo>
                  <a:pt x="3384550" y="1500181"/>
                </a:lnTo>
                <a:lnTo>
                  <a:pt x="3384550" y="1500181"/>
                </a:lnTo>
                <a:arcTo wR="300044" hR="300044" stAng="0" swAng="5400000"/>
                <a:lnTo>
                  <a:pt x="0" y="1800225"/>
                </a:lnTo>
                <a:lnTo>
                  <a:pt x="0" y="300044"/>
                </a:lnTo>
                <a:lnTo>
                  <a:pt x="0" y="300044"/>
                </a:lnTo>
                <a:arcTo wR="300044" hR="300044" stAng="10800000" swAng="5400011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с двумя скругленными противолежащими углами 7">
            <a:hlinkClick r:id="rId3"/>
          </p:cNvPr>
          <p:cNvSpPr/>
          <p:nvPr/>
        </p:nvSpPr>
        <p:spPr>
          <a:xfrm>
            <a:off x="5508720" y="5157720"/>
            <a:ext cx="3384360" cy="15112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Arial Narrow"/>
              </a:rPr>
              <a:t>Оба зн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IVAN\Desktop\8.jpg"/>
          <p:cNvPicPr/>
          <p:nvPr/>
        </p:nvPicPr>
        <p:blipFill>
          <a:blip r:embed="rId4"/>
          <a:stretch/>
        </p:blipFill>
        <p:spPr>
          <a:xfrm>
            <a:off x="179280" y="1484280"/>
            <a:ext cx="5148360" cy="51847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9"/>
          <p:cNvSpPr/>
          <p:nvPr/>
        </p:nvSpPr>
        <p:spPr>
          <a:xfrm>
            <a:off x="-900000" y="0"/>
            <a:ext cx="1133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Narrow"/>
              </a:rPr>
              <a:t>Какой из этих знаков обозначает место, где можно                       переходить дорог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659640" y="1628640"/>
            <a:ext cx="1225440" cy="1224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3500280"/>
            <a:ext cx="1584360" cy="1382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Викуля и Кристина</cp:lastModifiedBy>
  <dcterms:modified xsi:type="dcterms:W3CDTF">2019-10-14T19:56:58Z</dcterms:modified>
  <cp:revision>106</cp:revision>
  <dc:subject/>
  <dc:title>Слайд 1</dc:title>
</cp:coreProperties>
</file>