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70C6A-0507-44CC-80ED-7DCE6B34E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525E9-E675-4B2F-B191-40270A594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DC17C-CDF0-49F1-A92B-74083FC6A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1DA2E-7929-408A-BFA9-883411403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391CA-27D7-4919-B436-608F8811D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A03CA-5DFF-4D8A-8761-272560735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16ABD-CC4E-491B-87AA-4C48045A9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CD4CB-9838-4C29-875A-2A90ED1EC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E0B1B-B2D1-45E4-9771-1C0EB8A0A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93BB0-B0D9-470F-A607-8C8C8D2B0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4F2A9-E22A-4F32-9283-BAEA97726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BD74C-BCBA-4BF1-9049-0FF9639F4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2AC11-5B31-4DD5-AC1F-061BF1FAC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6232D-0F0E-44A5-A9D4-207E860AD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EC302-93D6-48F9-8E2A-375B0801B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64C7B-14BF-4B5C-9C89-BC4A3BCE0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A69D8-BD18-4594-B96E-A6353722C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10B1EF-4632-4356-BFEF-362D7F8FC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CD926E-7B44-41EA-98F0-5EB109EA6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484B02-5397-4C10-AF91-179F37E78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6B8478-D4BB-4BE7-BE1F-EBF37F144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164E5E-B2E5-4287-B628-419A42D76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522DD-05A9-452F-BE50-4902B3710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7F1CFB-3470-4AC8-B4B2-D4D769CB9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808F4E-C081-4926-B67A-B78B0E0BA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CAC496-8BE6-4B94-8F61-34BA76001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4D897C-122D-4C82-AA32-0F9D12F37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9C2363-32EF-48E6-9117-80E91B627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85BF60-7464-4467-964D-1E3219704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B6EE74-4A46-4FCC-822A-B6153F7BB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82E06D-9631-41DD-A0B8-3CAAFDED8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0DCA74-EE3D-4036-8B2C-37F48901B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DA300A-B27E-4526-B3DA-4DE1B0D37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695B0-2228-4AAE-AAF7-44D98D85B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E9E207-2F1F-471C-BDF0-1152AB197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AD8906-7FA0-4513-B650-E5280EB89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CE63F6-91AB-429A-8D61-313C7D2C6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1064F9-FF1B-4FB1-A27B-74BE2AB12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5B17EA-3207-42C1-9BAA-C599CCB71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8D0A83-E977-4CA2-884F-AA2C7A5D1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521DF4-A102-4BF8-A77D-BA708007D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FC2D5C-A877-4548-92BE-5F1B3D479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780772-CC15-4822-98DD-49C80BA9F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1836A-10B3-4B1D-907A-E6BF34536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5CF77-E5A5-4123-9015-0A41A18C7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B1B03-E699-4E25-8568-AC04F769A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25376-043E-4BA4-84FD-C9E0F8A2B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15D84-B7F7-45D7-9C2D-A7AA2F73F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482C6-DBA5-488D-B8C2-A695E8FE4DEE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14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6" name="Скругленный прямоугольник 9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9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1CF42-CB3B-45AE-97AE-932B883A076A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13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424E2-E2F6-4DE1-8E7D-4D44888E1E6F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14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E1C94-F7F3-41BC-8311-9426EF950D4B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22160" y="18208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РЕЛИГИОЗНЫЕ ТРАДИЦИИ</a:t>
            </a:r>
            <a:endParaRPr b="1" lang="en-US" sz="6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000080" y="542916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0" bIns="46800" anchor="t">
            <a:noAutofit/>
          </a:bodyPr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9766f"/>
                </a:solidFill>
                <a:latin typeface="Verdana"/>
              </a:rPr>
              <a:t>УРОК 11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2" descr=""/>
          <p:cNvPicPr/>
          <p:nvPr/>
        </p:nvPicPr>
        <p:blipFill>
          <a:blip r:embed="rId1"/>
          <a:stretch/>
        </p:blipFill>
        <p:spPr>
          <a:xfrm>
            <a:off x="428760" y="428760"/>
            <a:ext cx="842940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КРЕЩЕНИЕ</a:t>
            </a:r>
            <a:endParaRPr b="1" lang="en-US" sz="48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182" name="Picture 2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8642160" cy="469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ЕВХАРИСТИЯ</a:t>
            </a:r>
            <a:endParaRPr b="1" lang="en-US" sz="48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184" name="Picture 2" descr=""/>
          <p:cNvPicPr/>
          <p:nvPr/>
        </p:nvPicPr>
        <p:blipFill>
          <a:blip r:embed="rId1"/>
          <a:stretch/>
        </p:blipFill>
        <p:spPr>
          <a:xfrm>
            <a:off x="1332000" y="333360"/>
            <a:ext cx="6769080" cy="497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ИСЛАМ</a:t>
            </a:r>
            <a:endParaRPr b="1" lang="en-US" sz="48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186" name="Picture 2" descr=""/>
          <p:cNvPicPr/>
          <p:nvPr/>
        </p:nvPicPr>
        <p:blipFill>
          <a:blip r:embed="rId1"/>
          <a:stretch/>
        </p:blipFill>
        <p:spPr>
          <a:xfrm>
            <a:off x="468360" y="404640"/>
            <a:ext cx="8280360" cy="488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БУДДИЗМ</a:t>
            </a:r>
            <a:endParaRPr b="1" lang="en-US" sz="48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188" name="Picture 2" descr=""/>
          <p:cNvPicPr/>
          <p:nvPr/>
        </p:nvPicPr>
        <p:blipFill>
          <a:blip r:embed="rId1"/>
          <a:stretch/>
        </p:blipFill>
        <p:spPr>
          <a:xfrm>
            <a:off x="1476360" y="404640"/>
            <a:ext cx="6446880" cy="469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05T15:03:28Z</dcterms:created>
  <dc:creator>Customer</dc:creator>
  <dc:description/>
  <dc:language>en-US</dc:language>
  <cp:lastModifiedBy>ADM</cp:lastModifiedBy>
  <dcterms:modified xsi:type="dcterms:W3CDTF">2019-10-11T17:29:55Z</dcterms:modified>
  <cp:revision>11</cp:revision>
  <dc:subject/>
  <dc:title>РЕЛИГИОЗНЫЕ ТРАДИЦИИ</dc:title>
</cp:coreProperties>
</file>