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598-105C-4078-8578-B3895F22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00F-018F-4602-8E14-0F8971C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D45-948A-41AD-849C-A929147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64B-31B0-4A31-963F-5336D74F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7DCE-590C-4FE0-8512-5A5819D8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74E6-E665-4600-9F80-DBF788F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4E2D-EA36-4CF5-992A-BBC28027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17D-70E0-4BEF-8B2F-BFB63C62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5EF7-05CA-4208-8A87-7A49589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057-2ECD-45D5-9704-AC1EFE0E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ED1-77D7-4443-8A7F-FCF206A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666-476D-49D0-9C62-58A37FCC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BE6-0E42-4A40-A9A1-C14C786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DF0C-B7B9-4D37-9185-B8C01F9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76BC-20F2-4748-8DF0-2270D4B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D70-043E-4238-BFF2-A76F6B80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8C27-FF8B-433C-A062-9E6F535B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D671-BBF7-43C6-B43D-559682BD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829E-63D2-41C0-BE6E-C577556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306D-2897-4595-9B14-6B4D3F8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7651-0AF0-4300-82B2-EEE4FF2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49F1-526A-48FE-BDDD-9420D557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8D6-F66D-4D7F-A934-D72E7595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DDB5-C766-458E-A0F3-88FA464B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DED54-5D57-40F5-908F-5ECDE0E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B6A4-AADD-496D-A4E1-BC374C0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5D76-9001-4821-9B38-335D93C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D81A-3F50-49B5-8290-ECFA0721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A6BB-7173-4807-8B4D-7E376521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324D-1414-4B58-98AE-27A09293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1386-1C75-40E8-9DDC-33A2C41F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E834-EEE9-48A7-B5E0-CEA1677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88D6-A679-416B-B811-B6CFB22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C67-E729-4373-BE27-A4F3EEA1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836C-C850-4C11-BD43-2F34569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61AE-38EB-40F1-8F9E-C56C0636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2534-57CC-4A8D-9752-D34385C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84B4-081E-464C-B02F-DC3C37A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ED68-2D9F-4354-8414-491FC4D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E670-217C-47A3-B035-901B3297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F442-914A-4359-9A88-3C12824E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FAA8-0A21-468D-BE6C-39DD6AC2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2A57-B3E6-4064-BFEA-662962B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AE4-100C-4649-9B49-5E5FC83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D00-6DFF-409E-A983-5B8B043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0C4-FE8E-4FBA-A4D3-B5ECCA1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908-9C79-4B43-9631-66DF675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763-ABCC-4F86-82BC-62D9CB6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F78-3254-4C06-8FE1-FC84B7148E1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107-75A7-4643-8808-9255C21CD36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AA9-BB2C-45AC-A5E3-8B0EE5F882B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F2F-49D1-404C-A260-631619F2210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ТЕСТОВЫЕ ЗАДАН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ПО  ПМ 0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Специальность 27083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МЭВСУК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SERGEY\Documents\КОНК-ТЕСТ\Кокос 9.jpg"/>
          <p:cNvPicPr/>
          <p:nvPr/>
        </p:nvPicPr>
        <p:blipFill>
          <a:blip r:embed="rId2"/>
          <a:stretch/>
        </p:blipFill>
        <p:spPr>
          <a:xfrm>
            <a:off x="-52560" y="619200"/>
            <a:ext cx="924912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RGEY\Documents\КОНК-ТЕСТ\Кокос 10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SERGEY\Documents\КОНК-ТЕСТ\Кокос 10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SERGEY\Documents\КОНК-ТЕСТ\Кокос 11.png"/>
          <p:cNvPicPr/>
          <p:nvPr/>
        </p:nvPicPr>
        <p:blipFill>
          <a:blip r:embed="rId2"/>
          <a:stretch/>
        </p:blipFill>
        <p:spPr>
          <a:xfrm>
            <a:off x="28440" y="619200"/>
            <a:ext cx="908532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SERGEY\Documents\КОНК-ТЕСТ\Кокос 12.jp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SERGEY\Documents\КОНК-ТЕСТ\Кокос 13.jpg"/>
          <p:cNvPicPr/>
          <p:nvPr/>
        </p:nvPicPr>
        <p:blipFill>
          <a:blip r:embed="rId2"/>
          <a:stretch/>
        </p:blipFill>
        <p:spPr>
          <a:xfrm>
            <a:off x="-514440" y="247680"/>
            <a:ext cx="10172880" cy="63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SERGEY\Documents\КОНК-ТЕСТ\Кокос 14.jpg"/>
          <p:cNvPicPr/>
          <p:nvPr/>
        </p:nvPicPr>
        <p:blipFill>
          <a:blip r:embed="rId2"/>
          <a:stretch/>
        </p:blipFill>
        <p:spPr>
          <a:xfrm>
            <a:off x="138240" y="619200"/>
            <a:ext cx="886752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SERGEY\Documents\КОНК-ТЕСТ\Кокос 15.bmp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SERGEY\Documents\ПЕЧАТЬ ТЕСТ\РУБТЕСТ\РУБТЕСТ 5.png"/>
          <p:cNvPicPr/>
          <p:nvPr/>
        </p:nvPicPr>
        <p:blipFill>
          <a:blip r:embed="rId2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SERGEY\Documents\РУБТЕСТ\РУБТЕСТ 2.bmp"/>
          <p:cNvPicPr/>
          <p:nvPr/>
        </p:nvPicPr>
        <p:blipFill>
          <a:blip r:embed="rId2"/>
          <a:stretch/>
        </p:blipFill>
        <p:spPr>
          <a:xfrm>
            <a:off x="-571680" y="0"/>
            <a:ext cx="10087200" cy="75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SERGEY\Documents\КОНК-ТЕСТ\кокос 1.JPG"/>
          <p:cNvPicPr/>
          <p:nvPr/>
        </p:nvPicPr>
        <p:blipFill>
          <a:blip r:embed="rId2"/>
          <a:stretch/>
        </p:blipFill>
        <p:spPr>
          <a:xfrm>
            <a:off x="114480" y="566640"/>
            <a:ext cx="8915400" cy="57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Users\SERGEY\Documents\РУБТЕСТ\РУБТЕСТ 4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6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SERGEY\Documents\РУБТЕСТ\РУБТЕСТ 3.bmp"/>
          <p:cNvPicPr/>
          <p:nvPr/>
        </p:nvPicPr>
        <p:blipFill>
          <a:blip r:embed="rId2"/>
          <a:stretch/>
        </p:blipFill>
        <p:spPr>
          <a:xfrm>
            <a:off x="-428760" y="-357120"/>
            <a:ext cx="10087200" cy="75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SERGEY\Documents\КОНК-ТЕСТ\Кокос 2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SERGEY\Documents\КОНК-ТЕСТ\Кокос 3.bmp"/>
          <p:cNvPicPr/>
          <p:nvPr/>
        </p:nvPicPr>
        <p:blipFill>
          <a:blip r:embed="rId2"/>
          <a:stretch/>
        </p:blipFill>
        <p:spPr>
          <a:xfrm>
            <a:off x="-9360" y="504720"/>
            <a:ext cx="916272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SERGEY\Documents\КОНК-ТЕСТ\Кокос 4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0" y="504720"/>
            <a:ext cx="916308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SERGEY\Documents\КОНК-ТЕСТ\Кокос 6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SERGEY\Documents\КОНК-ТЕСТ\Кокос 7.jpg"/>
          <p:cNvPicPr/>
          <p:nvPr/>
        </p:nvPicPr>
        <p:blipFill>
          <a:blip r:embed="rId2"/>
          <a:stretch/>
        </p:blipFill>
        <p:spPr>
          <a:xfrm>
            <a:off x="561960" y="685800"/>
            <a:ext cx="80200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SERGEY\Documents\КОНК-ТЕСТ\Кокос 8.jpg"/>
          <p:cNvPicPr/>
          <p:nvPr/>
        </p:nvPicPr>
        <p:blipFill>
          <a:blip r:embed="rId2"/>
          <a:stretch/>
        </p:blipFill>
        <p:spPr>
          <a:xfrm>
            <a:off x="133200" y="619200"/>
            <a:ext cx="8877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4:55:08Z</dcterms:created>
  <dc:creator>SERGEY</dc:creator>
  <dc:description/>
  <dc:language>en-US</dc:language>
  <cp:lastModifiedBy>Преподаватель</cp:lastModifiedBy>
  <dcterms:modified xsi:type="dcterms:W3CDTF">2011-10-11T00:13:26Z</dcterms:modified>
  <cp:revision>7</cp:revision>
  <dc:subject/>
  <dc:title>Тестовые задания  для проведения теоретической части конкурса среди студентов 4-го курса по рабочей профессии «Слесарь-сантехник»       22.01.2015 Мастерские техникума—13-00</dc:title>
</cp:coreProperties>
</file>