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774-AAE6-4FD0-9AD1-66E9561B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5A6-3797-4A3B-9E85-C9713606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4FE-9452-4A7B-B250-7EC28022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AF4-7A6D-4087-B09B-98C70DE1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C7FB-BD1C-4AFE-B5CE-C959B21E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57F4-426E-4B7D-ACFF-EF7CFBF5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C32A-556D-4E41-B7E1-8149F880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45DE-1C84-449F-91AC-219753C1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A0CF-1ADD-4EE8-863A-B5DD640A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C2B5-CD4A-4434-9286-2B5EF7B8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9F1E-57F0-4B7A-BF9A-B4DDFCEA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9DA-B546-4A3B-8887-B1DE2E74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76F3-3764-41CE-9C1F-4F4C5828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E222-E8A4-40D0-BFA2-6B6AA34F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01D4-B090-4721-82B1-AD634995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6687-B6D2-4C6B-925B-AC41E4B6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350-7604-4F0C-884A-939AD31F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7A0-3D2B-459A-B02D-E9B7ECCA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87A-5865-4AEC-8254-AF9B00B3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20C-7C8D-4021-9C07-2C9FDE83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4BC-092A-486F-A915-E7D69230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67F-F739-4DF4-BEA6-DA31E51D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830-7817-4BE7-8856-02BFC563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30E-3348-40EB-9EA9-B0AB330F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4CA6-C6EC-46FA-834F-A3F183CBF9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034F-A1A6-4C46-B04E-F4F7B48EAF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719360"/>
            <a:ext cx="7786800" cy="13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УГОЛОК ЭКСПЕРИМЕН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4932360" y="486900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дготовлена воспитателем: Льясовой Е. 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а поведения в уголке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4" descr="5b628f566d6a6a5eaaf27c360f798f43"/>
          <p:cNvPicPr/>
          <p:nvPr/>
        </p:nvPicPr>
        <p:blipFill>
          <a:blip r:embed="rId1"/>
          <a:stretch/>
        </p:blipFill>
        <p:spPr>
          <a:xfrm>
            <a:off x="900000" y="1484280"/>
            <a:ext cx="6324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нент обору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боры-помощник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кроскоп, лупы, увеличительные стекл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сы, безмен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сочные, механические час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ас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гнит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тновский метр, линейки, треугольник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&amp;mcy;&amp;icy;&amp;kcy;&amp;rcy;&amp;ocy;&amp;scy;&amp;kcy;&amp;ocy;&amp;pcy; «&amp;Bcy;&amp;icy;&amp;ocy;&amp;mcy;-2»"/>
          <p:cNvPicPr/>
          <p:nvPr/>
        </p:nvPicPr>
        <p:blipFill>
          <a:blip r:embed="rId1"/>
          <a:stretch/>
        </p:blipFill>
        <p:spPr>
          <a:xfrm>
            <a:off x="7380360" y="2637000"/>
            <a:ext cx="1571400" cy="26413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42008_html_198403d6_enl"/>
          <p:cNvPicPr/>
          <p:nvPr/>
        </p:nvPicPr>
        <p:blipFill>
          <a:blip r:embed="rId2"/>
          <a:stretch/>
        </p:blipFill>
        <p:spPr>
          <a:xfrm>
            <a:off x="6948360" y="76500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123018b"/>
          <p:cNvPicPr/>
          <p:nvPr/>
        </p:nvPicPr>
        <p:blipFill>
          <a:blip r:embed="rId3"/>
          <a:stretch/>
        </p:blipFill>
        <p:spPr>
          <a:xfrm>
            <a:off x="3635280" y="5445000"/>
            <a:ext cx="1301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  в младшей группе должны быть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ниги познавательного характера для среднего возраст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ематические альбом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оллекции:  семена разных растений, шишки, камешки, коллекции "Подарки :" (зимы, весны, осени), "Ткани",  "Бумага", "Пуговицы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Мини-музей (тематика различна, например "камни", чудеса из стекла" и др.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есок, глин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набор игрушек резиновых и пластмассовых для игр в вод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материалы для игр с мыльной пено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расители - пищевые и непищевые (гуашь, акварельные краски и др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семена бобов, фасоли, горох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некоторые пищевые продукты (сахар, соль, крахмал, мук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</a:t>
            </a:r>
            <a:br>
              <a:rPr sz="3500"/>
            </a:br>
            <a:r>
              <a:rPr b="1" lang="ru-RU" sz="3500" spc="-1" strike="noStrike" u="sng">
                <a:solidFill>
                  <a:srgbClr val="330066"/>
                </a:solidFill>
                <a:uFillTx/>
                <a:latin typeface="Arial"/>
              </a:rPr>
              <a:t>Старший дошкольный возрас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  схемы, таблицы, модели с алгоритмами выполнения опы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ерии картин с изображением природных сообще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ниги познавательного характера, атлас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тематические альбо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оллек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мини-музей (тематика различна, например "Часы бывают разные:",  "Изделия из камня". 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рший возрас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ито, ворон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оловинки мыльниц, формы для льда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леенчатые фартуки, нарукавники, резиновые перчатки, тряпки ;     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мини-стенд "О чем хочу узнать завтра"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личные блокноты детей для фиксации результатов опы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арточки-подсказки (разрешающие - запрещающие знаки) "Что можно, что нельзя"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  персонажи, наделённые определенными чертами - ("Незнайка") от имени которого моделируется проблемная ситу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дение фиксации детского экспериментирова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нев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ртотека опы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чные блокноты де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-стенд- « О чем хочу узнать завт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рточки под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i?id=352858999-62-72&amp;n=21"/>
          <p:cNvPicPr/>
          <p:nvPr/>
        </p:nvPicPr>
        <p:blipFill>
          <a:blip r:embed="rId1"/>
          <a:stretch/>
        </p:blipFill>
        <p:spPr>
          <a:xfrm>
            <a:off x="4716360" y="4508640"/>
            <a:ext cx="338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75438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Основная задача ДОУ - поддержать и развить в ребенке интерес к исследованиям, открытиям, создать необходимые для этого условия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отное сочетание материалов и оборудования в уголке экспериментирования способствуют овладению детьми средствами познавательной деятельности, способам действий, обследованию объектов, расширению познавательного опыта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чи уголка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первичных естественнонаучных представлени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блюдательнос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ознательнос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тивност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слительных операций (анализ, сравнение, обобщение, классификация, наблюдение)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ирование умений комплексно обследовать предм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ребования при оборудовании уголка экспериментирования в групп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зопасность для жизни и здоровья дет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аточ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acer\Desktop\Camera\IMG_20141212_160837.jpg"/>
          <p:cNvPicPr/>
          <p:nvPr/>
        </p:nvPicPr>
        <p:blipFill>
          <a:blip r:embed="rId1"/>
          <a:stretch/>
        </p:blipFill>
        <p:spPr>
          <a:xfrm>
            <a:off x="4716360" y="3213000"/>
            <a:ext cx="389916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  должны быть выделены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место для постоянной выставки, где размещают музей, различные коллекции. Экспонаты, редкие предметы (раковины, камни, кристаллы, перья и т. п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место для прибо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сто для хранения материалов (природного, "бросового"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место для проведения опы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) место для неструктурированных материалов (песок, вода, опилки, стружка, пенопласт и др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Уголок экспериментирования делится на следующие компонент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дидактический 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оборудования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стимулирующ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5940360" y="2276640"/>
            <a:ext cx="30034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идактический компонен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навательные книг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тла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тические альбо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рии картин с изображением природных сообщ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хемы, таблицы, модели с алгоритмами выполнения опы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лгоритмы выполнения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         опытов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Для уголка экспериментирования"/>
          <p:cNvPicPr/>
          <p:nvPr/>
        </p:nvPicPr>
        <p:blipFill>
          <a:blip r:embed="rId1"/>
          <a:stretch/>
        </p:blipFill>
        <p:spPr>
          <a:xfrm>
            <a:off x="611280" y="1916280"/>
            <a:ext cx="41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277cf528e7cf32f034214ca790c186ff"/>
          <p:cNvPicPr/>
          <p:nvPr/>
        </p:nvPicPr>
        <p:blipFill>
          <a:blip r:embed="rId2"/>
          <a:stretch/>
        </p:blipFill>
        <p:spPr>
          <a:xfrm>
            <a:off x="4788000" y="2997360"/>
            <a:ext cx="4140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хема выполнения опы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5" descr="img3"/>
          <p:cNvPicPr/>
          <p:nvPr/>
        </p:nvPicPr>
        <p:blipFill>
          <a:blip r:embed="rId1"/>
          <a:stretch/>
        </p:blipFill>
        <p:spPr>
          <a:xfrm>
            <a:off x="1116000" y="1916280"/>
            <a:ext cx="6696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а поведения в уголке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Picture 4" descr="9b8461fc2550d00c1af1fede6f5be0d9"/>
          <p:cNvPicPr/>
          <p:nvPr/>
        </p:nvPicPr>
        <p:blipFill>
          <a:blip r:embed="rId1"/>
          <a:stretch/>
        </p:blipFill>
        <p:spPr>
          <a:xfrm>
            <a:off x="826920" y="148428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07:31Z</dcterms:created>
  <dc:creator>OEM</dc:creator>
  <dc:description/>
  <dc:language>en-US</dc:language>
  <cp:lastModifiedBy>Админ</cp:lastModifiedBy>
  <dcterms:modified xsi:type="dcterms:W3CDTF">2019-10-14T18:20:28Z</dcterms:modified>
  <cp:revision>16</cp:revision>
  <dc:subject/>
  <dc:title>Уголок экспериментирования в детском саду</dc:title>
</cp:coreProperties>
</file>