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C79-DF5C-47B1-A68F-28344104BB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B9B-0225-444A-AB5F-94F4556F242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2B9-58A6-48D2-928D-838638BD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3C9-A1A6-4810-B7E9-17667232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A40-1DE1-4FF1-82B8-4CFF7EE6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5D-1420-4A25-B7B6-45C3356D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E1AA-3B91-4781-A0DE-58E96FC6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782-E001-4B48-9BA3-A4060B9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8B24-1F3A-41D3-A680-7CA6AB3E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58C5-52F4-4F32-890E-57A152A1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30C-2760-4DE3-B21E-E81F1088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46A5-D40C-4512-9EA1-C9892FF3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D84-8A8B-4E4A-9A8C-E469E4AC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1E8-8111-4D61-831B-60FAE7FB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B475-55F5-4B83-A82E-4508316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A86-CE5D-4023-A864-CFB5CD7E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1CA-4AC1-42FC-B8ED-758D293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59ED-2B3A-4EB8-9759-C8ECEC9B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F654-E781-43A1-A58C-547BC958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585-68EE-4C0F-AC36-20EF324B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4DC-3793-4EDA-AE49-6E1B46A4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71C-2AF3-4190-97AC-D0AAD81F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A73-C299-4DBF-80DC-A2402D2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119-C092-4B92-9BEC-8276994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84D-B368-4AAE-8CD2-219416E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82A-07A0-47D4-90DE-F5BE53A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01A7-020F-4E22-8822-DBE9928911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E275-5AD0-4968-8D33-3FBE884C7C3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714920" y="5300280"/>
            <a:ext cx="309888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: Курчавая Г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203976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а дорожного движени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знаки дорожного движени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Знаки бываю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71640" y="19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1.Предупрежд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2.Запрещ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3.Предписыв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78008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Спасибо за урок, </a:t>
            </a:r>
            <a:br>
              <a:rPr sz="4800"/>
            </a:b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                  молодцы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96720" y="51573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4" descr="karls"/>
          <p:cNvPicPr/>
          <p:nvPr/>
        </p:nvPicPr>
        <p:blipFill>
          <a:blip r:embed="rId1"/>
          <a:stretch/>
        </p:blipFill>
        <p:spPr>
          <a:xfrm>
            <a:off x="5003640" y="4332240"/>
            <a:ext cx="2160720" cy="189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4835520" cy="5718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400120" cy="2838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3276720" y="1916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ойт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258720" y="26766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“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ниман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331800" y="3757680"/>
            <a:ext cx="44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вижение разрешаетс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углый знак, а в нем окошко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спешите сгоряча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подумайте немножко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здесь, свалка кирпича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63520" y="5373720"/>
            <a:ext cx="52452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5651640" y="461808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980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Я в кругу с обводом красны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Это значит - тут опасн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ут, поймите, запрещень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ешеходного движенья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В голубом иду я круг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И понятно всей округ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Если вдуматься немножко -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148360" y="44974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Шли из школы мы домой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Видим - знак на мостовой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руг, внутри велосипед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Ничего другого нет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Я хочу спросить про зна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Нарисован он вот так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В треугольнике ребя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о всех ног бегут куда-т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435640" y="4807080"/>
            <a:ext cx="1584360" cy="137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12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71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83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25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31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0:08:22Z</dcterms:created>
  <dc:creator>1</dc:creator>
  <dc:description/>
  <dc:language>en-US</dc:language>
  <cp:lastModifiedBy>Admin</cp:lastModifiedBy>
  <dcterms:modified xsi:type="dcterms:W3CDTF">2019-10-13T16:52:12Z</dcterms:modified>
  <cp:revision>4</cp:revision>
  <dc:subject/>
  <dc:title>Слайд 1</dc:title>
</cp:coreProperties>
</file>