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419-CED3-4949-8012-59F3D421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6E5B-9220-40E7-A768-39BB3F73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E9CB-AC40-4A69-B052-C2D3E5DC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8FAC-7AE7-4A9F-8C4A-78A8B711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43BB-B117-4D22-ABA0-B26B684C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DD7F-FA47-4C61-901F-8C71B3AA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CEBD-D1B3-42B3-B03A-E2A321D7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DEF3-629A-45B3-8A7B-DC1AB519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C619-9566-4DE4-9121-4B6C31EB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E1FD-13E6-455D-8419-54FDE659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A651-AB4F-4956-82D3-FFB5D345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9D4B-F80B-433C-8105-D3E4C461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32F8-8BBC-4D97-B655-26867DA9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459D-2FA0-4F18-B064-6695F0BC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7B75-B1EC-4D26-AD57-69A513C9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0E78-AF02-4A6D-A683-31D56FDE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DB7A-2095-46EA-87F0-ED0103A4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91F0-3F3B-4374-8270-92DEB429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9F86-C95F-422F-BCC1-F3D127E3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FEE8-DF83-4285-B9EC-1DA22E19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DEB0-2AA0-4C8C-8A29-3C86DEF9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B0B1-E763-4814-AA83-AF4DC456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9D17-509F-4C6F-95AD-316D5421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25F-4580-4BB1-8E3C-AE33168A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33cc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F32C-FA36-4817-ADE9-EB68121BC65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33cc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12DB-18E0-463A-B769-E0E3F8F1989F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ЭТИКЕТ ДЛЯ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ДОШКОЛЯТ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4724280"/>
            <a:ext cx="73454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6b00"/>
                </a:solidFill>
                <a:latin typeface="Arial"/>
              </a:rPr>
              <a:t>ПРОЕК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1042920" y="1916280"/>
            <a:ext cx="7058160" cy="12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44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0070c0"/>
                </a:solidFill>
                <a:latin typeface="Arial Black"/>
              </a:rPr>
              <a:t>План реализации проекта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7720" y="1268280"/>
            <a:ext cx="8007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вый этап — целеполага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торой этап — разработка проекта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. Доведение до понимания участников проекта важности проблемы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. Подбор методической, научно-популярной и художественной литературы, иллюстративного матери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ретий этап — реализация проекта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. Диагностика уровня сформированности навыков поведения, взаимоотношения и эстетических представлений у детей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. Непосредственно образовательная деятельность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971640" y="956880"/>
            <a:ext cx="734544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Решение проблемных ситуаций по темам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Чтение художественной литературы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ссматривание картинок и беседы по ним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. Разучивание пословиц, поговорок на тему «Вежливость, доброта»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.Театрализованные игры-драматизаци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12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User\Desktop\Новая папка (2)\DSCN2131.JPG"/>
          <p:cNvPicPr/>
          <p:nvPr/>
        </p:nvPicPr>
        <p:blipFill>
          <a:blip r:embed="rId1"/>
          <a:stretch/>
        </p:blipFill>
        <p:spPr>
          <a:xfrm>
            <a:off x="1109520" y="831960"/>
            <a:ext cx="6924960" cy="5194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3708360" y="2565360"/>
            <a:ext cx="4726080" cy="3544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Arial Black"/>
              </a:rPr>
              <a:t>Формы работы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7720" y="1052640"/>
            <a:ext cx="8007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тение и обсуждение рассказа Осеевой «Просто старуш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4952880" cy="3649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 Black"/>
              </a:rPr>
              <a:t>Художественное творчество (раскраски) «Этикет».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9" descr="C:\Users\User\Desktop\ЭТИКЕТ\раскраски этикет\8-0.jpg"/>
          <p:cNvPicPr/>
          <p:nvPr/>
        </p:nvPicPr>
        <p:blipFill>
          <a:blip r:embed="rId1"/>
          <a:stretch/>
        </p:blipFill>
        <p:spPr>
          <a:xfrm rot="20991600">
            <a:off x="387000" y="1633680"/>
            <a:ext cx="3560760" cy="2679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C:\Users\User\Desktop\ЭТИКЕТ\раскраски этикет\Malchik-za-stolom_12505.jpg"/>
          <p:cNvPicPr/>
          <p:nvPr/>
        </p:nvPicPr>
        <p:blipFill>
          <a:blip r:embed="rId2"/>
          <a:stretch/>
        </p:blipFill>
        <p:spPr>
          <a:xfrm rot="1387200">
            <a:off x="5370120" y="1521000"/>
            <a:ext cx="2112840" cy="277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C:\Users\User\Desktop\ЭТИКЕТ\раскраски этикет\1387785_html_73353bc4.jpg"/>
          <p:cNvPicPr/>
          <p:nvPr/>
        </p:nvPicPr>
        <p:blipFill>
          <a:blip r:embed="rId3"/>
          <a:stretch/>
        </p:blipFill>
        <p:spPr>
          <a:xfrm>
            <a:off x="6043680" y="3429000"/>
            <a:ext cx="2830320" cy="3044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C:\Users\User\Desktop\ЭТИКЕТ\раскраски этикет\i_011.jpg"/>
          <p:cNvPicPr/>
          <p:nvPr/>
        </p:nvPicPr>
        <p:blipFill>
          <a:blip r:embed="rId4"/>
          <a:stretch/>
        </p:blipFill>
        <p:spPr>
          <a:xfrm rot="640200">
            <a:off x="2852280" y="3762360"/>
            <a:ext cx="3713400" cy="2776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C:\Users\User\Desktop\ЭТИКЕТ\раскраски этикет\hello_html_m4a7b8516.png"/>
          <p:cNvPicPr/>
          <p:nvPr/>
        </p:nvPicPr>
        <p:blipFill>
          <a:blip r:embed="rId5"/>
          <a:stretch/>
        </p:blipFill>
        <p:spPr>
          <a:xfrm>
            <a:off x="324000" y="4005360"/>
            <a:ext cx="3008160" cy="2516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СЮЖЕТНО_РОЛЕВАЯ ИГРА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«ЕДЕМ В АВТОБУСЕ»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2" descr="C:\Users\PC\Desktop\Новая папка\проект\Photo1353.jpg"/>
          <p:cNvPicPr/>
          <p:nvPr/>
        </p:nvPicPr>
        <p:blipFill>
          <a:blip r:embed="rId1"/>
          <a:stretch/>
        </p:blipFill>
        <p:spPr>
          <a:xfrm>
            <a:off x="179280" y="1773360"/>
            <a:ext cx="4537080" cy="3402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PC\Desktop\Новая папка\проект\Photo1354.jpg"/>
          <p:cNvPicPr/>
          <p:nvPr/>
        </p:nvPicPr>
        <p:blipFill>
          <a:blip r:embed="rId2"/>
          <a:stretch/>
        </p:blipFill>
        <p:spPr>
          <a:xfrm>
            <a:off x="464328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 Black"/>
              </a:rPr>
              <a:t>Сюжетно-ролевая игра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 Black"/>
              </a:rPr>
              <a:t>«Едим именинный торт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3" descr="C:\Users\User\Desktop\Новая папка (2)\DSCN2143.JPG"/>
          <p:cNvPicPr/>
          <p:nvPr/>
        </p:nvPicPr>
        <p:blipFill>
          <a:blip r:embed="rId1"/>
          <a:stretch/>
        </p:blipFill>
        <p:spPr>
          <a:xfrm rot="20555400">
            <a:off x="618840" y="2172960"/>
            <a:ext cx="4110120" cy="3083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Users\User\Desktop\Новая папка (2)\DSCN2144.JPG"/>
          <p:cNvPicPr/>
          <p:nvPr/>
        </p:nvPicPr>
        <p:blipFill>
          <a:blip r:embed="rId2"/>
          <a:stretch/>
        </p:blipFill>
        <p:spPr>
          <a:xfrm>
            <a:off x="5148360" y="1682640"/>
            <a:ext cx="3678120" cy="2759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Users\User\Desktop\Новая папка (2)\DSCN2140.JPG"/>
          <p:cNvPicPr/>
          <p:nvPr/>
        </p:nvPicPr>
        <p:blipFill>
          <a:blip r:embed="rId3"/>
          <a:stretch/>
        </p:blipFill>
        <p:spPr>
          <a:xfrm rot="1206000">
            <a:off x="6019920" y="3935520"/>
            <a:ext cx="2214360" cy="2952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Users\User\Desktop\Новая папка (2)\DSCN2138.JPG"/>
          <p:cNvPicPr/>
          <p:nvPr/>
        </p:nvPicPr>
        <p:blipFill>
          <a:blip r:embed="rId4"/>
          <a:stretch/>
        </p:blipFill>
        <p:spPr>
          <a:xfrm rot="20077800">
            <a:off x="2771640" y="3860280"/>
            <a:ext cx="2087640" cy="27846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 Black"/>
              </a:rPr>
              <a:t>«ГОВОРИМ ПО ТЕЛЕФОНУ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0" name="Picture 3" descr="C:\Users\User\Desktop\Новая папка (3)\DSCN2164.JPG"/>
          <p:cNvPicPr/>
          <p:nvPr/>
        </p:nvPicPr>
        <p:blipFill>
          <a:blip r:embed="rId1"/>
          <a:stretch/>
        </p:blipFill>
        <p:spPr>
          <a:xfrm rot="20037000">
            <a:off x="804960" y="2252160"/>
            <a:ext cx="4233600" cy="3175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C:\Users\User\Desktop\Новая папка (3)\DSCN2165.JPG"/>
          <p:cNvPicPr/>
          <p:nvPr/>
        </p:nvPicPr>
        <p:blipFill>
          <a:blip r:embed="rId2"/>
          <a:stretch/>
        </p:blipFill>
        <p:spPr>
          <a:xfrm rot="939600">
            <a:off x="4200480" y="3003480"/>
            <a:ext cx="4211640" cy="3159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3851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 Black"/>
              </a:rPr>
              <a:t>«В трамвае»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 rot="1304400">
            <a:off x="399600" y="1274400"/>
            <a:ext cx="5032440" cy="3774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4967280" y="119700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3"/>
          <a:stretch/>
        </p:blipFill>
        <p:spPr>
          <a:xfrm rot="688200">
            <a:off x="2751120" y="3381480"/>
            <a:ext cx="4127400" cy="3097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24444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 Black"/>
              </a:rPr>
              <a:t>Актуальность темы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395280" y="981000"/>
            <a:ext cx="820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ждый родитель хочет видеть своего ребёнка успешным, уверенным в себе человеком,  адаптированным в обществе, любимым близкими и друзьями, понимаемым  коллегами по работе. Вот поэтому, взрослым необходимо терпеливо обучать его правилам культурного поведения, объяснять необходимость их соблюдения. В детском саду соблюдение правил необходимо для нормального существование детского коллектива, и воспитатель формирует представления о нормах и правилах поведения, помогая ребёнку ориентироваться в общественной жизни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 Black"/>
              </a:rPr>
              <a:t>«Экскурсия в магазин продуктов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 rot="20428800">
            <a:off x="304920" y="2800440"/>
            <a:ext cx="4530600" cy="3398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 rot="1096200">
            <a:off x="4187520" y="2355840"/>
            <a:ext cx="4754520" cy="3567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 rot="21096000">
            <a:off x="684360" y="691920"/>
            <a:ext cx="4895640" cy="3673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 rot="861000">
            <a:off x="4140360" y="3157200"/>
            <a:ext cx="4644720" cy="3484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44440"/>
            <a:ext cx="85183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Arial Black"/>
              </a:rPr>
              <a:t>Сюжетно-ролевая игра</a:t>
            </a:r>
            <a:br>
              <a:rPr sz="4400"/>
            </a:br>
            <a:r>
              <a:rPr b="1" lang="ru-RU" sz="4400" spc="-1" strike="noStrike">
                <a:solidFill>
                  <a:srgbClr val="00b0f0"/>
                </a:solidFill>
                <a:latin typeface="Arial Black"/>
              </a:rPr>
              <a:t>«В магазине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 rot="678600">
            <a:off x="620280" y="1392120"/>
            <a:ext cx="4124520" cy="3094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 rot="20574000">
            <a:off x="4761000" y="1395360"/>
            <a:ext cx="3641760" cy="2732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3"/>
          <a:stretch/>
        </p:blipFill>
        <p:spPr>
          <a:xfrm rot="20190600">
            <a:off x="813960" y="4227480"/>
            <a:ext cx="3087720" cy="2316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4"/>
          <a:stretch/>
        </p:blipFill>
        <p:spPr>
          <a:xfrm>
            <a:off x="5364000" y="3970440"/>
            <a:ext cx="3576960" cy="2682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Arial Black"/>
              </a:rPr>
              <a:t>«СТОЛОВЫЙ ЭТИКЕТ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 rot="21261000">
            <a:off x="250920" y="980640"/>
            <a:ext cx="4873680" cy="3656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4859280" y="836640"/>
            <a:ext cx="4105440" cy="307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 rot="20760600">
            <a:off x="1474560" y="3917520"/>
            <a:ext cx="3794040" cy="2844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4"/>
          <a:stretch/>
        </p:blipFill>
        <p:spPr>
          <a:xfrm rot="773400">
            <a:off x="5148000" y="3860640"/>
            <a:ext cx="3720960" cy="2791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 Black"/>
              </a:rPr>
              <a:t>СПАСИБО ЗА ВНИМ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1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324000" y="333360"/>
            <a:ext cx="83516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новом Федеральном законе «Об образовании в Российской Федерации» говорится о том, что дошкольное образование должно быть направлено на формирование общей культуры, развитие интеллектуальных, нравственных, эстетических качеств. Поэтому  воспитателями нашей подготовительной группы было принято решение  разработать и внедрить  проект «Этикет для дошколят»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0920" y="333000"/>
            <a:ext cx="859464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ид проекта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рупповой, творческий, долгосрочный( 1год)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Участники проект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: воспитатели, учитель-логопед, дети 6 - 7 лет, родители воспитанников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Образовательная область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: социально-коммуникативное развит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Занятия проводятся из расчет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1 занятие в недел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ерио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 01.09.15 по 31.05.16 Всего 36 зан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Длительность одного занятия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– 25 – 30 мин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Критерий эффективности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– реализация поставленных за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Форма занятий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: совместная игровая-познавательная деятельность взрослого и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 Black"/>
              </a:rPr>
              <a:t>Цели и задачи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640" y="764640"/>
            <a:ext cx="83059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ировать навыки культурного повед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ивлекать родителей к культурному воспитанию детей в семье;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— изучать понятия «этикет» и «культурный человек»;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— формировать культурное поведение в разнообразных жизненных ситуациях;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— активизировать творческие способности, воображение, любознательность, мышление, коммуникативные навыки, познавательный интерес к этическим правилам и нормам;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— закреплять знания детей о речевом этикете в определенных бытовых ситуациях;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— формировать умения самостоятельно анализировать и систематизировать полученные знания, расширять словарный запас, развивать связную речь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оспитывать у детей нравственные качества, необходимые в обществе;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— проводить работу с родителями по вопросам нравственного воспитания своей семьи;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— создавать развивающую среду.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 Black"/>
              </a:rPr>
              <a:t>Методы, используемые в реализации проекта: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484280"/>
            <a:ext cx="8007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- Диагностика уровня сформированности навыков поведения, взаимоотношения и эстетических представлений у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- Исследовательские: наблюдения в быт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-  Наглядные: иллюстрации, фото, личный пример педаго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-  Презентации, просмотр мультфильмов, чтение художественной литерату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- Непосредственно образовательная  деятельность (интеграция образовательных областе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 Black"/>
              </a:rPr>
              <a:t>Формы организации по реализации проекта:</a:t>
            </a:r>
            <a:br>
              <a:rPr sz="40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7720" y="1341360"/>
            <a:ext cx="8007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 Дидактические иг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 Сюжетно-ролевые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 Изобразительная 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 Развивающая ср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 Работа с родител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 Совместное чаепитие с родителями и деть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 Рассматривание картинок и беседы по ним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 Разучивание пословиц, поговорок на тему «Вежливость, доброт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 Театрализованные игры-драмат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0070c0"/>
                </a:solidFill>
                <a:latin typeface="Arial Black"/>
              </a:rPr>
              <a:t>Ресурсное обеспечение проекта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7720" y="1557360"/>
            <a:ext cx="80074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• 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етодический инструментар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• 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аглядный материа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астольно-печатные иг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трибуты к сюжетно-ролевым игра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етская художественная литератур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удио и видео запис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69932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 Black"/>
              </a:rPr>
              <a:t>Основные направления проекта:</a:t>
            </a:r>
            <a:br>
              <a:rPr sz="54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00000" y="1699920"/>
            <a:ext cx="7920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Познавательное развит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Речевое развитие развит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Художественно-эстетическо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Физическое развит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Социально-коммуникативное развит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04:49:21Z</dcterms:created>
  <dc:creator>pptforschool.ru</dc:creator>
  <dc:description/>
  <dc:language>en-US</dc:language>
  <cp:lastModifiedBy>User</cp:lastModifiedBy>
  <dcterms:modified xsi:type="dcterms:W3CDTF">2019-10-15T15:29:02Z</dcterms:modified>
  <cp:revision>72</cp:revision>
  <dc:subject/>
  <dc:title>Slajd 1</dc:title>
</cp:coreProperties>
</file>