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FDF-33ED-4905-B9A3-0DD0235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F46-3030-4B40-A1FA-9755205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0A5-9CD2-4EB9-A0A4-762AF1F8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212-5EE2-4E30-9322-7B518B85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4B5-B022-429B-9F17-FAFC4495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C704-57DF-45C6-983B-929924C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3CB3-F03E-493B-8776-E56449B6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0789-B856-4448-90DD-C1DE40A8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31F3-2E5D-4549-B808-11A4AFDF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2F1-5370-43BE-A357-16BABD2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669F-53CF-4D7C-A3A6-9F4D0163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A55-A9CD-41F8-A508-796A794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25A5-9C66-421E-BD21-E13564A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7FD-4C54-40BE-9D1B-CC288A2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BA39-19A9-4B90-AFA1-F645E63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D2C1-E1F2-44A9-9BA0-36CA76A2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345-160B-4F44-9BB7-2C3C388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957-BAB2-4D10-B2C5-19604C6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5FA-96D2-4473-A329-26E62C6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8C0-99D3-4D3B-AE5E-2FFE0A68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2DA-1474-4226-9E83-C735161D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9FE-8F94-4440-ABA9-768FE0C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820-738C-4C6B-908B-B623735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208-F7FD-4E44-B1F9-F563E56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942B-AB0B-42AA-BFE4-7D3304B1F1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B5A-B4CE-4ABD-B58B-9309804071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on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345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рмула корней квадратного уравнен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ли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i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8259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авнение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 + с = 0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 имее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тельных корн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шение квадратного уравн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5520" y="1214280"/>
            <a:ext cx="792468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+ с =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3429000" y="228600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=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– 4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14"/>
          <p:cNvCxnSpPr/>
          <p:nvPr/>
        </p:nvCxnSpPr>
        <p:spPr>
          <a:xfrm flipH="1">
            <a:off x="4570200" y="1785600"/>
            <a:ext cx="360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Прямая соединительная линия 16"/>
          <p:cNvSpPr/>
          <p:nvPr/>
        </p:nvSpPr>
        <p:spPr>
          <a:xfrm>
            <a:off x="1357200" y="2857680"/>
            <a:ext cx="614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8"/>
          <p:cNvCxnSpPr/>
          <p:nvPr/>
        </p:nvCxnSpPr>
        <p:spPr>
          <a:xfrm flipH="1">
            <a:off x="1356480" y="2857320"/>
            <a:ext cx="252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20"/>
          <p:cNvCxnSpPr/>
          <p:nvPr/>
        </p:nvCxnSpPr>
        <p:spPr>
          <a:xfrm flipH="1">
            <a:off x="7500600" y="2857320"/>
            <a:ext cx="21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22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Прямоугольник 23"/>
          <p:cNvSpPr/>
          <p:nvPr/>
        </p:nvSpPr>
        <p:spPr>
          <a:xfrm>
            <a:off x="3890880" y="335772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4"/>
          <p:cNvSpPr/>
          <p:nvPr/>
        </p:nvSpPr>
        <p:spPr>
          <a:xfrm>
            <a:off x="6977160" y="3357720"/>
            <a:ext cx="11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5"/>
          <p:cNvSpPr/>
          <p:nvPr/>
        </p:nvSpPr>
        <p:spPr>
          <a:xfrm>
            <a:off x="833760" y="3357720"/>
            <a:ext cx="11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33"/>
          <p:cNvCxnSpPr/>
          <p:nvPr/>
        </p:nvCxnSpPr>
        <p:spPr>
          <a:xfrm flipH="1">
            <a:off x="1356480" y="4000680"/>
            <a:ext cx="2520" cy="429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35"/>
          <p:cNvCxnSpPr/>
          <p:nvPr/>
        </p:nvCxnSpPr>
        <p:spPr>
          <a:xfrm flipH="1">
            <a:off x="4428360" y="4000680"/>
            <a:ext cx="2520" cy="429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37"/>
          <p:cNvCxnSpPr/>
          <p:nvPr/>
        </p:nvCxnSpPr>
        <p:spPr>
          <a:xfrm flipH="1">
            <a:off x="7500600" y="4000320"/>
            <a:ext cx="21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38"/>
          <p:cNvSpPr/>
          <p:nvPr/>
        </p:nvSpPr>
        <p:spPr>
          <a:xfrm>
            <a:off x="6215040" y="45720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т действительных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28760" y="4572000"/>
                <a:ext cx="2143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1,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1"/>
              <p:cNvSpPr txBox="1"/>
              <p:nvPr/>
            </p:nvSpPr>
            <p:spPr>
              <a:xfrm>
                <a:off x="3429000" y="4643280"/>
                <a:ext cx="2286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3" name="Прямая со стрелкой 19"/>
          <p:cNvCxnSpPr/>
          <p:nvPr/>
        </p:nvCxnSpPr>
        <p:spPr>
          <a:xfrm flipH="1">
            <a:off x="4571280" y="1785600"/>
            <a:ext cx="39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468360" y="2276640"/>
            <a:ext cx="84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ем дискриминант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по формуле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4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м количество корней уравнения в зависимости от значения дискримина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ти корни (если они есть) по форм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сать отв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50920" y="1413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квадратного урав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7200" y="336600"/>
            <a:ext cx="829008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- 5x + 2 = 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560" y="1680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 = 2, b = -5, c = 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 = b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 4ac = (-5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 4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 = 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 &gt; 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равнение имеет два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ем их по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332240" y="3230640"/>
                <a:ext cx="27259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914400" y="4267080"/>
                <a:ext cx="68356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   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6"/>
          <p:cNvSpPr/>
          <p:nvPr/>
        </p:nvSpPr>
        <p:spPr>
          <a:xfrm>
            <a:off x="1110240" y="5403960"/>
            <a:ext cx="71632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= 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= 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ни заданного уравн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ь уравнение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- 3x + 5 =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27810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 = 2, b = -3, c = 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йд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криминан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 = b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 4ac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-3)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4·2·5 = -31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 &lt; 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уравнени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ме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ствительных корне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x +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=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 =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b = 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c =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 = b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 4ac =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-2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= 0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468360" y="3124080"/>
                <a:ext cx="6905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5"/>
          <p:cNvSpPr/>
          <p:nvPr/>
        </p:nvSpPr>
        <p:spPr>
          <a:xfrm>
            <a:off x="762120" y="4267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и один кор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6"/>
          <p:cNvSpPr/>
          <p:nvPr/>
        </p:nvSpPr>
        <p:spPr>
          <a:xfrm>
            <a:off x="971640" y="40464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67ff"/>
                </a:solidFill>
                <a:latin typeface="Tahoma"/>
              </a:rPr>
              <a:t>Найди «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2000160" y="1714680"/>
                <a:ext cx="5268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2143080" y="3000240"/>
                <a:ext cx="3549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7"/>
              <p:cNvSpPr txBox="1"/>
              <p:nvPr/>
            </p:nvSpPr>
            <p:spPr>
              <a:xfrm>
                <a:off x="1785960" y="4000680"/>
                <a:ext cx="514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6"/>
          <p:cNvSpPr/>
          <p:nvPr/>
        </p:nvSpPr>
        <p:spPr>
          <a:xfrm>
            <a:off x="1000080" y="42876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67ff"/>
                </a:solidFill>
                <a:latin typeface="Tahoma"/>
              </a:rPr>
              <a:t>Найди «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071800" y="1643040"/>
                <a:ext cx="35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2143080" y="3200400"/>
                <a:ext cx="36432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6"/>
          <p:cNvSpPr/>
          <p:nvPr/>
        </p:nvSpPr>
        <p:spPr>
          <a:xfrm>
            <a:off x="1000080" y="42876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67ff"/>
                </a:solidFill>
                <a:latin typeface="Tahoma"/>
              </a:rPr>
              <a:t>Найди «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222640" y="1714680"/>
                <a:ext cx="4824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68480" y="2857680"/>
                <a:ext cx="5332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2301840" y="4000680"/>
                <a:ext cx="4951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6"/>
          <p:cNvSpPr/>
          <p:nvPr/>
        </p:nvSpPr>
        <p:spPr>
          <a:xfrm>
            <a:off x="1000080" y="42876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67ff"/>
                </a:solidFill>
                <a:latin typeface="Tahoma"/>
              </a:rPr>
              <a:t>Найди «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762280" y="1673280"/>
                <a:ext cx="388152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2000160" y="2643120"/>
                <a:ext cx="5586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2143080" y="3714840"/>
                <a:ext cx="5268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6"/>
          <p:cNvSpPr/>
          <p:nvPr/>
        </p:nvSpPr>
        <p:spPr>
          <a:xfrm>
            <a:off x="900000" y="47628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67ff"/>
                </a:solidFill>
                <a:latin typeface="Tahoma"/>
              </a:rPr>
              <a:t>Найди «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905120" y="1714680"/>
                <a:ext cx="545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000160" y="2643120"/>
                <a:ext cx="5776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1928880" y="3714840"/>
                <a:ext cx="380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искриминант квадратного уравн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скриминантом квадратного уравнени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х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 + с = 0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зывается выражение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– 4ac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 обозначают буквой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.е.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= b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– 4ac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три случ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873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873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873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i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случае урав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 + с = 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ва действительных корня: </a:t>
            </a:r>
            <a:br>
              <a:rPr sz="32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116000" y="3630600"/>
                <a:ext cx="6548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и   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этом случае урав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 + с =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меет один действительный корен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971640" y="3860640"/>
                <a:ext cx="6892920" cy="15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7:33:10Z</dcterms:created>
  <dc:creator>ZHuravlevaLB</dc:creator>
  <dc:description/>
  <dc:language>en-US</dc:language>
  <cp:lastModifiedBy>Наташа</cp:lastModifiedBy>
  <dcterms:modified xsi:type="dcterms:W3CDTF">2019-02-17T09:03:29Z</dcterms:modified>
  <cp:revision>47</cp:revision>
  <dc:subject/>
  <dc:title>Презентация PowerPoint</dc:title>
</cp:coreProperties>
</file>