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7195-16FD-4949-AEFF-27C8964B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A05-E7F2-4FA1-9080-C632F78C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13DC5-00AD-4896-AE07-876987D4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5A824-49AD-477D-98B0-D7FA13C1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48A40-CEEA-4A4A-80F2-94F8C937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5521F-2411-4C6E-998A-DCA0CF93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BADCE-F2BA-471B-9B64-FAC6890D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49A2A-32D9-42F9-8768-05D14F10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C1D7A-F0AB-497A-B1E9-9D37700A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5779E-AB31-4710-A5FE-A443ED76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9DFBD-476C-4936-8FD2-599ABA8D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D8447-A947-4DE2-8F25-A4BFA2E0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921-82B3-4654-AB41-C990C547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988E1-3155-4F3D-8CC5-9F82F0DA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29A2A-B245-437F-A7A4-4D26EA26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AD36C-2616-4AB9-9A6F-7F1C15E8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EF132-F864-41E8-9EF3-DA477CBE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4BDC2-CB7B-43DF-93C8-8F99A84C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15280-5CF7-4C24-86AE-C26AA539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135FD-77D8-490F-A6FA-B2C3EDAF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E9CF9-5D9B-4116-A21B-C536445F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EA6E5-9B40-4712-BF24-3C560494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E0137-90CD-47E8-99FA-2B959762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4E5D-1DF6-483D-91E2-091851C0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84898-A0B7-40B0-98DF-547EAA62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9060A-9695-4ACD-911F-AF7452C5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3F242-7AFA-4B02-AAB6-BD5B9239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B335F-8472-4C2F-8A56-7E346986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460C1-4B9A-4A49-B535-8925E021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A59FC-2922-4E55-98EE-00B64096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D3630-AC8E-4EC8-8AAF-4C70023C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8C688-D35C-4A03-B81B-5FB32DB4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7BACE-66FD-4A71-A357-CBFA4F3E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9EEB1-C8F2-4352-8632-0830F1A2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46E1-8D16-4D39-97B9-1659BD5D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943C9-9A76-45A7-B835-4EDC048D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BE495-FD36-4E1E-B859-5A3E5D64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142CC-F2F3-4458-A320-51527CDF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1D21B-0018-4B5F-AEB8-B40D0961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BFE61-3547-48FA-8822-B1DF8060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27C5E-E676-4AEF-96A0-1A1D4D01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5A20B-2FE5-407F-85A6-B8AF4CF2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520BF-3357-4F19-B1EB-1F90F24B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21E81-44D4-4738-AB93-930FFEAB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D4C79-F373-4AB4-9683-7B871FC7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B671-5359-4420-AA1E-F7B9C80D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AA75C-230C-489C-82BB-B89040E9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4C144-0518-4B10-9A2C-81462B79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939AA-9B31-42D1-A456-A165EA4F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EE183-C5F3-4DD1-B61C-AA5F5C28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3DD30-9120-44F7-91C1-743FB094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0B7631-7315-4180-93C7-68DD4889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9A62C3-8C7E-441E-84CD-2C7ADEA0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CD605C-1ACC-41F4-AC08-A724C562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32D3F3-7302-49C5-B4D3-B2DE4C7F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A4C85E-EE1D-4706-AC41-C1D8F11E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00EC-694A-4C89-A896-38DCDC3C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E5E6DE-7A12-49B0-AEB0-AD767446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98E741-C875-48F4-B69D-7F5F91D9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C089D5-6EC0-4CD3-9AFA-92B81442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7DCC78-9606-47F3-93BF-90C7C93E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7872DA-0CFA-4FAC-9610-027FE185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5A19C-6CD8-4ADE-BA7A-FCE955E7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7EB9C-1EB4-4CBA-8562-D3A87961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15231C-164C-490F-99DF-B389BE1D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BD2029-8532-41BA-B108-DCEA8718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6A43DE-9E3C-4154-9A7F-98533467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4D28-DF4F-42BC-83D1-7F73A61E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BDB9D5-DFF1-474A-8938-F5B219FF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CCF8E1-947A-41C4-9759-83386E9F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437275-A5C6-4CAE-A9BE-7B6887A8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26834B-4289-4D24-A28D-416FE434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3C7AA1-3384-4F4C-A9F8-D2B2C41C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853ED6-BD05-4B45-9A19-413098B8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30756D-59C7-4C71-8AFA-FB404C86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CFF1FC-243F-4CB0-B5F8-C30EE1D6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E2CB26-B3C7-43C1-8DA1-B8FF75B3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327A7F-ADAF-417F-AD73-8C7C3DE2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F9ED-2D96-49EF-8D18-A9014500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846EA1-1A19-4A27-B180-C7E9899C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D2E237-BCC9-4777-BAD9-D3D24B89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EB7BB2-FCB7-4A65-8D38-5D3CBB88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0A1FC4-9E96-4350-84C0-76BD7F1B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928CC3-79FF-47E1-863C-BC38374E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CE5F4A-73B8-41C8-9C09-EEBEB82E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6F3D68-D546-4BFB-A929-576ED553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3758B2-DBB3-4949-89EE-D58483B9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B4D739-38AC-461C-A1BB-6924FEB6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6D48C5-C3F3-48AA-9F33-3DC98F86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0909-6868-47BC-9571-CB567041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09DDCD-E710-41EC-9613-CFF03D40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7D0F73-9111-400B-9472-9CB5CCF4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BD2C00-DCB9-47B4-9D66-9E0E2420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B4E9BE-F45B-48EB-93D3-A8DD6092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922E08-5171-4EAE-979A-3649D572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9185F8-F79D-4FFC-B3E3-092B6A89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9241A6-FEFD-47D5-9318-2140D2AE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C12D95-A8B4-4EDA-9C44-53AC0325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EE5770-C186-47DB-98BB-41F5808C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DE7E4A-E7D8-49AF-AD8F-E75C68A5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1925-15D1-4E3F-90FB-82F27B3A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C0F271-F98A-48A8-9F1B-9C525B33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1BF228-0238-4808-88EE-E545E2F0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BFF074-D43E-4FDD-B10D-55E600EF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AA761A-9ADF-45CD-821D-63DDE6E7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270D43-2FCE-4E82-9B38-C2844BF6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E5EE5C-4BFB-45F0-951E-ADE7D63E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841BC3-5EBA-436E-84C7-9C1FD00D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00D0FA-6754-46CF-9845-E75F26E1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7478E9-FF46-4AD6-B939-380C3EA3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5170C5-3498-4308-8B1C-D4ED16B4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9E52-D421-443C-A37E-4674417C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2476-2609-4321-AF2F-F3D24BC1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D4611E-66BE-4D98-AE1E-8D778AD7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FEC80E-1069-498C-9F1D-5BB2086A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33B8DB-3391-42B1-A039-3293417E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7EBF5B-3ADB-4727-83D8-AD02E437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90AB85-56AA-4208-87C5-CF5ECCD6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AEB6-05FC-45AF-9C4D-9F3FE105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9B2E-9510-4C86-AD03-8638F9FE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0686-D296-4802-8076-03BEE24B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50BD-DD56-4AB7-98C3-B37F3844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37555-87B5-4DFB-B850-E2B3682D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D9E97-48D5-4552-B885-8341011F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69AB7-A672-4C6E-8D3C-3AB8BC97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CDA95-AF7B-4642-87BC-6E357C65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94065-D378-4FA1-A188-97176B5B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A951-7ACA-4B72-A6C7-A1A69974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9A4C4-1965-41AC-9FBF-7D2B1448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1D332-3674-4CE4-853F-78DACE51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E0243-0F3E-4A5B-999D-CD15FC04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B9B45-B507-4F40-9B23-C034D1C3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1D561-860C-4C04-AA86-BFFF21B8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CAE8B-1144-4F31-AA0D-2B8811BB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89877-A4AC-4B1E-96E8-A4FA2C91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32AC3-2BAC-4227-93D5-8D80731E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487EA-1052-4FDF-B19F-7B14CA1A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D630D-0285-4E0E-99F7-CFC9B0FA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6ED-FFC3-4D33-8140-F2BFD6C3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D412C-7498-48AD-B9B5-5E2D62A9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C4850-AB8D-45AE-ACEA-8BF7C7F9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B25BC-6033-4491-94A3-9E254A6B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6733C-7DB7-4A27-81A3-95142E6F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2F355-2486-4403-BE5E-EBF8B2FF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1EDE8-E0A7-4DB8-8ED9-7B566B80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DF150-FF95-40C3-BD27-9C6EF9BE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BDBBD-DF44-4444-AFCA-7F0CD810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CC2E9-79E0-4B7E-B42A-0AB7F320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4EF55-AB00-4890-A7F5-7FEFFDA7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8347-2EEC-4809-B13B-16FA3C58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6486E-A865-4994-B1C1-E57D1FEF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63E09-50D8-4C25-98EE-FDFD5B5F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8819D-9BD0-4B9B-BF1E-8BF351D0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94D4B-93E2-4E4A-8487-18F5DA4C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9D54D-7E55-49E7-8E68-F03AD0EE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42747-1521-45CD-BF42-26724208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A15E2-FFFE-4C59-B733-523A5989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9F2D1-021E-4606-AE9D-7442BACE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05A04-E5F5-46F6-B194-A1513D09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A4040-A178-45C4-898F-C2BB2C5E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8264-0023-438C-9F5B-DDDBFEDD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CE3B9-8B47-44CA-B919-0D4679A5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A9821-50D5-4B6B-8A80-1CE6A8D0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288B9-FC16-4C8B-A2A3-0B3BC9DF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33063-27C7-4149-B7D9-E9E0A27E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49EA8-F177-450D-8B04-C609A1B2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3798C-B01B-4398-BE56-1280B580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0C2E7-3527-4191-A967-B7A4F41E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1F557-F7F9-481D-82F6-C1251803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63233-5E3E-4F15-A3C9-21824DB6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02536-762B-4CA3-8570-997101CF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4A1-FAD0-49ED-A8DB-0ABC47CA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8F148-4BE0-4E87-BA03-85EC7F93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03DCA-AFEE-4BFB-9DC2-87C54B4C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43AD6-2334-4583-9220-A72F5407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FA756-6D63-4653-8A6A-A2E1ED48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D0ECD-86E1-4A20-AB08-0AB49BD2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8276A-9FC3-4FFF-8886-ACDED4E3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7E274-1E72-4C7B-8CF5-8BAADB31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F88EA-8E43-498D-A285-98E30308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AA62E-5050-466E-88CC-08225266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F77F3-B5F4-4CF6-B0FB-9B090EEB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E343-0AA0-40A1-874A-A6D3FD07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5DE41-B0F7-4E35-B3FE-BF056895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7DD25-66F8-4251-A4B2-FFE0B543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C61E7-AA71-4708-A52A-04D8F81E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7BE7F-F6AA-4008-A8AB-B153D664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9B3F9-B524-405E-845E-7719D6EC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857AF-07E2-4E4E-AE61-072ABED6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1B6AF-A570-4222-A211-CBB510EB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5D214-1C62-4509-86BA-E380B8D3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4185E-3990-4684-BBDC-58882B1E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4F490-F562-4DCF-A75F-1AC12A4F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054-609A-455E-BE0A-1A753487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AF4C8-3D3E-4036-8E2C-0851FAC8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59C8E-6350-4A13-8B4B-6DE64B1D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492D0-6156-4005-BA89-C9C6A730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8A746-E14B-4AEF-8695-857EBA93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502A9-58C4-453B-A9FB-DD11F543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2D53B-7482-4C82-BAF8-F8BABA68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BC1AE-F0EC-442B-B86A-D04DB242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58CC1-C2BA-4DC4-9E14-2A67B9B0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0632E-1243-4671-9346-02CB15B4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59921-9A22-4434-A50E-AD900E13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3A2A-2DC6-4F1B-AE52-F952690D9EF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DFDC-948A-4A40-87BA-ADA5FDB47CE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6D56-E4DF-4CDC-BC9F-987375C952C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593E-BD18-439D-93E5-8A5E559C74F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F175-6BE6-449F-87CB-618BC044CFE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E5EB-8202-467D-BF5C-67E9776192B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36C8-196D-47DF-AD83-46540BEBE1C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AE1D-2EF4-4E93-8C0E-D5DC02EC2D9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47F9-EC85-4A00-83B9-6222AB1C412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B06E-2FCE-4F9B-803A-9F7925D1BFF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01E5-5033-41B2-B03A-DCB7D1531B7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9809-421D-41F9-B169-4924F7A6373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04A2-EBF9-4719-B8E4-987313AD1FD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06C1-85D8-48C8-92EB-A0FA2D3FEC8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5CEB-DF4C-4CB4-A5DB-37D2BF2270F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861D-40E6-400F-AE74-93A40B3ED77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83C0-6884-436F-8C5E-F614DE6F435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817560" y="1523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ый подход к образовательному</a:t>
            </a:r>
            <a:br>
              <a:rPr sz="4300"/>
            </a:b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у в ДОУ</a:t>
            </a:r>
            <a:br>
              <a:rPr sz="4300"/>
            </a:br>
            <a:br>
              <a:rPr sz="4300"/>
            </a:br>
            <a:br>
              <a:rPr sz="4300"/>
            </a:br>
            <a:endParaRPr b="0" lang="en-US" sz="43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8380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БДОУ «Детский сад №25» пгт Кавалерово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Текст 1"/>
          <p:cNvSpPr/>
          <p:nvPr/>
        </p:nvSpPr>
        <p:spPr>
          <a:xfrm>
            <a:off x="114300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Пирожкова Л.Е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837720" y="2133720"/>
            <a:ext cx="76964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7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7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7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1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353600" y="152280"/>
            <a:ext cx="733284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и задачи  интегрированных занятий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990360" y="914040"/>
            <a:ext cx="7716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бъединить различные виды художественной деятельности детей в целостный педагогический процесс формирования у воспитанников представлений об окружающем мире, эстетической культуре и развития средствами искусства творческих способностей (музыкальных, сценических, литературных, к изобразительной деятельности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задачами занятий являются: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е эстетического восприятия окружающего мира;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общение к миру искусства;             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итание эмоционального и осознанного отношения к искусству, умения      услышать, увидеть, почувствовать и переживать различные эмоциональные состояния, переданные в произведениях искусства;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способности к освоению и преобразованию окружающего пространства;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ского творчества в изобразительной, музыкальной, речевой и театрализованной деятельности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5"/>
          <p:cNvSpPr/>
          <p:nvPr/>
        </p:nvSpPr>
        <p:spPr>
          <a:xfrm rot="16200000">
            <a:off x="-2057040" y="3047400"/>
            <a:ext cx="6019560" cy="990720"/>
          </a:xfrm>
          <a:prstGeom prst="rect">
            <a:avLst/>
          </a:prstGeom>
          <a:solidFill>
            <a:srgbClr val="384af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аправления развит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Rectangle 7"/>
          <p:cNvSpPr/>
          <p:nvPr/>
        </p:nvSpPr>
        <p:spPr>
          <a:xfrm>
            <a:off x="1905120" y="2514600"/>
            <a:ext cx="1981080" cy="1143000"/>
          </a:xfrm>
          <a:prstGeom prst="rect">
            <a:avLst/>
          </a:prstGeom>
          <a:solidFill>
            <a:srgbClr val="69ed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удожественно –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стетическо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звит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3" name="Rectangle 19"/>
          <p:cNvSpPr/>
          <p:nvPr/>
        </p:nvSpPr>
        <p:spPr>
          <a:xfrm>
            <a:off x="1905120" y="3886200"/>
            <a:ext cx="1981080" cy="1219320"/>
          </a:xfrm>
          <a:prstGeom prst="rect">
            <a:avLst/>
          </a:prstGeom>
          <a:solidFill>
            <a:srgbClr val="e3ea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навательно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ечево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звит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4" name="Rectangle 21"/>
          <p:cNvSpPr/>
          <p:nvPr/>
        </p:nvSpPr>
        <p:spPr>
          <a:xfrm>
            <a:off x="1905120" y="5257800"/>
            <a:ext cx="1981080" cy="1295280"/>
          </a:xfrm>
          <a:prstGeom prst="rect">
            <a:avLst/>
          </a:prstGeom>
          <a:solidFill>
            <a:srgbClr val="f384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циально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ичностно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звит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Rectangle 22"/>
          <p:cNvSpPr/>
          <p:nvPr/>
        </p:nvSpPr>
        <p:spPr>
          <a:xfrm>
            <a:off x="4572000" y="228600"/>
            <a:ext cx="3962520" cy="533520"/>
          </a:xfrm>
          <a:prstGeom prst="rect">
            <a:avLst/>
          </a:prstGeom>
          <a:solidFill>
            <a:srgbClr val="384a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Образовательные обла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6" name="Rectangle 23"/>
          <p:cNvSpPr/>
          <p:nvPr/>
        </p:nvSpPr>
        <p:spPr>
          <a:xfrm>
            <a:off x="4343400" y="1371600"/>
            <a:ext cx="4495680" cy="457200"/>
          </a:xfrm>
          <a:prstGeom prst="rect">
            <a:avLst/>
          </a:prstGeom>
          <a:solidFill>
            <a:srgbClr val="8691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доровь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7" name="Rectangle 24"/>
          <p:cNvSpPr/>
          <p:nvPr/>
        </p:nvSpPr>
        <p:spPr>
          <a:xfrm>
            <a:off x="4343400" y="1981080"/>
            <a:ext cx="4495680" cy="457200"/>
          </a:xfrm>
          <a:prstGeom prst="rect">
            <a:avLst/>
          </a:prstGeom>
          <a:solidFill>
            <a:srgbClr val="69ed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е творчест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Rectangle 26"/>
          <p:cNvSpPr/>
          <p:nvPr/>
        </p:nvSpPr>
        <p:spPr>
          <a:xfrm>
            <a:off x="4343400" y="2666880"/>
            <a:ext cx="4495680" cy="381240"/>
          </a:xfrm>
          <a:prstGeom prst="rect">
            <a:avLst/>
          </a:prstGeom>
          <a:solidFill>
            <a:srgbClr val="69ed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9" name="Rectangle 27"/>
          <p:cNvSpPr/>
          <p:nvPr/>
        </p:nvSpPr>
        <p:spPr>
          <a:xfrm>
            <a:off x="4343400" y="3200400"/>
            <a:ext cx="4572000" cy="380880"/>
          </a:xfrm>
          <a:prstGeom prst="rect">
            <a:avLst/>
          </a:prstGeom>
          <a:solidFill>
            <a:srgbClr val="e3ea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0" name="Rectangle 28"/>
          <p:cNvSpPr/>
          <p:nvPr/>
        </p:nvSpPr>
        <p:spPr>
          <a:xfrm>
            <a:off x="4343400" y="3886200"/>
            <a:ext cx="4572000" cy="380880"/>
          </a:xfrm>
          <a:prstGeom prst="rect">
            <a:avLst/>
          </a:prstGeom>
          <a:solidFill>
            <a:srgbClr val="e3ea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Rectangle 29"/>
          <p:cNvSpPr/>
          <p:nvPr/>
        </p:nvSpPr>
        <p:spPr>
          <a:xfrm>
            <a:off x="4343400" y="4419720"/>
            <a:ext cx="4572000" cy="457200"/>
          </a:xfrm>
          <a:prstGeom prst="rect">
            <a:avLst/>
          </a:prstGeom>
          <a:solidFill>
            <a:srgbClr val="e3ea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2" name="Rectangle 30"/>
          <p:cNvSpPr/>
          <p:nvPr/>
        </p:nvSpPr>
        <p:spPr>
          <a:xfrm>
            <a:off x="4343400" y="5029200"/>
            <a:ext cx="4572000" cy="457200"/>
          </a:xfrm>
          <a:prstGeom prst="rect">
            <a:avLst/>
          </a:prstGeom>
          <a:solidFill>
            <a:srgbClr val="f384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Rectangle 31"/>
          <p:cNvSpPr/>
          <p:nvPr/>
        </p:nvSpPr>
        <p:spPr>
          <a:xfrm>
            <a:off x="4343400" y="5638680"/>
            <a:ext cx="4572000" cy="457200"/>
          </a:xfrm>
          <a:prstGeom prst="rect">
            <a:avLst/>
          </a:prstGeom>
          <a:solidFill>
            <a:srgbClr val="f384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Rectangle 32"/>
          <p:cNvSpPr/>
          <p:nvPr/>
        </p:nvSpPr>
        <p:spPr>
          <a:xfrm>
            <a:off x="4343400" y="6324480"/>
            <a:ext cx="4572000" cy="381240"/>
          </a:xfrm>
          <a:prstGeom prst="rect">
            <a:avLst/>
          </a:prstGeom>
          <a:solidFill>
            <a:srgbClr val="f384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из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5" name="Rectangle 34"/>
          <p:cNvSpPr/>
          <p:nvPr/>
        </p:nvSpPr>
        <p:spPr>
          <a:xfrm>
            <a:off x="4343400" y="914400"/>
            <a:ext cx="4495680" cy="380880"/>
          </a:xfrm>
          <a:prstGeom prst="rect">
            <a:avLst/>
          </a:prstGeom>
          <a:solidFill>
            <a:srgbClr val="8691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изическая куль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Line 38"/>
          <p:cNvSpPr/>
          <p:nvPr/>
        </p:nvSpPr>
        <p:spPr>
          <a:xfrm flipV="1">
            <a:off x="1447920" y="1523880"/>
            <a:ext cx="4572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Line 39"/>
          <p:cNvSpPr/>
          <p:nvPr/>
        </p:nvSpPr>
        <p:spPr>
          <a:xfrm>
            <a:off x="1447920" y="34290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Line 40"/>
          <p:cNvSpPr/>
          <p:nvPr/>
        </p:nvSpPr>
        <p:spPr>
          <a:xfrm>
            <a:off x="1447920" y="342900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Line 41"/>
          <p:cNvSpPr/>
          <p:nvPr/>
        </p:nvSpPr>
        <p:spPr>
          <a:xfrm flipV="1">
            <a:off x="1447920" y="281916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0" name="Rectangle 43"/>
          <p:cNvSpPr/>
          <p:nvPr/>
        </p:nvSpPr>
        <p:spPr>
          <a:xfrm>
            <a:off x="1828800" y="914400"/>
            <a:ext cx="2057400" cy="1371600"/>
          </a:xfrm>
          <a:prstGeom prst="rect">
            <a:avLst/>
          </a:prstGeom>
          <a:solidFill>
            <a:srgbClr val="8691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Line 44"/>
          <p:cNvSpPr/>
          <p:nvPr/>
        </p:nvSpPr>
        <p:spPr>
          <a:xfrm flipV="1">
            <a:off x="3886200" y="11430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Line 46"/>
          <p:cNvSpPr/>
          <p:nvPr/>
        </p:nvSpPr>
        <p:spPr>
          <a:xfrm>
            <a:off x="388620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3" name="Line 48"/>
          <p:cNvSpPr/>
          <p:nvPr/>
        </p:nvSpPr>
        <p:spPr>
          <a:xfrm>
            <a:off x="3886200" y="1523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4" name="Line 51"/>
          <p:cNvSpPr/>
          <p:nvPr/>
        </p:nvSpPr>
        <p:spPr>
          <a:xfrm flipV="1">
            <a:off x="3886200" y="228564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Line 54"/>
          <p:cNvSpPr/>
          <p:nvPr/>
        </p:nvSpPr>
        <p:spPr>
          <a:xfrm flipV="1">
            <a:off x="3962520" y="3352680"/>
            <a:ext cx="38088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Line 55"/>
          <p:cNvSpPr/>
          <p:nvPr/>
        </p:nvSpPr>
        <p:spPr>
          <a:xfrm flipV="1">
            <a:off x="3962520" y="41911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7" name="Line 56"/>
          <p:cNvSpPr/>
          <p:nvPr/>
        </p:nvSpPr>
        <p:spPr>
          <a:xfrm>
            <a:off x="3962520" y="44956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Line 57"/>
          <p:cNvSpPr/>
          <p:nvPr/>
        </p:nvSpPr>
        <p:spPr>
          <a:xfrm flipV="1">
            <a:off x="3962520" y="4114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Line 58"/>
          <p:cNvSpPr/>
          <p:nvPr/>
        </p:nvSpPr>
        <p:spPr>
          <a:xfrm flipV="1">
            <a:off x="3886200" y="525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Line 60"/>
          <p:cNvSpPr/>
          <p:nvPr/>
        </p:nvSpPr>
        <p:spPr>
          <a:xfrm>
            <a:off x="3886200" y="5867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Line 61"/>
          <p:cNvSpPr/>
          <p:nvPr/>
        </p:nvSpPr>
        <p:spPr>
          <a:xfrm>
            <a:off x="388620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2" name="Line 63"/>
          <p:cNvSpPr/>
          <p:nvPr/>
        </p:nvSpPr>
        <p:spPr>
          <a:xfrm>
            <a:off x="6477120" y="762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Line 64"/>
          <p:cNvSpPr/>
          <p:nvPr/>
        </p:nvSpPr>
        <p:spPr>
          <a:xfrm>
            <a:off x="388620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 txBox="1"/>
          <p:nvPr/>
        </p:nvSpPr>
        <p:spPr>
          <a:xfrm>
            <a:off x="76176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ые – соединяют знания из разных образовательных областей на равноправной основе, дополняя друг друга (рассматривание такого понятия как «настроение» через произведения музыки, литературы, живописи)</a:t>
            </a:r>
            <a:br>
              <a:rPr sz="3700"/>
            </a:b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961320" cy="7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ительные особенност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1509480" y="1447560"/>
            <a:ext cx="65926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сть, компактность, большая информативность учебного материал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1600" indent="-291600">
              <a:lnSpc>
                <a:spcPct val="12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ая взаимообусловленность , взаимосвязь интегрированных предметов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1600" indent="-291600">
              <a:lnSpc>
                <a:spcPct val="12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на динамических поз и видов детской деятельности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1600" indent="-291600">
              <a:lnSpc>
                <a:spcPct val="12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координировать деятельность воспитателя и специалистов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1600" indent="-291600">
              <a:lnSpc>
                <a:spcPct val="12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эффективного взаимодействия с родителями воспитанников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1600" indent="-291600">
              <a:lnSpc>
                <a:spcPct val="12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вух и более педагогов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ая структура заняти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1295280" y="1066680"/>
            <a:ext cx="7391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ая ча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здается проблемная ситуация, стимулирующая активность детей к поиску ее решения (например, задается вопрос «Ребята, что произойдет, если на Земле не будет воды?»)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часть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даются новые знания, необходимые для решения проблемного вопроса (например, значение воды в природе и жизни человека и т.д.) на основе содержания разных разделов программы с опорой на наглядность, Параллельно идет работа по обогащению и активизации словаря, обучению связной реч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ая часть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предлагается любая практическая работа (дидактические игры, рисование и др.) на закрепление полученной информации или актуализации ранее усвоенной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работ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164160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каждой возрастной группе количество интегрированных занятий определяется совместно воспитателем  и специалистами (логопедом, психологом, музыкальным руководителем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язующим звеном выступает рассматриваемая на занятии тема (образ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изация предварительной  работы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эффективные методы и прием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тегрированное занятие)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1676160" y="205704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ый анализ, сопоставление, поиск, эвристическая деятельность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ые вопросы, использование заданий типа «докажи», «объясни», «как ты узнал?» и др.</a:t>
            </a:r>
            <a:br>
              <a:rPr sz="2000"/>
            </a:b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ные речевые дидактические игры для знакомства с культурно-речевыми эталонами, активизации словаря, воспитания чувства уверенности в своих силах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ое обучение способствует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1942920" y="1219320"/>
            <a:ext cx="65912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ю у детей целостной картины мир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 реализовать творческие способности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ю коммуникативных  навыков  и умению свободно делиться впечатлениями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щению  дошкольников к музыкальной культуре, развитию у них способности эмоционально воспринимать мелодию  на основе интеграции музыки и музыкальной деятельности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ю  эффективности  занятия, снимает утомляемость и перенапряжение помогает удерживать внимание детей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экономить время для игры, прогулок, самостоятельной деятельности дошкольников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му взаимодействию всех специалистов ДОУ и их сотрудничеству с родителями, образуя тем самым детско-взрослое сообщество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Windows User</cp:lastModifiedBy>
  <dcterms:modified xsi:type="dcterms:W3CDTF">2018-02-28T03:18:34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