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D0F-7F22-4ADE-9E54-01337236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200-87C1-4764-AAD5-FD3E3F30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E87-8816-439E-9DE8-DCCB1CA1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BAA-D7E5-4E27-9EBE-0ACEF16E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165-A7D0-419C-83C0-EC481066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939-5934-45FF-B0DF-3E97D839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314-C031-411A-9C58-C597D25C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D36-FF62-4CE8-A308-ED6F58C1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F68-FA32-4C76-89AA-AF1BF105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A38-7A45-477C-89F2-6FF67CD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DF0-01AF-4850-A5DD-6A5134C1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BE0-74E0-485D-B73C-E3919EE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FC04-B1AD-47B8-B291-434F169A4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979640" y="1197000"/>
            <a:ext cx="61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ающее изложени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рассказу В.В.Бианки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кворцы»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4334760" y="4724280"/>
            <a:ext cx="4603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ш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280 им.М.Ю.Лермон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755640" y="90792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1.Поредела, сиротли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2.Вдруг, скворчиха, скользнула, тихонько, закончила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3.Скворушка, с родным, опять прилетят, тепер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"/>
          <p:cNvPicPr/>
          <p:nvPr/>
        </p:nvPicPr>
        <p:blipFill>
          <a:blip r:embed="rId1"/>
          <a:stretch/>
        </p:blipFill>
        <p:spPr>
          <a:xfrm>
            <a:off x="4246560" y="3500280"/>
            <a:ext cx="4616280" cy="30816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250920" y="189000"/>
            <a:ext cx="568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По всей Европе обитает,</a:t>
            </a:r>
            <a:br>
              <a:rPr sz="3200"/>
            </a:br>
            <a:r>
              <a:rPr b="0" lang="ru-RU" sz="32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На зиму в Африку летает.</a:t>
            </a:r>
            <a:br>
              <a:rPr sz="3200"/>
            </a:br>
            <a:r>
              <a:rPr b="0" lang="ru-RU" sz="32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С ним весело и не до скуки -</a:t>
            </a:r>
            <a:br>
              <a:rPr sz="3200"/>
            </a:br>
            <a:r>
              <a:rPr b="0" lang="ru-RU" sz="32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Легко заучивает звуки.</a:t>
            </a:r>
            <a:br>
              <a:rPr sz="3200"/>
            </a:br>
            <a:r>
              <a:rPr b="0" lang="ru-RU" sz="32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И, суть мелодии схватив,</a:t>
            </a:r>
            <a:br>
              <a:rPr sz="3200"/>
            </a:br>
            <a:r>
              <a:rPr b="0" lang="ru-RU" sz="32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Он повторит любой мотив.</a:t>
            </a:r>
            <a:br>
              <a:rPr sz="3200"/>
            </a:br>
            <a:r>
              <a:rPr b="0" lang="ru-RU" sz="32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Живёт под крышею певец</a:t>
            </a:r>
            <a:br>
              <a:rPr sz="3200"/>
            </a:br>
            <a:r>
              <a:rPr b="0" lang="ru-RU" sz="32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Красавчик, умничка -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196640" y="501336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сквор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79280" y="404640"/>
            <a:ext cx="92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Arial"/>
              </a:rPr>
              <a:t>     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Осень. Поредела на берёзах листва. Сиротливо качается на голой ветке скворечник. Вдруг прилетели два скворца. Скворчиха быстро скользнула в птичий домик. Скворец сел на веточку и тихонько запел. Песня закончилась. Скворушка вылетела из скворечника. Птицы прощали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с родным домиком. Весной они опять прилетят сюда. А теперь им пора в далёкий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24000" y="18900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Осень. Поредела на берёзах листва. Сиротливо качается на голой ветке сквореч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50920" y="191628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Вдруг прилетели два скворца. Скворчиха быстро скользнула в птичий домик. Скворец сел на ветку и тихонько запел. Песня закончилась. Скворушка вылетела из сквореч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50920" y="47242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тицы прощались с родным домиком. Весной они опять прилетят сюда. А теперь им пора в далёкий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12920" y="765000"/>
            <a:ext cx="54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1. Одинокий сквореч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95280" y="14130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- Какое время года опис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- На ветке какого дерева качается сквореч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95280" y="2852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. </a:t>
            </a:r>
            <a:r>
              <a:rPr b="1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Прощальная песенка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324000" y="3573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- Кто прилетел к скворечнику и тихонько запе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395280" y="4221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3. В далёкий путь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395280" y="5013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239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Почему скворцы прощаются с родным доми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239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- Когда они прилетят сюда сн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788640" y="18900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photo.assistancerussia.org/usergallery/images/16/36/14567_1386741725.jpg"/>
          <p:cNvPicPr/>
          <p:nvPr/>
        </p:nvPicPr>
        <p:blipFill>
          <a:blip r:embed="rId1"/>
          <a:stretch/>
        </p:blipFill>
        <p:spPr>
          <a:xfrm>
            <a:off x="1908000" y="2421000"/>
            <a:ext cx="5376960" cy="4032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2349720" y="692280"/>
            <a:ext cx="45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Одинокий сквореч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367720" y="907920"/>
            <a:ext cx="42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Прощальная пес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ic.pics.livejournal.com/fen_vey/23578463/142793/142793_original.jpg"/>
          <p:cNvPicPr/>
          <p:nvPr/>
        </p:nvPicPr>
        <p:blipFill>
          <a:blip r:embed="rId1"/>
          <a:stretch/>
        </p:blipFill>
        <p:spPr>
          <a:xfrm>
            <a:off x="1692360" y="2060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chitalnya.ru/upload3/601/1ea5795d1e98570de32ffa48a6fcd394.jpg"/>
          <p:cNvPicPr/>
          <p:nvPr/>
        </p:nvPicPr>
        <p:blipFill>
          <a:blip r:embed="rId1"/>
          <a:stretch/>
        </p:blipFill>
        <p:spPr>
          <a:xfrm>
            <a:off x="2195640" y="2637000"/>
            <a:ext cx="4762440" cy="32191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077280" y="83664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В далёкий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611280" y="234936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Ос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нь, 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дела, 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ства, си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тливо, скв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ре</a:t>
            </a:r>
            <a:r>
              <a:rPr b="0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чн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ик, п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тели, с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л</a:t>
            </a:r>
            <a:r>
              <a:rPr b="0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знула, скв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рец, 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хонько, 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дным, дом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м, д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лёкий, з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пел, з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ко</a:t>
            </a:r>
            <a:r>
              <a:rPr b="0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ч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илась, 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423926"/>
                </a:solidFill>
                <a:latin typeface="Times New Roman"/>
                <a:ea typeface="Times New Roman"/>
              </a:rPr>
              <a:t>пер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765440" y="620640"/>
            <a:ext cx="53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графическая 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7T12:57:23Z</dcterms:created>
  <dc:creator>Ирина</dc:creator>
  <dc:description/>
  <dc:language>en-US</dc:language>
  <cp:lastModifiedBy>ira</cp:lastModifiedBy>
  <dcterms:modified xsi:type="dcterms:W3CDTF">2019-10-15T17:16:45Z</dcterms:modified>
  <cp:revision>7</cp:revision>
  <dc:subject/>
  <dc:title>Слайд 1</dc:title>
</cp:coreProperties>
</file>