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0.gif" ContentType="image/gif"/>
  <Override PartName="/ppt/media/image9.png" ContentType="image/png"/>
  <Override PartName="/ppt/media/image8.gif" ContentType="image/gif"/>
  <Override PartName="/ppt/media/image18.jpeg" ContentType="image/jpeg"/>
  <Override PartName="/ppt/media/image7.png" ContentType="image/png"/>
  <Override PartName="/ppt/media/image6.jpeg" ContentType="image/jpeg"/>
  <Override PartName="/ppt/media/image20.png" ContentType="image/png"/>
  <Override PartName="/ppt/media/image3.png" ContentType="image/png"/>
  <Override PartName="/ppt/media/image17.png" ContentType="image/png"/>
  <Override PartName="/ppt/media/image4.png" ContentType="image/png"/>
  <Override PartName="/ppt/media/image13.jpeg" ContentType="image/jpeg"/>
  <Override PartName="/ppt/media/image1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22.gif" ContentType="image/gif"/>
  <Override PartName="/ppt/media/image11.gif" ContentType="image/gif"/>
  <Override PartName="/ppt/media/image14.png" ContentType="image/pn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4504-9EEA-4537-9C24-2D1AFB1CDF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EFE3-8AFA-4E0E-9D8E-A10F97A92B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D86D-14D2-44EA-86D6-825C7D85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B1F3-4786-4477-A1FC-932B4384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8754-6E79-4029-B728-0F36D117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022-FE61-43C4-9AD9-C4A2B9DE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CB7A-119D-4811-A6D3-A09B019A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A899-3B29-4425-B9B1-1195E7E3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4408-425E-4297-81FA-EAF17246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1EC2-9706-4099-842B-ADF08E6D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FF18-EF95-46BA-9DC3-D0028631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988C-3324-4E7C-B891-58E36DEF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F0FD-225A-4589-8D1B-3D0D41BF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8C92-4DB6-4374-98CE-72F2EDB3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775D-E719-4897-88B6-2EB8B269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8226-E9E1-4576-9599-D25E982D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977F-4A17-4F17-838E-785B67F7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EAF2-A35B-40B2-9EC8-9667342D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5981-BAAF-4DC4-831A-763B0A9C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E8DAB-D36A-4769-8ADC-C0FD3501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ED322-7441-4472-860F-8757A316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FE78C-F18D-4BEB-B16A-F30FD175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2BE38-5DB2-4B79-B2FC-C301D026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270D1-B4E4-4080-9580-BF355750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FC9C-C6DD-4293-8C47-A9701BAF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68A52-244B-445C-AEF5-DA94912C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9713D-B8B3-4107-A9CB-DA053D56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85D74-5E3E-4BA0-A2FD-40082511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9F662-6734-4FDD-BA04-3A2781F5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A7AEB-8BA6-4FBB-A961-BAA2CDCA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E3757-5DF4-4410-ACE3-27B675CA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8EF3B-92B1-419E-A859-3AA331FC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AED80-C645-4CD8-8DE1-604EF759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CE380-57F4-4BD1-85E8-60976081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E2154-54C1-4DFE-BB6B-9382AF47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919-11C7-4D77-9447-6E5DE560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FA298-F65E-44B6-B3B0-7E016764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F7EAD-5B19-434F-BB24-27C2D955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B4EFE-AAF4-47E6-B347-1EE01E78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D12BB-C046-42D2-B1E7-4A7F1A50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02858-9B37-4904-978A-D49F2478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1B549-B078-4C94-BFC7-147C5018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7742B-60EB-4DC8-B32B-31160A7C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B7B0A-4935-47B1-9330-87ADA8DD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E8B41-7446-46EE-A642-0D157992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DECE9-4073-4DE8-A05E-2862CF98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0BA-B08B-46BD-BE9F-44075082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D6FE3-339C-4729-8B3B-E3B55785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4796A-198B-41A6-A8CC-E06D3A9D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7F4AB-BD18-4406-A802-9F3FCAB7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CFF94-7E75-44D8-B2D0-B1760900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A0ACC-EAEC-4DE1-AFCC-C5C12B6A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F9E0F-A120-47DA-BD38-90587187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B1600-DFDC-49DB-8D59-BD809C44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41BFE-3304-4405-B985-8669481C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83703-44A3-4987-80C7-1D7C12C3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FED46-CDD7-48B2-BCDB-C745CA69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67A-C32A-4597-8925-6A932E80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4A92A-569C-422E-AD78-8DC26EDF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C9353-FC70-4322-B5DA-758CAE23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8A5AB-13F1-4808-BF33-141CD5FB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E9ED5-5E70-498B-98AC-77158BAE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D9B6B-E4AD-43BA-AD7B-4B765687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F9097-6EFC-423D-9790-DCB6F405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961E8-FFAF-455D-AB9D-2A6D87E5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4B837-01AB-484F-8D8B-5C754C65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5FC01-2238-4928-AB5A-C678BE1A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8E710-4932-43B0-8A1B-51BD5291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C761-8590-42B0-B372-82C305E3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C6850-F757-4852-B4D4-C92EA82F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622AA-9C89-4A7B-A9B2-63108590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1F6FA-118B-47CB-9D1D-88A6CBC7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6A956-BCA0-4B8B-8817-1DBC1738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D994D-65F2-4E11-AB24-21768054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CDEEB-A591-42D2-9408-AB408D8F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8FC02-6F45-4AD9-9ABC-29857608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094AF-0AE0-4F26-AEF4-42075234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36162-0B3B-4370-9A1A-249CCB2E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11CE6-26EC-4C16-8B26-4483F6A3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F4E5-51C8-47FF-BF9E-FAAEE64F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502AD-AEF3-434C-9D47-97CF4F60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36651-102B-4B38-946A-D73B583C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24E67-4AFA-42D4-B09D-699DA2CB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F1DDF-3E52-491A-ACE0-7FE6C2C4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9391F-B069-465B-9A10-C5D26C67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79F4D-07C6-4675-A768-33372DCD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7D03B-63A5-4898-9BEE-CCC716F7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6C2D9-2877-49E3-8276-92A1C2F2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91FC5-3333-4A61-8EFF-DB7A64BB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B4B49-EB84-4A5E-B7FB-8563FE61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4888-F974-429A-B37F-BFB8C406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06422-EBE6-4A4E-9E5C-23176857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8486B-1D9A-495E-86CF-6C9AD55B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3363E-C659-4FD5-8DF2-E3E8240B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13440-E500-45DA-BCE8-38B108C8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0779E-5237-4C36-9936-CD0EA0D4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C12D9-8C68-4AF2-97D9-CC737C88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3C709-74BC-40BA-89C7-5FBB4586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69FC-D241-42E4-A3A8-A776489E57E6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300E-4035-4859-9861-84C37F5AFB13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EB66-CBDB-4712-A2BA-FCD775F23245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220B-9594-42E9-B134-9B0B0B3634D9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998A-BD20-42EB-9284-28E2D460C71E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280D-976D-4660-B5C6-3DDF2B46B27E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B875-1163-48A6-81C6-0339B7B40FE3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765D-F255-4A1F-86C5-9DB268F5AD97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mazing-animations.com/sports/animations/tabletennis5.gif" TargetMode="Externa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hool18.edusite.ru/image/mai2011/tennis_table.gi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426960" y="207324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428640" y="785880"/>
            <a:ext cx="52578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подача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должна выполняться так, чтобы принимающий ясно видели </a:t>
            </a: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все фазы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одачи;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нельзя скрывать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момент подачи рукой, в которой находится ракетка;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одача </a:t>
            </a: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считается поданной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, как только мяч оторвался от ладони подающего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Если мяч зацепил при подаче сетку, но при этом все остальные правила были соблюдены, объявляется </a:t>
            </a: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«переподача»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Picture 2" descr="Картинка 72 из 117"/>
          <p:cNvPicPr/>
          <p:nvPr/>
        </p:nvPicPr>
        <p:blipFill>
          <a:blip r:embed="rId1"/>
          <a:stretch/>
        </p:blipFill>
        <p:spPr>
          <a:xfrm>
            <a:off x="142920" y="2357280"/>
            <a:ext cx="3306600" cy="2571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6840" y="1599840"/>
            <a:ext cx="5329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da1f28"/>
                </a:solidFill>
                <a:latin typeface="Lucida Sans Unicode"/>
              </a:rPr>
              <a:t>При следующих ошибках</a:t>
            </a:r>
            <a:r>
              <a:rPr b="0" lang="ru-RU" sz="2700" spc="-1" strike="noStrike">
                <a:solidFill>
                  <a:srgbClr val="da1f28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шибка при подаче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правильная подача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яч при подаче ударился два раза на своей стороне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яч попал на свою сторону после удара ракеткой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Picture 2" descr="Картинка 60 из 151421"/>
          <p:cNvPicPr/>
          <p:nvPr/>
        </p:nvPicPr>
        <p:blipFill>
          <a:blip r:embed="rId1"/>
          <a:stretch/>
        </p:blipFill>
        <p:spPr>
          <a:xfrm>
            <a:off x="5643720" y="1714680"/>
            <a:ext cx="3357360" cy="3979800"/>
          </a:xfrm>
          <a:prstGeom prst="rect">
            <a:avLst/>
          </a:prstGeom>
          <a:ln w="0">
            <a:noFill/>
          </a:ln>
        </p:spPr>
      </p:pic>
      <p:pic>
        <p:nvPicPr>
          <p:cNvPr id="403" name="Заголовок 4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142800" y="928440"/>
            <a:ext cx="55436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яч был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ударен дважд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яч попал во что угодно,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кроме ракетк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после отскока от стола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яч не попал по стороне соперника после удара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яч был отбит до того, как ударился об стол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тол был подвинут или свободная рука коснулась стола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яч при подаче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не попал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зону соперника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Picture 4" descr="Картинка 15 из 117"/>
          <p:cNvPicPr/>
          <p:nvPr/>
        </p:nvPicPr>
        <p:blipFill>
          <a:blip r:embed="rId1"/>
          <a:stretch/>
        </p:blipFill>
        <p:spPr>
          <a:xfrm>
            <a:off x="357120" y="2357280"/>
            <a:ext cx="2737080" cy="2851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6426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Настольный теннис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– великолепный способ энергичного времяпрепровождения и для тех, кто отдает предпочтение серьезным занятиям, и для тех, кто впервые в жизни держит ракетку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алеко не всегда победителем станет самый молодой или самый сильный. Многое зависит от умения, навыков, ловкости и координации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Picture 2" descr="Картинка 112 из 117"/>
          <p:cNvPicPr/>
          <p:nvPr/>
        </p:nvPicPr>
        <p:blipFill>
          <a:blip r:embed="rId1"/>
          <a:stretch/>
        </p:blipFill>
        <p:spPr>
          <a:xfrm>
            <a:off x="714240" y="5143680"/>
            <a:ext cx="8048880" cy="1357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57120" y="1599840"/>
            <a:ext cx="832968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Впервые название </a:t>
            </a: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«Пинг-понг»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(настольный теннис)стало встречаться начиная с </a:t>
            </a: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1901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года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Джон Джаквес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зарегистрировал придуманное название. Оно получилось из сочетания двух звуков: </a:t>
            </a: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«пинг»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— звук, издаваемый мячом, когда он ударяется о ракетку, и </a:t>
            </a: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«понг»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— когда мяч отскакивает от стола. В дальнейшем название было продано братьям </a:t>
            </a: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Паркер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Picture 4" descr="Картинка 50 из 1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65360" y="5143680"/>
            <a:ext cx="6092640" cy="1428480"/>
          </a:xfrm>
          <a:prstGeom prst="rect">
            <a:avLst/>
          </a:prstGeom>
          <a:ln w="0">
            <a:noFill/>
          </a:ln>
        </p:spPr>
      </p:pic>
      <p:sp>
        <p:nvSpPr>
          <p:cNvPr id="381" name="TextBox 4"/>
          <p:cNvSpPr/>
          <p:nvPr/>
        </p:nvSpPr>
        <p:spPr>
          <a:xfrm>
            <a:off x="642960" y="57168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тор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6840" y="1599840"/>
            <a:ext cx="554364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портивная игра, основанная на перекидывании специального мяча ракетками через игровой стол с сеткой по определённым правилам. </a:t>
            </a:r>
            <a:r>
              <a:rPr b="0" i="1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Целью игроков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является достижение ситуации, когда мяч не будет отбит противнико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Picture 2" descr="Картинка 13 из 1513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29200" y="2571840"/>
            <a:ext cx="3071880" cy="3109680"/>
          </a:xfrm>
          <a:prstGeom prst="rect">
            <a:avLst/>
          </a:prstGeom>
          <a:ln w="0">
            <a:noFill/>
          </a:ln>
        </p:spPr>
      </p:pic>
      <p:sp>
        <p:nvSpPr>
          <p:cNvPr id="384" name="TextBox 5"/>
          <p:cNvSpPr/>
          <p:nvPr/>
        </p:nvSpPr>
        <p:spPr>
          <a:xfrm>
            <a:off x="785880" y="50004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 такое настольный теннис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571920" y="1600200"/>
            <a:ext cx="51148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Стол и сетка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Теннисный стол — специальный стол, разделенный сеткой на две половины. Размеры : длина — </a:t>
            </a: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274 см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, ширина — </a:t>
            </a: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152,5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см, высота — </a:t>
            </a: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76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см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Игровая поверхность может быть из любого материала и должна разделяться на две половины вертикально стоящей сеткой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Picture 5" descr="http://luzan.ucoz.ru/animes/tennis.gif"/>
          <p:cNvPicPr/>
          <p:nvPr/>
        </p:nvPicPr>
        <p:blipFill>
          <a:blip r:embed="rId1"/>
          <a:stretch/>
        </p:blipFill>
        <p:spPr>
          <a:xfrm>
            <a:off x="0" y="3071880"/>
            <a:ext cx="3914640" cy="1514520"/>
          </a:xfrm>
          <a:prstGeom prst="rect">
            <a:avLst/>
          </a:prstGeom>
          <a:ln w="0">
            <a:noFill/>
          </a:ln>
        </p:spPr>
      </p:pic>
      <p:sp>
        <p:nvSpPr>
          <p:cNvPr id="387" name="TextBox 4"/>
          <p:cNvSpPr/>
          <p:nvPr/>
        </p:nvSpPr>
        <p:spPr>
          <a:xfrm>
            <a:off x="428760" y="64296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вентар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999720"/>
            <a:ext cx="540072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Ракетка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ри игре используются </a:t>
            </a: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ракетки, сделанные из дерева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, покрытого одним или двумя слоями специальной резины с каждой стороны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У </a:t>
            </a: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дорогих ракеток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основание сделано из нескольких слоёв древесины. Профессиональные ракетки не продаются в готовом виде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Picture 4" descr="Картинка 67 из 117"/>
          <p:cNvPicPr/>
          <p:nvPr/>
        </p:nvPicPr>
        <p:blipFill>
          <a:blip r:embed="rId1"/>
          <a:stretch/>
        </p:blipFill>
        <p:spPr>
          <a:xfrm>
            <a:off x="6000840" y="2786040"/>
            <a:ext cx="3047760" cy="1785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78576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Выбор ракетки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– это важный шаг и необходимо подойти к этому серьезно. Неправильно выбранная ракетка может повлиять на развитие техники и замедлить Ваш прогресс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Picture 2" descr="http://www.nivagold.ru/raznoe1/maus/pingpong.gif"/>
          <p:cNvPicPr/>
          <p:nvPr/>
        </p:nvPicPr>
        <p:blipFill>
          <a:blip r:embed="rId1"/>
          <a:stretch/>
        </p:blipFill>
        <p:spPr>
          <a:xfrm>
            <a:off x="285840" y="2857680"/>
            <a:ext cx="3908160" cy="200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3" descr="Рисунок 6 - Стили игры"/>
          <p:cNvPicPr/>
          <p:nvPr/>
        </p:nvPicPr>
        <p:blipFill>
          <a:blip r:embed="rId1"/>
          <a:stretch/>
        </p:blipFill>
        <p:spPr>
          <a:xfrm>
            <a:off x="1500120" y="1571760"/>
            <a:ext cx="5857920" cy="4857480"/>
          </a:xfrm>
          <a:prstGeom prst="rect">
            <a:avLst/>
          </a:prstGeom>
          <a:ln w="0">
            <a:noFill/>
          </a:ln>
        </p:spPr>
      </p:pic>
      <p:pic>
        <p:nvPicPr>
          <p:cNvPr id="393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6840" y="1856880"/>
            <a:ext cx="7900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артия состоит из розыгрышей, каждый из которых начинается с </a:t>
            </a: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подачи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. Далее подающие чередуются каждые две подач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о современным правилам партия идет до </a:t>
            </a: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11 очков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. При парной игре при переходе подачи игрок, принимавший мяч, становится подающим, а партнёр игрока, подававшего мяч, становится принимающим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Во время игры, если мяч зацепил сетку и переместился на другую половину, то </a:t>
            </a: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игра продолжается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5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142640"/>
            <a:ext cx="5757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роизводится согласно следующим правилам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мяч должен быть подброшен вертикально вверх с открытой ладони не менее чем на </a:t>
            </a: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16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см;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от момента отрыва от ладони до соударения с ракеткой мяч должен быть обязательно </a:t>
            </a: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выше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, чем </a:t>
            </a: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поверхность стола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одающий должен ударить по мячу так, чтобы тот ударился </a:t>
            </a: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один раз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на своей половине и хотя бы один раз на половине соперника;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Picture 2" descr="Картинка 75 из 117"/>
          <p:cNvPicPr/>
          <p:nvPr/>
        </p:nvPicPr>
        <p:blipFill>
          <a:blip r:embed="rId1"/>
          <a:stretch/>
        </p:blipFill>
        <p:spPr>
          <a:xfrm>
            <a:off x="5737320" y="2000160"/>
            <a:ext cx="3297240" cy="1643040"/>
          </a:xfrm>
          <a:prstGeom prst="rect">
            <a:avLst/>
          </a:prstGeom>
          <a:ln w="0">
            <a:noFill/>
          </a:ln>
        </p:spPr>
      </p:pic>
      <p:pic>
        <p:nvPicPr>
          <p:cNvPr id="398" name="Заголовок 4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12:37:52Z</dcterms:created>
  <dc:creator>XTreme</dc:creator>
  <dc:description/>
  <dc:language>en-US</dc:language>
  <cp:lastModifiedBy>User</cp:lastModifiedBy>
  <dcterms:modified xsi:type="dcterms:W3CDTF">2019-10-15T12:32:40Z</dcterms:modified>
  <cp:revision>22</cp:revision>
  <dc:subject/>
  <dc:title>Настольный теннис</dc:title>
</cp:coreProperties>
</file>