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528-00B5-4F0B-AFED-4F0C85D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635-72E7-4ABE-868D-8F84DC6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6F0-92D0-4DD7-BB24-24ED4552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8B0-2FA8-47C1-83A3-B057B8B9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0D3-5E89-4706-9C82-8126473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21B-E1F5-4BCF-A41E-A33DA3A8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3E5-EAE4-4081-B8DD-76E9C3C2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E60-EACE-432E-A9AF-D185B4A2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9A3-53C9-4666-802C-376BB0A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2A4-44A5-4EAE-B8E3-5739E46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160-B471-4BBB-BFED-CE05F126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1B2-1632-4038-8342-9407F67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D79B-2EFB-4469-94B2-9595DEAF0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648800" y="1557360"/>
            <a:ext cx="61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ые памя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-252360" y="22050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82160" y="5445000"/>
            <a:ext cx="23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ш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Users\РиК\Desktop\памятники\vodovos-spb.jpg"/>
          <p:cNvPicPr/>
          <p:nvPr/>
        </p:nvPicPr>
        <p:blipFill>
          <a:blip r:embed="rId1"/>
          <a:stretch/>
        </p:blipFill>
        <p:spPr>
          <a:xfrm>
            <a:off x="1619280" y="2060640"/>
            <a:ext cx="5898960" cy="39304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900000" y="260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ЕТЕРБУРГСКОМУ ВОДОВ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755640" y="836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до середины восемнадцатого века вопрос снабжения водой решался довольно примитивным способом – простой доставкой воды в бочк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24000" y="6027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 времена популярностью пользовалась незамысловатая профессия водов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0" y="364500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8 году император Александр II подписывает устав Санкт-Петербургского акционерного общества водопроводов. И уже через 5 лет, напротив Таврического дворца, на улице Шпалерной вблизи дома 56 появляется первая водонапорная башня Санкт-Петербу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03 года рядом с водонапорной башней, располагается памятник петербургскому водовозу, символизируя ушедшую в прошлое тяжелую професси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s-pb.in/images/stories/pamyatniki/personazhi/vodovoz2.jpg"/>
          <p:cNvPicPr/>
          <p:nvPr/>
        </p:nvPicPr>
        <p:blipFill>
          <a:blip r:embed="rId1"/>
          <a:stretch/>
        </p:blipFill>
        <p:spPr>
          <a:xfrm>
            <a:off x="468360" y="33336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457200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лицам, покрытым булыжником, водовозы тянули свои деревянные бочки на двухколесных повозках. В те времена вода в реках еще была чистая, что позволяло ее использовать в хозяйстве. Из рек и брали воду, а потом доставляли по город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4"/>
          <p:cNvSpPr/>
          <p:nvPr/>
        </p:nvSpPr>
        <p:spPr>
          <a:xfrm>
            <a:off x="4211640" y="19638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благодаря работам Карла Карловича, мы можем увидеть, как на самом деле выгляд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Толстой или Николай ІІ, представить себе Петербург той поры, увидеть реальные снимки, сделанные на фронтах русско-японской войны. Благодаря таким работам, этого питерского фотографа считают родоначальником жанра фоторепортаж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3780000" y="47628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й костюм, котелок, аккуратные усики – перед нами с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 Карлович Бул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менитый питерский фотогра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РиК\Desktop\памятники\81_big.jpg"/>
          <p:cNvPicPr/>
          <p:nvPr/>
        </p:nvPicPr>
        <p:blipFill>
          <a:blip r:embed="rId1"/>
          <a:stretch/>
        </p:blipFill>
        <p:spPr>
          <a:xfrm>
            <a:off x="395280" y="1844640"/>
            <a:ext cx="3529080" cy="4705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1"/>
          <p:cNvSpPr/>
          <p:nvPr/>
        </p:nvSpPr>
        <p:spPr>
          <a:xfrm>
            <a:off x="14040" y="260280"/>
            <a:ext cx="51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ЕТЕРБУРГ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4211640" y="3573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ора Б.Петр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ой Садовой улиц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подалеку от места, где находилась знаменитая мастерская Карла Карловича Бул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РиК\Desktop\памятники\2575843336.jpg"/>
          <p:cNvPicPr/>
          <p:nvPr/>
        </p:nvPicPr>
        <p:blipFill>
          <a:blip r:embed="rId1"/>
          <a:stretch/>
        </p:blipFill>
        <p:spPr>
          <a:xfrm>
            <a:off x="395280" y="476280"/>
            <a:ext cx="3152880" cy="5905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140360" y="333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овый джентльмен защищает свою камеру на треноге от солнца при помощи куполообразного зонта. Снизу ее охраняет добродушный на вид бульдог с длинным высунутым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427640" y="162864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 площади Островского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стретить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Двор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века - дань ув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 этой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430200" y="508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 олицетворяет дворника XIX века. В то время эта профессия была весьма почетна. Дворники не только следили за порядком на ввереной им территории, но и охраняли дом и помогали город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РиК\Desktop\памятники\96194.jpeg"/>
          <p:cNvPicPr/>
          <p:nvPr/>
        </p:nvPicPr>
        <p:blipFill>
          <a:blip r:embed="rId1"/>
          <a:stretch/>
        </p:blipFill>
        <p:spPr>
          <a:xfrm>
            <a:off x="468360" y="404640"/>
            <a:ext cx="3789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620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такого дворника и изобразил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Нейм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мону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 в 200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тный страж чист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рядка взирает на г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ты двух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РиК\Desktop\памятники\pamyatnik-dvorniku-v-spb-2.jpg"/>
          <p:cNvPicPr/>
          <p:nvPr/>
        </p:nvPicPr>
        <p:blipFill>
          <a:blip r:embed="rId1"/>
          <a:stretch/>
        </p:blipFill>
        <p:spPr>
          <a:xfrm>
            <a:off x="4211640" y="692280"/>
            <a:ext cx="4705200" cy="3528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1042920" y="450864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ость питерского дворника не имеет своего конкретного прототипа. Образ собирательный. Лицо и статная фигура русского мужика передает силу, трудолюбие и аккуратность людей этой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:\Users\РиК\Desktop\памятники\fonarwik.jpg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388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179280" y="46530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установлен на Одесской улице. Скульптура появилась здесь не случайно — 11 июля 1873 года на этой улице были проведены первые опыты электрического освещения, и был зажжен первый электрический фонарь. В честь этого события на стене дома установлена памятная табли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502360" y="1890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ФОНАРЩ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0" y="260280"/>
            <a:ext cx="475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1718 года количество светильников увеличивается до полутысячи единиц. Чтобы зажигать их регулярно понадобились специальные люди. Так и появилась должность фонарщика. В его обязанности входило зажечь их вечером, а утром погасить. Кроме того приходилось заправлять их маслом. Лишь позднее стали использоваться газовые свети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амят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оры — Б. Серге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. Панкрат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 - В. Л. Спирид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РиК\Desktop\памятники\gallery-landmark-586-47c5.jpg"/>
          <p:cNvPicPr/>
          <p:nvPr/>
        </p:nvPicPr>
        <p:blipFill>
          <a:blip r:embed="rId1"/>
          <a:stretch/>
        </p:blipFill>
        <p:spPr>
          <a:xfrm>
            <a:off x="4643280" y="549360"/>
            <a:ext cx="4176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0920" y="17208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славится на весь мир своим культурным и историческим наследием, множеством музеев и старинных зданий великолепной архитектуры. Но почти ежегодно список городских достопримечательностей пополняется новыми неформальными памятниками и скульптурами. Историки и искусствоведы не всегда приветствуют такие новинки, а вот и горожане, и приезжие любят и частенько навещают эти новые символы любимого горо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356000" y="126828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Петропавловской крепостью, на Заячьем острове -там, где зародился сам город, установлена фигурка зайчика. Он сидит на одной из св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Иоанновского моста, соединяющего остров с Петроградской сторо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оявился зд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-м году как воплощение Петербургских легенд о зарождении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РиК\Desktop\памятники\101407399_2222299_zaichik.jpg"/>
          <p:cNvPicPr/>
          <p:nvPr/>
        </p:nvPicPr>
        <p:blipFill>
          <a:blip r:embed="rId1"/>
          <a:stretch/>
        </p:blipFill>
        <p:spPr>
          <a:xfrm>
            <a:off x="250920" y="765000"/>
            <a:ext cx="4140000" cy="5519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25892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, СПАСШИЙСЯ ОТ 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68360" y="4581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, более реалистичная, легенда гласит, что Петр выбрал для основания города остров, который назывался Енисаа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воде с финского это и означает «Заячий остр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: С.Я. Петченко, скульптор: В. А. Петрович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500720" y="76500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й из легенд, выбирая место для закл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Петр вышел из ло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тров.  В тот же мо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пог ему, спасаясь от наводнения, прыгнул маленький зайчик. Заяц спасся, а сам случай дал название остр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РиК\Desktop\памятники\102334665.jpg"/>
          <p:cNvPicPr/>
          <p:nvPr/>
        </p:nvPicPr>
        <p:blipFill>
          <a:blip r:embed="rId1"/>
          <a:stretch/>
        </p:blipFill>
        <p:spPr>
          <a:xfrm>
            <a:off x="324000" y="98100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Петербургский ангел.jpg"/>
          <p:cNvPicPr/>
          <p:nvPr/>
        </p:nvPicPr>
        <p:blipFill>
          <a:blip r:embed="rId1"/>
          <a:stretch/>
        </p:blipFill>
        <p:spPr>
          <a:xfrm>
            <a:off x="468360" y="620640"/>
            <a:ext cx="3530520" cy="5321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4284720" y="62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СКИЙ АНГЕЛ В ИЗМАЙЛОВ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284720" y="1628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кульптура совсем не похожа на общепринятое изображение ангелов. Его обличье скромное, одет он неприметно – старенькое пальто, поношенная шляпка и шарф, и только два крыла за спиной говорят о том, что перед нами ангел. Склонив голову, этот скромный дедушка читает книгу. Гости, приходящие к ангелу, оставляют ему монетку. А он всем улыбается и желает сча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395280" y="404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таким образ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кульптуры Роман Шустр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 передать изображение человека, на чью судьбу выпали тяжелые испытания: война, блокада. По словам самого автора, он воплотил образ тех старичков, которые любили выйти во дворик с книжкой и насладиться тихим осенним спокойным вечером, имея при этом в своей памяти страшные годы войны. Они пережили это все и воссоздали Петербург из ру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spbinteres.ru/wp-content/uploads/2017/01/7e40309b85f3a34e42dd500a0ef25ac1.jpg"/>
          <p:cNvPicPr/>
          <p:nvPr/>
        </p:nvPicPr>
        <p:blipFill>
          <a:blip r:embed="rId1"/>
          <a:stretch/>
        </p:blipFill>
        <p:spPr>
          <a:xfrm>
            <a:off x="5292720" y="907920"/>
            <a:ext cx="3382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:\Users\РиК\Desktop\памятники\uchitel_b.jpg"/>
          <p:cNvPicPr/>
          <p:nvPr/>
        </p:nvPicPr>
        <p:blipFill>
          <a:blip r:embed="rId1"/>
          <a:stretch/>
        </p:blipFill>
        <p:spPr>
          <a:xfrm>
            <a:off x="250920" y="404640"/>
            <a:ext cx="4429080" cy="5904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859280" y="2349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ая книга, женские руки, направленные к небу и четыре молодые птицы, взмывающие ввысь - так выглядит памятник учителю, возвышающий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сечени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ой и Уши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022080" y="69228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611280" y="4292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символизируют вечный педагогический труд и попечение, птицы — подрастающее покол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ее путевку во взрослую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памятни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Гуля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урочили открытие памя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Дню Учителя 5 октября 2010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РиК\Desktop\памятники\full.jpg"/>
          <p:cNvPicPr/>
          <p:nvPr/>
        </p:nvPicPr>
        <p:blipFill>
          <a:blip r:embed="rId1"/>
          <a:stretch/>
        </p:blipFill>
        <p:spPr>
          <a:xfrm>
            <a:off x="1763640" y="260280"/>
            <a:ext cx="58327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539640" y="4292640"/>
            <a:ext cx="819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, практически неприметная издал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овая фигурка Чижика-Пыж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влекает множество зевак и туристов на Фонтанку. Эта симпатичная птичка, кстати, 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маленьким памятником в ми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её высота всего 11 сантиметров! Она гарантирует премии и выигрыши тем, кто попадёт по её клюву монет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РиК\Desktop\памятники\pamyatnik-chizhiku-pizhiku-1.jpg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3430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1763640" y="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ИКУ-ПЫЖ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-468360" y="3811680"/>
            <a:ext cx="979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5 году на реке Фонтанке построил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ище правове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воспитанники нос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необычную форму, выполненную в желто-зеле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ах, а зимой это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 дополнялся пыжи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к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 это их и прозвали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жики-пыж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чему появление бронзовой птички на набереж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имволич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353240" y="2781360"/>
            <a:ext cx="39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 памя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необычн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4615909.jpg"/>
          <p:cNvPicPr/>
          <p:nvPr/>
        </p:nvPicPr>
        <p:blipFill>
          <a:blip r:embed="rId1"/>
          <a:stretch/>
        </p:blipFill>
        <p:spPr>
          <a:xfrm>
            <a:off x="5364000" y="260280"/>
            <a:ext cx="3529080" cy="2803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4040" y="556920"/>
            <a:ext cx="526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памятника принад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ю А. Бутову, а воплотили 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знь грузинский  скульп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ер и сценарис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 Габриад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рхитекто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чеслав Бух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4T13:18:16Z</dcterms:created>
  <dc:creator>ИРИША</dc:creator>
  <dc:description/>
  <dc:language>en-US</dc:language>
  <cp:lastModifiedBy>ira</cp:lastModifiedBy>
  <dcterms:modified xsi:type="dcterms:W3CDTF">2019-10-15T18:13:00Z</dcterms:modified>
  <cp:revision>24</cp:revision>
  <dc:subject/>
  <dc:title>Слайд 1</dc:title>
</cp:coreProperties>
</file>