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20F6-567D-4F93-98E3-998A5522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5554-82F3-4BA5-A42D-0F532677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8E06-B5D8-4604-B0B8-FAD6AFE1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492C-E1B1-45C1-99B3-5A46C9BDF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9780-0DE2-441C-9A1F-92E17687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50A3-70FA-47B2-9E06-727F4C84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D168-D47A-4DB4-8F3B-BF4003C4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219C-3682-4F8D-9D24-D06D5ED0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A057-A9CF-4F03-8241-82D19105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C3E1-CC26-4DE7-A89C-BB4CC7BC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3432-7459-48BA-A04F-F888B297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A05D-467F-44D7-8926-9F1C7D43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4087-88B3-4F34-922F-50515B339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3822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. Кого считать одаренным?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. какие методы следует использовать для выявления и развития одаренности?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. какую помощь одаренному ребенку могут оказать специалисты ДОО?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ыделяются две практические проблемы: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) специальное обучение и воспитание одаренных детей;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) работа по развитию интеллектуально-творческого потенциала каждого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отборе методов и приемов работы учитываются следующ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нципы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ложнения содержания за счет углубления и большей абстрактности предлагаемого материа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сутствие, а иногда и доминирование дивергентных задач над конвергентны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минирование развивающих возможностей материала над его информационной насыщенност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ет познавательных интересов и потребностей ребе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четание уровня развития продуктивного мышления с навыками его практического исполь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ксимальное расширение круга интересов ребе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оме того выделяются 3 компонента програм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вательный: освоение определенного круга зна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ятельностный: исследовательская деятельность (наблюдение, экспериментирование, развитие дивергентного мышлени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муникативный:  развитие позитивной  и адекватной Я-концепции , навыков общения и межличностного взаимоде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овная образовательная задача состоит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еспечении и  совершенствовании творческих способ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тимизац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зовательног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роцесса достигается не за счет увеличения объема знаний и количества занятий, а за сче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носа внимания с содержания обучения на его сред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грирования разных видов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ование таких методов и технологий,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делирование ситуаций, детского экспериментирования, проектной и исследовательск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видуально-личностного общения с ребен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дошкольный период в первую очередь складываются способности в области наглядно-образного мышления и вообра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 этой причине центральное место в обучении детей занимае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ормирование умения создавать и использовать образы, передающие общее строение предметов, соотношение их основных признаков или ча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пособность к такому моделированию обнаруживается, когда ребено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здает в уме план будущей игры, сказки, постройки, рисун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страивает образ предмета по одной из его важных частей или одному из значимых призна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же у детей развиваются способности, необходимые для решения логических задач, требующих отвлечения от видимых различий предметов и учета смысловых отно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этого нуж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 выделять и обозначать словесно существенные свойства, отношения между ними и механизм их действия, например, пересказывание сказок с помощью наглядных мод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ыполнении таких творческих заданий дет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бирают условные заместители к персонажам и основным предметам сказ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ляют наглядные модели и с их помощью пересказывают сказки (в старшей группе - вместе, в подготовительной к школе - индивидуальн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им направлением работы, в которой дети с ярко выражен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ями успешно проявляют большую самостоятельность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ставление планов игр-драматизаций по сказ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распределяют роли, договариваются об организации игровой площадки, условно обозначенных персонажах, декорациях и располагают условные обозначения на площад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жнение заданий выражается в детализации воображаем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туаци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придумывают детальные описания предметов и ситуаций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се дорисовывания схематических изображений, используя модел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продолжают незаконченные истории, придумывают новые эпизод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чиняют новые сказ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делирование используется при реализации разделов программы и разных зада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иентировка по схеме, карте в помещении и город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владение логическими отношениями сериации и классифика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ение конструкц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владение связями, зависимостями, существующими в живой природе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бражение предметов, явлений, событий, в которых выделены и представлены в обобщенном и схематизированном виде основные отношения их компонентов, обозначенных при помощи условных заместит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аботе с родителями целью явля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азание помощи родителям в поиске путей решения проблем, часто встречающихся при воспитании одарённого ребён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й тематикой являются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Психосоциальные особенности развития одарённого ребёнка», «Влияние стилей детско-родительских отношений на его развитие», «Роль понимания взрослыми одарённости», «Ступени становления детской одарённости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ми работы с родителями одарённых детей являю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седы и семинары,  деловые игры, тренинговые занятия, индивидуальные консультац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необходимо сдел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рганизовать эффективное взаимодействие детей, родителей и педагогов, основанных на признании уникальности и самоценности личности каждого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Выявлять одаренных детей и развивать  их общие и специальные способности в условиях детского сада и социокультурного пространства го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Развивать одаренность и поддерживать детскую инициати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Проведение методических объединений, мастер классов, позиционных семинаров и других традиционных и новых форм методической поддержки педаг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Накопление педагогами практического материала для  профессиональной деятельности в дошкольном образовательном учрежд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нципы и методы выявления одаренных дет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комплексный характер оценивания разных сторон поведения и деятельности ребенка, что позволит использовать различные источник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формации и охватить как можно более широкий спектр его способносте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длительность идентификации (развернутое во времени наблюдение за поведением данного ребенка в разных ситуациях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анализ поведения ребенка в тех сферах деятельности, которые в максимальной мере соответствуют его склонностям и интереса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мнению ученых, количество одаренных детей возрастает с каждым годом, что обуславливает необходимость поиска эффективных подходов к выявлению таких детей в ДОУ, развитии и коррекции одарен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аким образом, работа с одаренными детьми не является частной задачей, направленной на обучение и воспитание только части (2-5 % одаренных) детей, а касается всей системы дошкольного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использование тренинговых методов, в рамках которых можно организовывать определенные развивающие влияния, снимать типичные д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нного ребенка психологические «преграды» и т.п.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одключение к оценке одаренного ребенка экспертов; специалистов в соответствующей предметной обл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ятель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оценка признаков одаренности ребенка не только по отношению к актуальному уровню его психического развития, но и с учетом зо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ижайшего развит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преимущественная опора на «экологические» методы психодиагностики, имеющие дело с оценкой реального поведения ребенка в реальной ситуац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акие, как анализ продуктов деятельности, наблюдение, беседа, эксперт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ценки педагогов и родителей, естественный эксперимен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нципы психолого-педагогического сопровождения одаренных дет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прерывность сопровождения развития одаренного ребе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знание уникальности ребенка, исключающее усреднение, сравнение одного ребенка с други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режное отношение к психическому миру ребенка, его потребностям, особенностям субъективного отношения к миру и к самому себ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щита интересов ребе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дивидуальный путь развития ребе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ет специфики возрастного и индивидуального разви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нцип диалогич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нцип личностно-ориентировочного подхода к ребен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нцип построения развивающей работы на основе диагнос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определения одаренности использу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ика Е.Торренс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ж. Брунера, Л.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нгер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И Савенко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же используются методики изучения  тревожност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.Амена; М. Дорки; Р Тэммела, Р. Сирса, шкала детских способностей Маккарти, шкала интеллекта Станфонда-Б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деляются следующие качества, необходимые педагогу для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боты с одарёнными детьм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2856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етические знания по вопросу одарён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практического опы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итивная Я-концеп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еустремлённость и настойчив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ессиональная зрелость (чёткое знание своих целей и задач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моциональная стаби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тк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еатив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новными задачами осуществления психолого-педагогического сопровождения одаренных детей являются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дбор и систематизация теоретического и практического материала для реализации основных направлений развития дет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работка структуры и содержания специальной развивающей среды, создающей условия для удовлетворения  познавательной потребности ребенка, как условия и компонента детской одарен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вышение компетентности родителей в вопросах поддержки детской инициатив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работка системы работы по формированию личностных качеств ребенка,  направленных на развитие интеллектуальных способност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работка и апробация педагогических подходов по выявлению одаренных детей на основе экспертной оцен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спользование данных мониторинга для разработки и коррекции индивидуального маршрута ребенка, с учетом особенностей проявления детской одаренности в детском саду и семь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сихолого-педагогические усилия следует направить на гармонизацию детско-родительских отношений. Советы родителям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Помните, что одаренность – уникальное целостное состояние личности ребенка. Внутренне согласитесь с его правом быть не как в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Старайтесь понять его поведение, оценивайте адекватно его поступ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Одаренность не должна использоваться как средство обеспечения престижа родителей. Не демонстрируйте без необходимости его способ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Не эксплуатируйте способности ребенка в ущерб его интересам и возрастным потребностям, предлагая информацию из разных областей знаний, не свойственных детям его возра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Обращайте внимание на физическое воспитание ребенка, помня, что интеллектуальный труд требует больших физических сил и 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Будьте терпимы к странным идеям и высказываниям ребенка, уважайте любопытство, вопросы и идеи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даренные дети в дошкольном возрасте – это дети, обладающие высоким творческим потенциалом, признаками которого выступа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ойкая познавательная мотив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знавательная  и исследовательская активность (обнаружение нового, постановка и решение проблем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ережение в развитие мышления и речи, быстрота и точность выполнения умственных опера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раженное стремление к творчеству в игре и в других видах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метная, ярко выраженная, устойчивая система интере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илу особого интеллектуального развития одаренном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бенк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сущи определенные поведенческие мод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ремление прервать собеседника, поправить его, нетерпимость к мнению други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монстрация собственных знаний и ум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сокая потребность во внимании взрослых (в силу природной любознательности и стремлению к познанию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зрастной эгоцентризм при толковании предметов и событий (проецирование собственного восприятия явлений и эмоционально-аффективная реакция на них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гружение в философские пробл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аренный ребенок всегда находится в группе психологического риска. Это значит, что, как правило, у нег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блемы в общении со сверстник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ышенная эмоциональная возбудим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делать педагогу, который воспитывает и обучает еще 30 «стандартно развивающихся» малышей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по-другому работать с ни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собы организации работы с одаренными детьми объединены в три груп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раздельное обучение – специальные образовательные учреждения для одаренных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совместно-раздельное – специальные группы для одаренных детей в традиционных ДО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совместное обучение – обучение в кругу «нормальных» сверс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есообразно проведение игр 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эмпат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ллектуальных игр, на логику мышл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ение художественной литературы, воспитывающей способность сочувствовать и пережива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ести дома «Книгу о …», в которую родители вместе с ребенком заносят новую и интересную информацию о том, что уже знает, что хочет узнать Сережа, список его любимых книг и мультфильмов, записи о хороших и добрых поступках ребе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дагогами составляются индивидуальные образовательные маршруты (ИОМ), индивидуальные образовательные траектории (ИОТ) детей с целью выбора оптимальных форм и методов работы с ребен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новной упор необходимо делать не на темп ускорения прохождения программы («стратегия ускорения»),  не на объем и интенсивность материала («стратегия интенсификации), а на методы усвоения знани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8T23:18:02Z</dcterms:created>
  <dc:creator>krasnov</dc:creator>
  <dc:description/>
  <dc:language>en-US</dc:language>
  <cp:lastModifiedBy>hehe</cp:lastModifiedBy>
  <dcterms:modified xsi:type="dcterms:W3CDTF">2017-04-17T13:36:56Z</dcterms:modified>
  <cp:revision>1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