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610-4796-4BDF-BBA9-864A3786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158-C7A1-4154-8590-8295E24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4FD-65CD-4FD3-8DCB-F8CF75CA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E76-F4AF-4232-A3B8-E30B6329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B36E-FC31-402A-B8EB-77ADF659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962A8-4781-4EBE-8623-65834BEA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583B0-9349-47E7-A0B3-ED55AC9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AABE8-B5E4-4010-AFF6-AB9F193F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06B1-819A-4979-BA45-13FF73E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81722-BFE2-45E0-BDDA-3F4F32B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8DEFB-C168-4C62-93AB-6CD20E77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C81-CA39-4261-99B2-1A3679CF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E26D6-A505-41B1-A7DA-2AB7D22C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861A-6467-4C5F-857C-CF56D38C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4FCAA-7C75-4F6D-A7A6-B203AE04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F72B8-027F-4404-BE66-ACA01EB2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BF59-0ABD-4568-BFC5-93BC6B7E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4BB-888C-4467-9AC6-67AC3A4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6ED-CFD0-428D-BADB-68A1B24F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CDF-4366-49BB-BE0E-72C88EC2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B63-0D76-4C5D-9B60-5062473A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A93-AA10-49EC-9788-6CBACE20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E23-5A67-453B-8C92-2BADF7F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9E1-80EB-4695-83C1-6515379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00F5-1659-4A69-B56C-D73E97CAC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B91E-9A32-4F14-861D-D9C12B2969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Tahoma"/>
              </a:rPr>
              <a:t>Урок биологии</a:t>
            </a:r>
            <a:br>
              <a:rPr sz="8000"/>
            </a:br>
            <a:r>
              <a:rPr b="1" lang="ru-RU" sz="8000" spc="-1" strike="noStrike">
                <a:solidFill>
                  <a:srgbClr val="000066"/>
                </a:solidFill>
                <a:latin typeface="Tahoma"/>
              </a:rPr>
              <a:t>5 класс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ЗОНА ОТКРЫТОЙ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981000"/>
          <a:ext cx="8713800" cy="5815080"/>
        </p:xfrm>
        <a:graphic>
          <a:graphicData uri="http://schemas.openxmlformats.org/drawingml/2006/table">
            <a:tbl>
              <a:tblPr/>
              <a:tblGrid>
                <a:gridCol w="3384360"/>
                <a:gridCol w="2521080"/>
                <a:gridCol w="280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ит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рудности зо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способле-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ельфины, акулы, тунцы – свободноплавающ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чки, медузы, одноклеточные водоросли, инфузории, личинки моллюсков – планкто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где спрятаться, необходи-мы приспо-собления для пла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текаемое тело, мощные мышцы, плавники – быстро плавают, мелкие, легкие, парящие, плавающ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ГЛУБОКОВОДН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844640"/>
          <a:ext cx="8964720" cy="4603680"/>
        </p:xfrm>
        <a:graphic>
          <a:graphicData uri="http://schemas.openxmlformats.org/drawingml/2006/table">
            <a:tbl>
              <a:tblPr/>
              <a:tblGrid>
                <a:gridCol w="2232000"/>
                <a:gridCol w="3370320"/>
                <a:gridCol w="336240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ит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рудности зо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ыба-удильщ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мно, нет растений, необходимы приспособления к жизни в темно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мная окраска тела, светящиеся части тела, приман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46560" y="-360"/>
            <a:ext cx="489744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- Почему обитатели мелководий открытой воды и глубоководной зоны имеют такой внешний вид, строение, поведение, образ жизни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- Где будут необходимы изученные зн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716360" y="3538440"/>
            <a:ext cx="4427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§23 «Жизнь организмов в морях и океанах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Подготовиться к тестированию по тем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539640" y="1773360"/>
            <a:ext cx="813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1" i="1" lang="ru-RU" sz="5400" spc="-1" strike="noStrike">
                <a:solidFill>
                  <a:srgbClr val="000066"/>
                </a:solidFill>
                <a:latin typeface="Tahoma"/>
              </a:rPr>
              <a:t>Где еще могут обитать растения и животные кроме материков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ahoma"/>
              </a:rPr>
              <a:t>ТЕМА УРОКА: «ЖИЗНЬ ОРГАНИЗМОВ В МОРЯХ  И ОКЕАНАХ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288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826920" y="3645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39640" y="400536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ЖИЗНЬ ОРГАНИЗМОВ В МОРЯХ  И ОКЕ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Жизнь в морях и океанах ¦ Биология 5 класс #22 ¦ Инфоурок.mp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5352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Прикрепленные  организмы</a:t>
            </a: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 – это организмы, которые прикрепляются к грунту, прирастают к камням и не способны передвигаться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0" t="10632" r="66990" b="49905"/>
          <a:stretch/>
        </p:blipFill>
        <p:spPr>
          <a:xfrm>
            <a:off x="6516720" y="0"/>
            <a:ext cx="2303280" cy="206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66428" t="9112" r="0" b="49905"/>
          <a:stretch/>
        </p:blipFill>
        <p:spPr>
          <a:xfrm>
            <a:off x="4788000" y="4437000"/>
            <a:ext cx="2448000" cy="224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rcRect l="33412" t="10632" r="33577" b="49905"/>
          <a:stretch/>
        </p:blipFill>
        <p:spPr>
          <a:xfrm>
            <a:off x="5508720" y="2133720"/>
            <a:ext cx="2519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360" y="476280"/>
            <a:ext cx="572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66"/>
                </a:solidFill>
                <a:latin typeface="Tahoma"/>
              </a:rPr>
              <a:t>Свободноплавающие организмы</a:t>
            </a:r>
            <a:r>
              <a:rPr b="0" lang="ru-RU" sz="3800" spc="-1" strike="noStrike">
                <a:solidFill>
                  <a:srgbClr val="000066"/>
                </a:solidFill>
                <a:latin typeface="Tahoma"/>
              </a:rPr>
              <a:t> – это организмы обладающие способностью плавать в открытой воде, имеющие обтекаемое тело и мощные мышцы, позволяющие развивать большую скорость движения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21625" r="50422" b="7852"/>
          <a:stretch/>
        </p:blipFill>
        <p:spPr>
          <a:xfrm>
            <a:off x="5508720" y="1341360"/>
            <a:ext cx="363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560" y="549360"/>
            <a:ext cx="4608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Планктон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 – парящие и плавающие в воде растительные и животные микроскопические организмы, не способные противостоять течению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49991" t="16113" r="425" b="6749"/>
          <a:stretch/>
        </p:blipFill>
        <p:spPr>
          <a:xfrm>
            <a:off x="4822920" y="1125360"/>
            <a:ext cx="432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ЗОНА МЕЛКОВОД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836640"/>
          <a:ext cx="8280360" cy="5378400"/>
        </p:xfrm>
        <a:graphic>
          <a:graphicData uri="http://schemas.openxmlformats.org/drawingml/2006/table">
            <a:tbl>
              <a:tblPr/>
              <a:tblGrid>
                <a:gridCol w="2320920"/>
                <a:gridCol w="2503440"/>
                <a:gridCol w="3456000"/>
              </a:tblGrid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ит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рудности зо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идии, устрицы, водоросли, конек-тряпичник, пескожил, скат, камб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бойная волна, приливы, отливы, морские птицы; необходи-мость удержаться, скрыть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лейкие нити, прирастают – это прикрепленные организмы, зарываются в песок, имеют плоское тело окрашенное под цвет грунта - незамет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9T19:31:56Z</dcterms:created>
  <dc:creator>User</dc:creator>
  <dc:description/>
  <dc:language>en-US</dc:language>
  <cp:lastModifiedBy>Zverdvd.org</cp:lastModifiedBy>
  <dcterms:modified xsi:type="dcterms:W3CDTF">2019-04-15T12:07:56Z</dcterms:modified>
  <cp:revision>8</cp:revision>
  <dc:subject/>
  <dc:title>Урок биологии  5 класс</dc:title>
</cp:coreProperties>
</file>