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46.png" ContentType="image/png"/>
  <Override PartName="/ppt/media/image35.png" ContentType="image/png"/>
  <Override PartName="/ppt/media/image47.png" ContentType="image/png"/>
  <Override PartName="/ppt/media/image7.wmf" ContentType="image/x-wmf"/>
  <Override PartName="/ppt/media/image48.png" ContentType="image/png"/>
  <Override PartName="/ppt/media/image8.wmf" ContentType="image/x-wmf"/>
  <Override PartName="/ppt/media/image13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332-AA61-4DF6-954E-8D92F2BAB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30A-5561-4A7B-9377-CB3384C729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E4E-6DF0-4575-B8D4-2720637F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D22-44E7-40FE-AAF6-6BCFCFB6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7DE-3F3B-4AC0-848F-0BF9590C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718-E7E7-45B3-954D-E7F24EAB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4E5-5499-4DC2-982B-E534ECAA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98F-3B13-457A-B13E-4592284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077-F2F4-454B-9D20-C90F874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805-26C8-4C0C-B08A-82CEE6AB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102-00C4-435A-BDFC-ACB4C660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B01-E3B9-4415-906E-81C6F49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BDC-CA97-4809-A766-2E8BF5A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7AF-3C64-43CD-BD33-8966D4F1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878E-C85A-4717-A649-EC33143E19E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image" Target="../media/image21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image" Target="../media/image3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image" Target="../media/image3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2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www.livegif.ru/archive/weather/90_1.html" TargetMode="External"/><Relationship Id="rId3" Type="http://schemas.openxmlformats.org/officeDocument/2006/relationships/hyperlink" Target="http://www.livegif.ru/archive/the_best/11_6.html" TargetMode="External"/><Relationship Id="rId4" Type="http://schemas.openxmlformats.org/officeDocument/2006/relationships/hyperlink" Target="http://www.allforchildren.ru/pictures/school/school10-01.gif" TargetMode="External"/><Relationship Id="rId5" Type="http://schemas.openxmlformats.org/officeDocument/2006/relationships/hyperlink" Target="http://www.allforchildren.ru/pictures/school/school19-04.gif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-2* (54-129)=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(31-12)*(32-62)=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(63-84) : (14-21)=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(87-68-22) : 3 =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) 32-41+54-73=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16- 13*5) =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21 +56:7 =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7- (-31+4) =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31840" y="4425840"/>
            <a:ext cx="8229600" cy="1951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авильно!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ы видим две прямые, которые пересекаются под прямым угло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Прямая соединительная линия 3"/>
          <p:cNvSpPr/>
          <p:nvPr/>
        </p:nvSpPr>
        <p:spPr>
          <a:xfrm flipH="1">
            <a:off x="4572000" y="205740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ая соединительная линия 4"/>
          <p:cNvSpPr/>
          <p:nvPr/>
        </p:nvSpPr>
        <p:spPr>
          <a:xfrm>
            <a:off x="1828800" y="3048120"/>
            <a:ext cx="533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5"/>
          <p:cNvSpPr/>
          <p:nvPr/>
        </p:nvSpPr>
        <p:spPr>
          <a:xfrm>
            <a:off x="4572000" y="2743200"/>
            <a:ext cx="30492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 flipV="1">
            <a:off x="4876920" y="2742840"/>
            <a:ext cx="144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4724280" y="1600200"/>
          <a:ext cx="44928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6002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7315200" y="2438280"/>
          <a:ext cx="449280" cy="4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24382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4"/>
          <p:cNvGraphicFramePr/>
          <p:nvPr/>
        </p:nvGraphicFramePr>
        <p:xfrm>
          <a:off x="2209680" y="2438280"/>
          <a:ext cx="449280" cy="53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24382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5"/>
          <p:cNvGraphicFramePr/>
          <p:nvPr/>
        </p:nvGraphicFramePr>
        <p:xfrm>
          <a:off x="4648320" y="4114800"/>
          <a:ext cx="52380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41148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Рисунок 11" descr="Угольник.png"/>
          <p:cNvPicPr/>
          <p:nvPr/>
        </p:nvPicPr>
        <p:blipFill>
          <a:blip r:embed="rId10"/>
          <a:stretch/>
        </p:blipFill>
        <p:spPr>
          <a:xfrm>
            <a:off x="4572000" y="3048120"/>
            <a:ext cx="2247840" cy="1485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2" descr="Угольник.png"/>
          <p:cNvPicPr/>
          <p:nvPr/>
        </p:nvPicPr>
        <p:blipFill>
          <a:blip r:embed="rId11"/>
          <a:stretch/>
        </p:blipFill>
        <p:spPr>
          <a:xfrm>
            <a:off x="4572000" y="838080"/>
            <a:ext cx="1486080" cy="22482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3" descr="Угольник.png"/>
          <p:cNvPicPr/>
          <p:nvPr/>
        </p:nvPicPr>
        <p:blipFill>
          <a:blip r:embed="rId12"/>
          <a:stretch/>
        </p:blipFill>
        <p:spPr>
          <a:xfrm>
            <a:off x="2362320" y="1600200"/>
            <a:ext cx="2247840" cy="14860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4" descr="Угольник.png"/>
          <p:cNvPicPr/>
          <p:nvPr/>
        </p:nvPicPr>
        <p:blipFill>
          <a:blip r:embed="rId13"/>
          <a:stretch/>
        </p:blipFill>
        <p:spPr>
          <a:xfrm>
            <a:off x="3124080" y="3048120"/>
            <a:ext cx="148608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сывают: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Д        СВ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Прямая соединительная линия 3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Object 3"/>
          <p:cNvGraphicFramePr/>
          <p:nvPr/>
        </p:nvGraphicFramePr>
        <p:xfrm>
          <a:off x="5257800" y="91440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9144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7620120" y="26668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Прямая соединительная линия 6"/>
          <p:cNvSpPr/>
          <p:nvPr/>
        </p:nvSpPr>
        <p:spPr>
          <a:xfrm flipV="1">
            <a:off x="4266360" y="495252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>
            <a:off x="5105520" y="2209680"/>
            <a:ext cx="30456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4495680" y="2590920"/>
          <a:ext cx="4492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25909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Прямая соединительная линия 9"/>
          <p:cNvSpPr/>
          <p:nvPr/>
        </p:nvSpPr>
        <p:spPr>
          <a:xfrm>
            <a:off x="2438280" y="2514600"/>
            <a:ext cx="533412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Object 5"/>
          <p:cNvGraphicFramePr/>
          <p:nvPr/>
        </p:nvGraphicFramePr>
        <p:xfrm>
          <a:off x="2209680" y="2666880"/>
          <a:ext cx="4492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26668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6"/>
          <p:cNvGraphicFramePr/>
          <p:nvPr/>
        </p:nvGraphicFramePr>
        <p:xfrm>
          <a:off x="5334120" y="3657600"/>
          <a:ext cx="52380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36576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Прямая соединительная линия 12"/>
          <p:cNvSpPr/>
          <p:nvPr/>
        </p:nvSpPr>
        <p:spPr>
          <a:xfrm flipV="1">
            <a:off x="5409360" y="2209320"/>
            <a:ext cx="18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ая соединительная линия 13"/>
          <p:cNvSpPr/>
          <p:nvPr/>
        </p:nvSpPr>
        <p:spPr>
          <a:xfrm>
            <a:off x="3962520" y="525780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ОСАГО002.jpg"/>
          <p:cNvPicPr/>
          <p:nvPr/>
        </p:nvPicPr>
        <p:blipFill>
          <a:blip r:embed="rId1"/>
          <a:stretch/>
        </p:blipFill>
        <p:spPr>
          <a:xfrm>
            <a:off x="533520" y="1371600"/>
            <a:ext cx="3430440" cy="51832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4419720" y="1066680"/>
            <a:ext cx="426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лово «перпендикулярные» появилось от латинского слова «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perpendicularis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», означающий ОТВЕ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8604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ая соединительная линия 5"/>
          <p:cNvSpPr/>
          <p:nvPr/>
        </p:nvSpPr>
        <p:spPr>
          <a:xfrm flipV="1">
            <a:off x="2437560" y="2437920"/>
            <a:ext cx="3048120" cy="44197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ая соединительная линия 7"/>
          <p:cNvSpPr/>
          <p:nvPr/>
        </p:nvSpPr>
        <p:spPr>
          <a:xfrm flipH="1">
            <a:off x="914400" y="2362320"/>
            <a:ext cx="1440" cy="41907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ая соединительная линия 8"/>
          <p:cNvSpPr/>
          <p:nvPr/>
        </p:nvSpPr>
        <p:spPr>
          <a:xfrm>
            <a:off x="3124080" y="1523880"/>
            <a:ext cx="4114800" cy="28195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 flipH="1">
            <a:off x="7846560" y="3735360"/>
            <a:ext cx="3240" cy="2743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17"/>
          <p:cNvSpPr/>
          <p:nvPr/>
        </p:nvSpPr>
        <p:spPr>
          <a:xfrm>
            <a:off x="2666880" y="5029200"/>
            <a:ext cx="50292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1143000" y="2666880"/>
          <a:ext cx="5526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666880"/>
                    <a:ext cx="55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3"/>
          <p:cNvGraphicFramePr/>
          <p:nvPr/>
        </p:nvGraphicFramePr>
        <p:xfrm>
          <a:off x="8207280" y="4121280"/>
          <a:ext cx="49860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07280" y="4121280"/>
                    <a:ext cx="498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4"/>
          <p:cNvGraphicFramePr/>
          <p:nvPr/>
        </p:nvGraphicFramePr>
        <p:xfrm>
          <a:off x="3200400" y="1822320"/>
          <a:ext cx="552600" cy="77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1822320"/>
                    <a:ext cx="552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5"/>
          <p:cNvGraphicFramePr/>
          <p:nvPr/>
        </p:nvGraphicFramePr>
        <p:xfrm>
          <a:off x="2133720" y="5638680"/>
          <a:ext cx="496800" cy="60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638680"/>
                    <a:ext cx="496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6"/>
          <p:cNvGraphicFramePr/>
          <p:nvPr/>
        </p:nvGraphicFramePr>
        <p:xfrm>
          <a:off x="5257800" y="5105520"/>
          <a:ext cx="608040" cy="77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5105520"/>
                    <a:ext cx="608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Рисунок 32" descr="Угольник.png"/>
          <p:cNvPicPr/>
          <p:nvPr/>
        </p:nvPicPr>
        <p:blipFill>
          <a:blip r:embed="rId12"/>
          <a:stretch/>
        </p:blipFill>
        <p:spPr>
          <a:xfrm flipH="1" rot="12811200">
            <a:off x="4373280" y="3122280"/>
            <a:ext cx="1485720" cy="220968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4" descr="Угольник.png"/>
          <p:cNvPicPr/>
          <p:nvPr/>
        </p:nvPicPr>
        <p:blipFill>
          <a:blip r:embed="rId13"/>
          <a:stretch/>
        </p:blipFill>
        <p:spPr>
          <a:xfrm>
            <a:off x="5638680" y="5029200"/>
            <a:ext cx="2210040" cy="14860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5" descr="Угольник.png"/>
          <p:cNvPicPr/>
          <p:nvPr/>
        </p:nvPicPr>
        <p:blipFill>
          <a:blip r:embed="rId14"/>
          <a:stretch/>
        </p:blipFill>
        <p:spPr>
          <a:xfrm>
            <a:off x="914400" y="34290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8604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ая соединительная линия 17"/>
          <p:cNvSpPr/>
          <p:nvPr/>
        </p:nvSpPr>
        <p:spPr>
          <a:xfrm>
            <a:off x="2819520" y="4572000"/>
            <a:ext cx="5105160" cy="7621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724280" y="5257800"/>
          <a:ext cx="5526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5257800"/>
                    <a:ext cx="55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Рисунок 35" descr="Угольник.png"/>
          <p:cNvPicPr/>
          <p:nvPr/>
        </p:nvPicPr>
        <p:blipFill>
          <a:blip r:embed="rId4"/>
          <a:stretch/>
        </p:blipFill>
        <p:spPr>
          <a:xfrm flipH="1" rot="5891400">
            <a:off x="5332320" y="2084040"/>
            <a:ext cx="2476440" cy="36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7"/>
          <p:cNvGraphicFramePr/>
          <p:nvPr/>
        </p:nvGraphicFramePr>
        <p:xfrm>
          <a:off x="4343400" y="2438280"/>
          <a:ext cx="4492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4382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Овал 19"/>
          <p:cNvSpPr/>
          <p:nvPr/>
        </p:nvSpPr>
        <p:spPr>
          <a:xfrm>
            <a:off x="4800600" y="289548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6"/>
          <p:cNvSpPr/>
          <p:nvPr/>
        </p:nvSpPr>
        <p:spPr>
          <a:xfrm flipV="1">
            <a:off x="4343400" y="685440"/>
            <a:ext cx="838080" cy="6172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Group 13" descr=""/>
          <p:cNvPicPr/>
          <p:nvPr/>
        </p:nvPicPr>
        <p:blipFill>
          <a:blip r:embed="rId7"/>
          <a:stretch/>
        </p:blipFill>
        <p:spPr>
          <a:xfrm>
            <a:off x="1457280" y="2266920"/>
            <a:ext cx="1316160" cy="309708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13"/>
          <p:cNvSpPr/>
          <p:nvPr/>
        </p:nvSpPr>
        <p:spPr>
          <a:xfrm>
            <a:off x="380880" y="60199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Arial"/>
              </a:rPr>
              <a:t>Запись: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ая соединительная линия 15"/>
          <p:cNvSpPr/>
          <p:nvPr/>
        </p:nvSpPr>
        <p:spPr>
          <a:xfrm>
            <a:off x="2743200" y="6477120"/>
            <a:ext cx="60948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16"/>
          <p:cNvSpPr/>
          <p:nvPr/>
        </p:nvSpPr>
        <p:spPr>
          <a:xfrm flipV="1">
            <a:off x="3048120" y="6095520"/>
            <a:ext cx="0" cy="3812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Object 9"/>
          <p:cNvGraphicFramePr/>
          <p:nvPr/>
        </p:nvGraphicFramePr>
        <p:xfrm>
          <a:off x="3809880" y="4952880"/>
          <a:ext cx="44928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4952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Овал 23"/>
          <p:cNvSpPr/>
          <p:nvPr/>
        </p:nvSpPr>
        <p:spPr>
          <a:xfrm>
            <a:off x="4572000" y="4876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125 -2.96296E-006 C 0.18108 -2.96296E-006 0.25 0.0919 0.25 0.16667 L 0.27778 0.29005 E">
                                      <p:cBhvr>
                                        <p:cTn id="27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71 0.29885 L 0.29774 0.20093 L 0.35278 -0.31666 L 0.38108 -0.5412 E">
                                      <p:cBhvr>
                                        <p:cTn id="275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8604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ая соединительная линия 17"/>
          <p:cNvSpPr/>
          <p:nvPr/>
        </p:nvSpPr>
        <p:spPr>
          <a:xfrm>
            <a:off x="2819520" y="4572000"/>
            <a:ext cx="5105160" cy="7621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6324480" y="5181480"/>
          <a:ext cx="5526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181480"/>
                    <a:ext cx="55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Рисунок 35" descr="Угольник.png"/>
          <p:cNvPicPr/>
          <p:nvPr/>
        </p:nvPicPr>
        <p:blipFill>
          <a:blip r:embed="rId4"/>
          <a:stretch/>
        </p:blipFill>
        <p:spPr>
          <a:xfrm flipH="1" rot="5891400">
            <a:off x="5027400" y="2007720"/>
            <a:ext cx="2476440" cy="36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7"/>
          <p:cNvGraphicFramePr/>
          <p:nvPr/>
        </p:nvGraphicFramePr>
        <p:xfrm>
          <a:off x="3809880" y="4952880"/>
          <a:ext cx="4492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4952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Прямая соединительная линия 26"/>
          <p:cNvSpPr/>
          <p:nvPr/>
        </p:nvSpPr>
        <p:spPr>
          <a:xfrm flipV="1">
            <a:off x="4038480" y="685440"/>
            <a:ext cx="838440" cy="6172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Group 13" descr=""/>
          <p:cNvPicPr/>
          <p:nvPr/>
        </p:nvPicPr>
        <p:blipFill>
          <a:blip r:embed="rId7"/>
          <a:stretch/>
        </p:blipFill>
        <p:spPr>
          <a:xfrm>
            <a:off x="1457280" y="2266920"/>
            <a:ext cx="1316160" cy="309708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13"/>
          <p:cNvSpPr/>
          <p:nvPr/>
        </p:nvSpPr>
        <p:spPr>
          <a:xfrm>
            <a:off x="228600" y="60199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Arial"/>
              </a:rPr>
              <a:t>Запись: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15"/>
          <p:cNvSpPr/>
          <p:nvPr/>
        </p:nvSpPr>
        <p:spPr>
          <a:xfrm>
            <a:off x="2590920" y="6477120"/>
            <a:ext cx="60948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16"/>
          <p:cNvSpPr/>
          <p:nvPr/>
        </p:nvSpPr>
        <p:spPr>
          <a:xfrm flipV="1">
            <a:off x="2895480" y="6095520"/>
            <a:ext cx="0" cy="3812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4114800" y="1523880"/>
          <a:ext cx="44928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1523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Овал 23"/>
          <p:cNvSpPr/>
          <p:nvPr/>
        </p:nvSpPr>
        <p:spPr>
          <a:xfrm>
            <a:off x="4267080" y="48006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Овал 21"/>
          <p:cNvSpPr/>
          <p:nvPr/>
        </p:nvSpPr>
        <p:spPr>
          <a:xfrm>
            <a:off x="4648320" y="19051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125 1.11111E-006 C 0.18108 1.11111E-006 0.25 0.08148 0.25 0.14768 L 0.27778 0.25787 E">
                                      <p:cBhvr>
                                        <p:cTn id="34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777 0.29005 L 0.28194 0.19121 L 0.32743 -0.33055 L 0.35104 -0.55671 E">
                                      <p:cBhvr>
                                        <p:cTn id="34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76280" y="12600"/>
            <a:ext cx="8229600" cy="23464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ая соединительная линия 17"/>
          <p:cNvSpPr/>
          <p:nvPr/>
        </p:nvSpPr>
        <p:spPr>
          <a:xfrm flipV="1">
            <a:off x="304920" y="2666880"/>
            <a:ext cx="8534160" cy="3353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Object 7"/>
          <p:cNvGraphicFramePr/>
          <p:nvPr/>
        </p:nvGraphicFramePr>
        <p:xfrm>
          <a:off x="819000" y="5867280"/>
          <a:ext cx="4874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5867280"/>
                    <a:ext cx="487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4"/>
          <p:cNvGraphicFramePr/>
          <p:nvPr/>
        </p:nvGraphicFramePr>
        <p:xfrm>
          <a:off x="3505320" y="2286000"/>
          <a:ext cx="4492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28600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Овал 21"/>
          <p:cNvSpPr/>
          <p:nvPr/>
        </p:nvSpPr>
        <p:spPr>
          <a:xfrm>
            <a:off x="3276720" y="29718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Object 5"/>
          <p:cNvGraphicFramePr/>
          <p:nvPr/>
        </p:nvGraphicFramePr>
        <p:xfrm>
          <a:off x="2133720" y="5486400"/>
          <a:ext cx="44928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548640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8153280" y="3124080"/>
          <a:ext cx="60012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53280" y="3124080"/>
                    <a:ext cx="600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Овал 27"/>
          <p:cNvSpPr/>
          <p:nvPr/>
        </p:nvSpPr>
        <p:spPr>
          <a:xfrm>
            <a:off x="1905120" y="53341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Овал 28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Овал 29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Овал 31"/>
          <p:cNvSpPr/>
          <p:nvPr/>
        </p:nvSpPr>
        <p:spPr>
          <a:xfrm>
            <a:off x="838080" y="57150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Овал 32"/>
          <p:cNvSpPr/>
          <p:nvPr/>
        </p:nvSpPr>
        <p:spPr>
          <a:xfrm>
            <a:off x="8229600" y="2819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5257800" y="4095720"/>
          <a:ext cx="44928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4095720"/>
                    <a:ext cx="449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8"/>
          <p:cNvGraphicFramePr/>
          <p:nvPr/>
        </p:nvGraphicFramePr>
        <p:xfrm>
          <a:off x="7219800" y="4419720"/>
          <a:ext cx="48744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19800" y="4419720"/>
                    <a:ext cx="487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63680" y="311040"/>
            <a:ext cx="8229600" cy="17067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ая соединительная линия 5"/>
          <p:cNvSpPr/>
          <p:nvPr/>
        </p:nvSpPr>
        <p:spPr>
          <a:xfrm flipV="1">
            <a:off x="3733920" y="533520"/>
            <a:ext cx="2971800" cy="44956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8"/>
          <p:cNvSpPr/>
          <p:nvPr/>
        </p:nvSpPr>
        <p:spPr>
          <a:xfrm>
            <a:off x="3809880" y="609480"/>
            <a:ext cx="4114800" cy="2743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3124080" y="914400"/>
          <a:ext cx="5526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914400"/>
                    <a:ext cx="552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6"/>
          <p:cNvGraphicFramePr/>
          <p:nvPr/>
        </p:nvGraphicFramePr>
        <p:xfrm>
          <a:off x="6781680" y="609480"/>
          <a:ext cx="60804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609480"/>
                    <a:ext cx="608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Рисунок 32" descr="Угольник.png"/>
          <p:cNvPicPr/>
          <p:nvPr/>
        </p:nvPicPr>
        <p:blipFill>
          <a:blip r:embed="rId6"/>
          <a:stretch/>
        </p:blipFill>
        <p:spPr>
          <a:xfrm flipH="1" rot="18216600">
            <a:off x="3713040" y="811080"/>
            <a:ext cx="1485720" cy="22100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5"/>
          <p:cNvSpPr/>
          <p:nvPr/>
        </p:nvSpPr>
        <p:spPr>
          <a:xfrm>
            <a:off x="1029240" y="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f0000"/>
                </a:solidFill>
                <a:latin typeface="Times New Roman"/>
              </a:rPr>
              <a:t>Перпендикулярные отрезки и 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16"/>
          <p:cNvSpPr/>
          <p:nvPr/>
        </p:nvSpPr>
        <p:spPr>
          <a:xfrm>
            <a:off x="4038480" y="762120"/>
            <a:ext cx="160020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Овал 25"/>
          <p:cNvSpPr/>
          <p:nvPr/>
        </p:nvSpPr>
        <p:spPr>
          <a:xfrm>
            <a:off x="3962520" y="68580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Овал 26"/>
          <p:cNvSpPr/>
          <p:nvPr/>
        </p:nvSpPr>
        <p:spPr>
          <a:xfrm>
            <a:off x="5562720" y="17524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27"/>
          <p:cNvSpPr/>
          <p:nvPr/>
        </p:nvSpPr>
        <p:spPr>
          <a:xfrm flipV="1">
            <a:off x="4648320" y="2362320"/>
            <a:ext cx="838080" cy="129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Овал 29"/>
          <p:cNvSpPr/>
          <p:nvPr/>
        </p:nvSpPr>
        <p:spPr>
          <a:xfrm>
            <a:off x="5410080" y="228600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52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0000"/>
                </a:solidFill>
                <a:latin typeface="Times New Roman"/>
              </a:rPr>
              <a:t>Отрезки (лучи), лежащие на перпендикулярных прямых называются перпендикулярным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ерпендикулярн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уетс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етыре прямых  угл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разуетс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гла, 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омашнее задание 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3d75"/>
                </a:solidFill>
                <a:latin typeface="Times New Roman"/>
              </a:rPr>
              <a:t>1.Написать конспект по п.43. Выучить определения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3d75"/>
                </a:solidFill>
                <a:latin typeface="Times New Roman"/>
              </a:rPr>
              <a:t>2.Выполнить из учебника №1365,1366,1369 (в, г) 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3d75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82" name="Рисунок 4" descr="school10-01.gif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"Перпендикулярные прямые"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113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school19-04.gif"/>
          <p:cNvPicPr/>
          <p:nvPr/>
        </p:nvPicPr>
        <p:blipFill>
          <a:blip r:embed="rId2"/>
          <a:stretch/>
        </p:blipFill>
        <p:spPr>
          <a:xfrm>
            <a:off x="4267080" y="2743200"/>
            <a:ext cx="421812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536400" y="6480"/>
            <a:ext cx="8229600" cy="9871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Н. Я. Виленкин, В. И. Жохов, А. С. Чесноков, С. И. Шварцбурд .Математика. 6 класс. – М.: Мнемозина,  201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2.Анимированные картинки :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Солнце- </a:t>
            </a:r>
            <a:r>
              <a:rPr b="0" lang="en-US" sz="19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www.livegif.ru/archive/weather/90_1.html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Рожица-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livegif.ru/archive/the_best/11_6.html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Сова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9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http://www.allforchildren.ru/pictures/school/school10-01.gif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Школа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allforchildren.ru/pictures/school/school19-04.gif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Рисунок из учебника: Шеврин Л.Н., Гейн А.Г. ,Коряков И.О., Волков М.В.Учебник- собеседник для 6 класса. - М.:Просвещение,1995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Сиротюк А.Л. Коррекция развития интеллекта дошкольников. -  М: ТЦ Сфера, 2001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учиться распознавать перпендикулярные прямы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учиться строить перпендикулярные прямы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рименять полученные знания для решения задач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 Antiqua"/>
              </a:rPr>
              <a:t>.А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057400" y="312408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95288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WordArt 14"/>
          <p:cNvSpPr txBox="1"/>
          <p:nvPr/>
        </p:nvSpPr>
        <p:spPr>
          <a:xfrm>
            <a:off x="1905120" y="2666880"/>
            <a:ext cx="17136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WordArt 18"/>
          <p:cNvSpPr txBox="1"/>
          <p:nvPr/>
        </p:nvSpPr>
        <p:spPr>
          <a:xfrm rot="5400000">
            <a:off x="4808880" y="2429640"/>
            <a:ext cx="38268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1523880" y="3962520"/>
            <a:ext cx="4648320" cy="83808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WordArt 19"/>
          <p:cNvSpPr txBox="1"/>
          <p:nvPr/>
        </p:nvSpPr>
        <p:spPr>
          <a:xfrm rot="5400000">
            <a:off x="1183680" y="399816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20"/>
          <p:cNvSpPr txBox="1"/>
          <p:nvPr/>
        </p:nvSpPr>
        <p:spPr>
          <a:xfrm rot="5400000">
            <a:off x="5866560" y="3353400"/>
            <a:ext cx="40176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2362320" y="4800600"/>
            <a:ext cx="6172200" cy="129528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WordArt 21"/>
          <p:cNvSpPr txBox="1"/>
          <p:nvPr/>
        </p:nvSpPr>
        <p:spPr>
          <a:xfrm rot="5400000">
            <a:off x="2106000" y="5437080"/>
            <a:ext cx="45432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22"/>
          <p:cNvSpPr txBox="1"/>
          <p:nvPr/>
        </p:nvSpPr>
        <p:spPr>
          <a:xfrm rot="5400000">
            <a:off x="8136000" y="4208400"/>
            <a:ext cx="43488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98108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 flipV="1">
            <a:off x="2286000" y="4800600"/>
            <a:ext cx="617220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1676520" y="4038120"/>
            <a:ext cx="4647960" cy="838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1600200" y="4648320"/>
            <a:ext cx="15228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4876920" y="2971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77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 flipV="1">
            <a:off x="837360" y="388620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ая соединительная линия 20"/>
          <p:cNvSpPr/>
          <p:nvPr/>
        </p:nvSpPr>
        <p:spPr>
          <a:xfrm flipV="1">
            <a:off x="3429000" y="411588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320760" y="1219320"/>
          <a:ext cx="5047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219320"/>
                    <a:ext cx="50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"/>
          <p:cNvGraphicFramePr/>
          <p:nvPr/>
        </p:nvGraphicFramePr>
        <p:xfrm>
          <a:off x="3768840" y="1219320"/>
          <a:ext cx="5889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8840" y="1219320"/>
                    <a:ext cx="588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4"/>
          <p:cNvGraphicFramePr/>
          <p:nvPr/>
        </p:nvGraphicFramePr>
        <p:xfrm>
          <a:off x="6761160" y="1143000"/>
          <a:ext cx="54756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1160" y="1143000"/>
                    <a:ext cx="547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263520" y="5715000"/>
          <a:ext cx="58896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520" y="5715000"/>
                    <a:ext cx="5889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3484440" y="5715000"/>
          <a:ext cx="54792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4440" y="5715000"/>
                    <a:ext cx="547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7"/>
          <p:cNvGraphicFramePr/>
          <p:nvPr/>
        </p:nvGraphicFramePr>
        <p:xfrm>
          <a:off x="7959600" y="5791320"/>
          <a:ext cx="588960" cy="68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59600" y="5791320"/>
                    <a:ext cx="588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AutoShape 2" descr=""/>
          <p:cNvPicPr/>
          <p:nvPr/>
        </p:nvPicPr>
        <p:blipFill>
          <a:blip r:embed="rId13"/>
          <a:stretch/>
        </p:blipFill>
        <p:spPr>
          <a:xfrm>
            <a:off x="1225440" y="6480"/>
            <a:ext cx="713736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02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03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07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12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17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ая соединительная линия 17"/>
          <p:cNvSpPr/>
          <p:nvPr/>
        </p:nvSpPr>
        <p:spPr>
          <a:xfrm flipV="1">
            <a:off x="837360" y="388620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72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Скругленный прямоугольник 10"/>
          <p:cNvSpPr/>
          <p:nvPr/>
        </p:nvSpPr>
        <p:spPr>
          <a:xfrm>
            <a:off x="609480" y="685800"/>
            <a:ext cx="358164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Скругленный прямоугольник 11"/>
          <p:cNvSpPr/>
          <p:nvPr/>
        </p:nvSpPr>
        <p:spPr>
          <a:xfrm>
            <a:off x="4800600" y="685800"/>
            <a:ext cx="358128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91440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ЕРЕСЕКАЮЩИ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5105520" y="914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ПЕРЕСЕКАЮЩИ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190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2" name="Object 3"/>
          <p:cNvGraphicFramePr/>
          <p:nvPr/>
        </p:nvGraphicFramePr>
        <p:xfrm>
          <a:off x="1447920" y="144792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5"/>
          <p:cNvGraphicFramePr/>
          <p:nvPr/>
        </p:nvGraphicFramePr>
        <p:xfrm>
          <a:off x="3429000" y="27622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7622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6"/>
          <p:cNvGraphicFramePr/>
          <p:nvPr/>
        </p:nvGraphicFramePr>
        <p:xfrm>
          <a:off x="457200" y="2495520"/>
          <a:ext cx="4492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4955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7"/>
          <p:cNvGraphicFramePr/>
          <p:nvPr/>
        </p:nvGraphicFramePr>
        <p:xfrm>
          <a:off x="2706840" y="1562040"/>
          <a:ext cx="523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6840" y="156204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8"/>
          <p:cNvGraphicFramePr/>
          <p:nvPr/>
        </p:nvGraphicFramePr>
        <p:xfrm>
          <a:off x="1046160" y="4114800"/>
          <a:ext cx="2622600" cy="6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6160" y="4114800"/>
                    <a:ext cx="262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7"/>
          <p:cNvGraphicFramePr/>
          <p:nvPr/>
        </p:nvGraphicFramePr>
        <p:xfrm>
          <a:off x="1865160" y="2685960"/>
          <a:ext cx="449280" cy="53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65160" y="268596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Овал 22"/>
          <p:cNvSpPr/>
          <p:nvPr/>
        </p:nvSpPr>
        <p:spPr>
          <a:xfrm>
            <a:off x="2133720" y="251460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24"/>
          <p:cNvSpPr/>
          <p:nvPr/>
        </p:nvSpPr>
        <p:spPr>
          <a:xfrm>
            <a:off x="6324480" y="21337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25"/>
          <p:cNvSpPr/>
          <p:nvPr/>
        </p:nvSpPr>
        <p:spPr>
          <a:xfrm>
            <a:off x="7086600" y="182880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10"/>
          <p:cNvGraphicFramePr/>
          <p:nvPr/>
        </p:nvGraphicFramePr>
        <p:xfrm>
          <a:off x="5638680" y="1752480"/>
          <a:ext cx="449280" cy="49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752480"/>
                    <a:ext cx="449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5808600" y="3638520"/>
          <a:ext cx="48744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08600" y="3638520"/>
                    <a:ext cx="48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5"/>
          <p:cNvGraphicFramePr/>
          <p:nvPr/>
        </p:nvGraphicFramePr>
        <p:xfrm>
          <a:off x="7391520" y="1676520"/>
          <a:ext cx="449280" cy="45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1520" y="1676520"/>
                    <a:ext cx="4492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3"/>
          <p:cNvGraphicFramePr/>
          <p:nvPr/>
        </p:nvGraphicFramePr>
        <p:xfrm>
          <a:off x="7408800" y="3333600"/>
          <a:ext cx="48744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408800" y="3333600"/>
                    <a:ext cx="48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16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19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22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Прямая соединительная линия 24"/>
          <p:cNvSpPr/>
          <p:nvPr/>
        </p:nvSpPr>
        <p:spPr>
          <a:xfrm>
            <a:off x="6324480" y="213372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25"/>
          <p:cNvSpPr/>
          <p:nvPr/>
        </p:nvSpPr>
        <p:spPr>
          <a:xfrm>
            <a:off x="7086600" y="182880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4"/>
          <p:cNvSpPr/>
          <p:nvPr/>
        </p:nvSpPr>
        <p:spPr>
          <a:xfrm>
            <a:off x="1219320" y="1752480"/>
            <a:ext cx="6858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V="1">
            <a:off x="1905120" y="1676160"/>
            <a:ext cx="1224000" cy="18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V="1">
            <a:off x="3048120" y="13716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 flipV="1">
            <a:off x="4876920" y="1294920"/>
            <a:ext cx="230508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334120" y="350532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5334120" y="541008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WordArt 12"/>
          <p:cNvSpPr txBox="1"/>
          <p:nvPr/>
        </p:nvSpPr>
        <p:spPr>
          <a:xfrm rot="5400000">
            <a:off x="1785600" y="36241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3" name="WordArt 13"/>
          <p:cNvSpPr txBox="1"/>
          <p:nvPr/>
        </p:nvSpPr>
        <p:spPr>
          <a:xfrm rot="5400000">
            <a:off x="3438000" y="3267000"/>
            <a:ext cx="29556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WordArt 14"/>
          <p:cNvSpPr txBox="1"/>
          <p:nvPr/>
        </p:nvSpPr>
        <p:spPr>
          <a:xfrm rot="5400000">
            <a:off x="4647960" y="761760"/>
            <a:ext cx="31428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5" name="WordArt 15"/>
          <p:cNvSpPr txBox="1"/>
          <p:nvPr/>
        </p:nvSpPr>
        <p:spPr>
          <a:xfrm rot="5400000">
            <a:off x="6975720" y="1634400"/>
            <a:ext cx="3826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6" name="WordArt 17"/>
          <p:cNvSpPr txBox="1"/>
          <p:nvPr/>
        </p:nvSpPr>
        <p:spPr>
          <a:xfrm rot="5400000">
            <a:off x="4757400" y="33955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7" name="WordArt 18"/>
          <p:cNvSpPr txBox="1"/>
          <p:nvPr/>
        </p:nvSpPr>
        <p:spPr>
          <a:xfrm rot="5400000">
            <a:off x="7052760" y="5519520"/>
            <a:ext cx="38088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5089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Начертите прямой угол А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стройте луч ОД, который является дополнительным к лучу ОА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ч ОС, который является дополнительным к лучу 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Запишите названия получившихся прямых угл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Прямая соединительная линия 8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9"/>
          <p:cNvSpPr/>
          <p:nvPr/>
        </p:nvSpPr>
        <p:spPr>
          <a:xfrm>
            <a:off x="2438280" y="2514600"/>
            <a:ext cx="533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5257800" y="91440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9144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5"/>
          <p:cNvGraphicFramePr/>
          <p:nvPr/>
        </p:nvGraphicFramePr>
        <p:xfrm>
          <a:off x="7620120" y="26668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2209680" y="2666880"/>
          <a:ext cx="44928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6668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7"/>
          <p:cNvGraphicFramePr/>
          <p:nvPr/>
        </p:nvGraphicFramePr>
        <p:xfrm>
          <a:off x="5334120" y="3657600"/>
          <a:ext cx="523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576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Прямая соединительная линия 16"/>
          <p:cNvSpPr/>
          <p:nvPr/>
        </p:nvSpPr>
        <p:spPr>
          <a:xfrm flipV="1">
            <a:off x="5409360" y="2209320"/>
            <a:ext cx="18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7"/>
          <p:cNvSpPr/>
          <p:nvPr/>
        </p:nvSpPr>
        <p:spPr>
          <a:xfrm>
            <a:off x="5105520" y="2209680"/>
            <a:ext cx="30456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8"/>
          <p:cNvGraphicFramePr/>
          <p:nvPr/>
        </p:nvGraphicFramePr>
        <p:xfrm>
          <a:off x="4495680" y="2590920"/>
          <a:ext cx="4492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25909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23"/>
          <p:cNvSpPr/>
          <p:nvPr/>
        </p:nvSpPr>
        <p:spPr>
          <a:xfrm>
            <a:off x="685800" y="4648320"/>
            <a:ext cx="763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Наташа</cp:lastModifiedBy>
  <dcterms:modified xsi:type="dcterms:W3CDTF">2019-04-07T09:54:43Z</dcterms:modified>
  <cp:revision>317</cp:revision>
  <dc:subject/>
  <dc:title>Правило (“фонтана”)</dc:title>
</cp:coreProperties>
</file>