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7.jpeg" ContentType="image/jpeg"/>
  <Override PartName="/ppt/media/image45.jpeg" ContentType="image/jpeg"/>
  <Override PartName="/ppt/media/image41.jpeg" ContentType="image/jpeg"/>
  <Override PartName="/ppt/media/image50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4.png" ContentType="image/png"/>
  <Override PartName="/ppt/media/image40.jpeg" ContentType="image/jpeg"/>
  <Override PartName="/ppt/media/image34.png" ContentType="image/png"/>
  <Override PartName="/ppt/media/image46.png" ContentType="image/png"/>
  <Override PartName="/ppt/media/image57.jpeg" ContentType="image/jpeg"/>
  <Override PartName="/ppt/media/image11.png" ContentType="image/png"/>
  <Override PartName="/ppt/media/image58.jpeg" ContentType="image/jpeg"/>
  <Override PartName="/ppt/media/image59.jpeg" ContentType="image/jpeg"/>
  <Override PartName="/ppt/media/image31.png" ContentType="image/png"/>
  <Override PartName="/ppt/media/image36.png" ContentType="image/png"/>
  <Override PartName="/ppt/media/image30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35B-45C4-4B57-B4BF-01824C53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764-8087-4E2E-8112-250DDDE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070-A082-4EFD-BE0A-AD1F8464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027-2B60-46D6-B3F5-3BAC321E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9C48-EB8E-4A31-9259-80E609EF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6CBB-75C2-47B2-B459-1AE54FD4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3BA3-4963-4A79-923C-80E7666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B87-323B-4D9D-8B23-8C0D893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E5F3-B4C4-4B54-92B5-AD92A49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ADB-60A3-4CD1-9C93-8D0DD63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494-DBD9-4B1D-9B7B-454223A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F66-E386-4CEA-94DF-141F436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4175-1DF8-489F-818B-C4093ED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95C-9D6E-4107-9402-7FA5E78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04E3-0F88-4757-8D78-2E35E3B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1E9F-76A2-4D8B-B6BF-3B5036CC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3910-D020-49CE-A74F-4E14CFF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F0FD-C29E-4253-B41F-48B596BF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244B-6CAE-4BAF-8837-865DB49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C279-1CBB-4E48-83BB-CD88C2B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2EBD-3B0F-4AE3-8B09-25289E85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B127-5A6A-46B2-9502-4E992CAB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21C-1B34-4352-B2CB-07ADD0B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7D74-D396-4AE1-A675-1613A2F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4AADA-319C-48DA-808A-5367120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39C1-4923-4C1C-9B53-40192A9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9A70-2AE7-474C-A2AE-3C99586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CD41-7CD8-462B-8390-B57DE3CF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64B2-6D7F-4F13-BCC5-3132ED63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2B89-381D-414D-9777-5B02DFDC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F9FF-A8CE-4E1A-B3F7-8D77EE2D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B940-E12C-489B-9ABC-948FEF15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417B-31C5-4774-BDDE-26FCF37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BBF-2288-4916-B8F0-FE5D896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810E-0F39-4FDB-9E7D-D68204C7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FDF3-C58E-421A-8AB9-29BE0B78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9BF9-32A2-4387-98FB-541E9AFF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77D4-61E5-4C0E-9067-80CDEC2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A7E1-9170-4565-8DAD-0FDA08B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3240-584F-4A62-AB05-29007A6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B7EE-53BE-40AB-A5E4-0DEFA8C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2F0B-6878-48E5-ADB9-CB393364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AA5E-45FF-44A1-9F3D-30EDBD5A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A2A-7811-49AF-B3AD-53F5487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881-A6BB-465F-AE43-110AC22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7DE-7428-4A0F-83C3-4457031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746-F36E-4B1D-B3B9-FE68AB4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D55-9432-474D-AC1C-0DFA828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CD76-BD7A-4488-8AB8-ABD992A3BF7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C130-715E-475D-BB66-96AA3288ECC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880-CE4C-4B69-B087-93A9A736750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1A3D-1C66-47A6-9E09-94EE509229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29400" y="785880"/>
            <a:ext cx="824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оследовательн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ействий и событ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 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4730040" y="485784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ваш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ГБОУ СОШ №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м. М.Ю.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3291120" y="21420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Кем бы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C:\Users\РиК\Desktop\Последовательность действий\83.png"/>
          <p:cNvPicPr/>
          <p:nvPr/>
        </p:nvPicPr>
        <p:blipFill>
          <a:blip r:embed="rId1"/>
          <a:stretch/>
        </p:blipFill>
        <p:spPr>
          <a:xfrm>
            <a:off x="2214720" y="1357200"/>
            <a:ext cx="1287360" cy="1500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C:\Users\РиК\Desktop\Последовательность действий\caterpillar.png"/>
          <p:cNvPicPr/>
          <p:nvPr/>
        </p:nvPicPr>
        <p:blipFill>
          <a:blip r:embed="rId2"/>
          <a:stretch/>
        </p:blipFill>
        <p:spPr>
          <a:xfrm>
            <a:off x="6572160" y="2000160"/>
            <a:ext cx="2405160" cy="2055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C:\Users\РиК\Desktop\Последовательность действий\теленок 1.jpg"/>
          <p:cNvPicPr/>
          <p:nvPr/>
        </p:nvPicPr>
        <p:blipFill>
          <a:blip r:embed="rId3"/>
          <a:stretch/>
        </p:blipFill>
        <p:spPr>
          <a:xfrm>
            <a:off x="6929280" y="4643280"/>
            <a:ext cx="1976760" cy="1739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C:\Users\РиК\Desktop\Последовательность действий\корова.png"/>
          <p:cNvPicPr/>
          <p:nvPr/>
        </p:nvPicPr>
        <p:blipFill>
          <a:blip r:embed="rId4"/>
          <a:stretch/>
        </p:blipFill>
        <p:spPr>
          <a:xfrm>
            <a:off x="3714840" y="3571920"/>
            <a:ext cx="2984400" cy="2287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C:\Users\РиК\Desktop\Последовательность действий\курица 1.png"/>
          <p:cNvPicPr/>
          <p:nvPr/>
        </p:nvPicPr>
        <p:blipFill>
          <a:blip r:embed="rId5"/>
          <a:stretch/>
        </p:blipFill>
        <p:spPr>
          <a:xfrm>
            <a:off x="142920" y="571680"/>
            <a:ext cx="1903320" cy="2147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C:\Users\РиК\Desktop\Последовательность действий\бабочка зеленая.png"/>
          <p:cNvPicPr/>
          <p:nvPr/>
        </p:nvPicPr>
        <p:blipFill>
          <a:blip r:embed="rId6"/>
          <a:stretch/>
        </p:blipFill>
        <p:spPr>
          <a:xfrm>
            <a:off x="4786200" y="71424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C:\Users\РиК\Desktop\Последовательность действий\лошадь 1.png"/>
          <p:cNvPicPr/>
          <p:nvPr/>
        </p:nvPicPr>
        <p:blipFill>
          <a:blip r:embed="rId7"/>
          <a:stretch/>
        </p:blipFill>
        <p:spPr>
          <a:xfrm>
            <a:off x="142920" y="3071880"/>
            <a:ext cx="2095560" cy="322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C:\Users\РиК\Desktop\Последовательность действий\жеребенок 1.png"/>
          <p:cNvPicPr/>
          <p:nvPr/>
        </p:nvPicPr>
        <p:blipFill>
          <a:blip r:embed="rId8"/>
          <a:stretch/>
        </p:blipFill>
        <p:spPr>
          <a:xfrm>
            <a:off x="2143080" y="4071960"/>
            <a:ext cx="2040120" cy="242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2869200" y="0"/>
            <a:ext cx="36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Кем (чем) бы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C:\Users\РиК\Desktop\Последовательность действий\87559_original.png"/>
          <p:cNvPicPr/>
          <p:nvPr/>
        </p:nvPicPr>
        <p:blipFill>
          <a:blip r:embed="rId1"/>
          <a:stretch/>
        </p:blipFill>
        <p:spPr>
          <a:xfrm>
            <a:off x="1428840" y="714240"/>
            <a:ext cx="2643120" cy="264348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C:\Users\РиК\Desktop\Последовательность действий\семечки.jpg"/>
          <p:cNvPicPr/>
          <p:nvPr/>
        </p:nvPicPr>
        <p:blipFill>
          <a:blip r:embed="rId2"/>
          <a:stretch/>
        </p:blipFill>
        <p:spPr>
          <a:xfrm>
            <a:off x="6603840" y="164304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C:\Users\РиК\Desktop\Последовательность действий\хлеб.jpg"/>
          <p:cNvPicPr/>
          <p:nvPr/>
        </p:nvPicPr>
        <p:blipFill>
          <a:blip r:embed="rId3"/>
          <a:stretch/>
        </p:blipFill>
        <p:spPr>
          <a:xfrm>
            <a:off x="214200" y="928800"/>
            <a:ext cx="1698840" cy="1698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C:\Users\РиК\Desktop\Последовательность действий\шкаф 1.png"/>
          <p:cNvPicPr/>
          <p:nvPr/>
        </p:nvPicPr>
        <p:blipFill>
          <a:blip r:embed="rId4"/>
          <a:stretch/>
        </p:blipFill>
        <p:spPr>
          <a:xfrm>
            <a:off x="4572000" y="3929040"/>
            <a:ext cx="1940040" cy="2519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C:\Users\РиК\Desktop\Последовательность действий\доски 1.jpg"/>
          <p:cNvPicPr/>
          <p:nvPr/>
        </p:nvPicPr>
        <p:blipFill>
          <a:blip r:embed="rId5"/>
          <a:stretch/>
        </p:blipFill>
        <p:spPr>
          <a:xfrm>
            <a:off x="6572160" y="5000760"/>
            <a:ext cx="2103480" cy="1407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7" descr="C:\Users\РиК\Desktop\Последовательность действий\подсолнух 1.gif"/>
          <p:cNvPicPr/>
          <p:nvPr/>
        </p:nvPicPr>
        <p:blipFill>
          <a:blip r:embed="rId6"/>
          <a:stretch/>
        </p:blipFill>
        <p:spPr>
          <a:xfrm>
            <a:off x="4286160" y="785880"/>
            <a:ext cx="2381400" cy="3029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8" descr="C:\Users\РиК\Desktop\Последовательность действий\лягушка 1.jpg"/>
          <p:cNvPicPr/>
          <p:nvPr/>
        </p:nvPicPr>
        <p:blipFill>
          <a:blip r:embed="rId7"/>
          <a:stretch/>
        </p:blipFill>
        <p:spPr>
          <a:xfrm>
            <a:off x="285840" y="3786120"/>
            <a:ext cx="2539800" cy="1650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9" descr="C:\Users\РиК\Desktop\Последовательность действий\головастик 1.png"/>
          <p:cNvPicPr/>
          <p:nvPr/>
        </p:nvPicPr>
        <p:blipFill>
          <a:blip r:embed="rId8"/>
          <a:stretch/>
        </p:blipFill>
        <p:spPr>
          <a:xfrm>
            <a:off x="2428920" y="5214960"/>
            <a:ext cx="211932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7"/>
          <p:cNvSpPr/>
          <p:nvPr/>
        </p:nvSpPr>
        <p:spPr>
          <a:xfrm>
            <a:off x="2156400" y="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Расположи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3074040" y="27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359280" y="27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5860080" y="27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5788440" y="557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359280" y="557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3074040" y="557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5" descr="C:\Users\РиК\Desktop\Последовательность действий\дерево 1 сж..jpg"/>
          <p:cNvPicPr/>
          <p:nvPr/>
        </p:nvPicPr>
        <p:blipFill>
          <a:blip r:embed="rId1"/>
          <a:stretch/>
        </p:blipFill>
        <p:spPr>
          <a:xfrm>
            <a:off x="3429000" y="3643200"/>
            <a:ext cx="2120760" cy="250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C:\Users\РиК\Desktop\Последовательность действий\дерево 2 сж..jpg"/>
          <p:cNvPicPr/>
          <p:nvPr/>
        </p:nvPicPr>
        <p:blipFill>
          <a:blip r:embed="rId2"/>
          <a:stretch/>
        </p:blipFill>
        <p:spPr>
          <a:xfrm>
            <a:off x="3571920" y="714240"/>
            <a:ext cx="1942920" cy="2451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7" descr="C:\Users\РиК\Desktop\Последовательность действий\дерево 3 сж..jpg"/>
          <p:cNvPicPr/>
          <p:nvPr/>
        </p:nvPicPr>
        <p:blipFill>
          <a:blip r:embed="rId3"/>
          <a:stretch/>
        </p:blipFill>
        <p:spPr>
          <a:xfrm>
            <a:off x="6500880" y="785880"/>
            <a:ext cx="2082600" cy="2489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8" descr="C:\Users\РиК\Desktop\Последовательность действий\дерево 4 сж..jpg"/>
          <p:cNvPicPr/>
          <p:nvPr/>
        </p:nvPicPr>
        <p:blipFill>
          <a:blip r:embed="rId4"/>
          <a:stretch/>
        </p:blipFill>
        <p:spPr>
          <a:xfrm>
            <a:off x="857160" y="3500280"/>
            <a:ext cx="1994040" cy="2425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9" descr="C:\Users\РиК\Desktop\Последовательность действий\дерево 5 сж..jpg"/>
          <p:cNvPicPr/>
          <p:nvPr/>
        </p:nvPicPr>
        <p:blipFill>
          <a:blip r:embed="rId5"/>
          <a:stretch/>
        </p:blipFill>
        <p:spPr>
          <a:xfrm>
            <a:off x="1071720" y="785880"/>
            <a:ext cx="1930320" cy="24764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0" descr="C:\Users\РиК\Desktop\Последовательность действий\яблоня сж..jpg"/>
          <p:cNvPicPr/>
          <p:nvPr/>
        </p:nvPicPr>
        <p:blipFill>
          <a:blip r:embed="rId6"/>
          <a:stretch/>
        </p:blipFill>
        <p:spPr>
          <a:xfrm>
            <a:off x="6500880" y="3571920"/>
            <a:ext cx="20700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7"/>
          <p:cNvSpPr/>
          <p:nvPr/>
        </p:nvSpPr>
        <p:spPr>
          <a:xfrm>
            <a:off x="2156400" y="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Расположи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5" descr="C:\Users\РиК\Desktop\Последовательность действий\дерево 1 сж..jpg"/>
          <p:cNvPicPr/>
          <p:nvPr/>
        </p:nvPicPr>
        <p:blipFill>
          <a:blip r:embed="rId1"/>
          <a:stretch/>
        </p:blipFill>
        <p:spPr>
          <a:xfrm>
            <a:off x="6572160" y="3571920"/>
            <a:ext cx="2121120" cy="2502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6" descr="C:\Users\РиК\Desktop\Последовательность действий\дерево 2 сж..jpg"/>
          <p:cNvPicPr/>
          <p:nvPr/>
        </p:nvPicPr>
        <p:blipFill>
          <a:blip r:embed="rId2"/>
          <a:stretch/>
        </p:blipFill>
        <p:spPr>
          <a:xfrm>
            <a:off x="1000080" y="785880"/>
            <a:ext cx="1943280" cy="245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" descr="C:\Users\РиК\Desktop\Последовательность действий\дерево 3 сж..jpg"/>
          <p:cNvPicPr/>
          <p:nvPr/>
        </p:nvPicPr>
        <p:blipFill>
          <a:blip r:embed="rId3"/>
          <a:stretch/>
        </p:blipFill>
        <p:spPr>
          <a:xfrm>
            <a:off x="6500880" y="785880"/>
            <a:ext cx="2082600" cy="2489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C:\Users\РиК\Desktop\Последовательность действий\дерево 4 сж..jpg"/>
          <p:cNvPicPr/>
          <p:nvPr/>
        </p:nvPicPr>
        <p:blipFill>
          <a:blip r:embed="rId4"/>
          <a:stretch/>
        </p:blipFill>
        <p:spPr>
          <a:xfrm>
            <a:off x="3643200" y="3571920"/>
            <a:ext cx="1994040" cy="2425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C:\Users\РиК\Desktop\Последовательность действий\дерево 5 сж..jpg"/>
          <p:cNvPicPr/>
          <p:nvPr/>
        </p:nvPicPr>
        <p:blipFill>
          <a:blip r:embed="rId5"/>
          <a:stretch/>
        </p:blipFill>
        <p:spPr>
          <a:xfrm>
            <a:off x="3643200" y="714240"/>
            <a:ext cx="1930680" cy="2476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C:\Users\РиК\Desktop\Последовательность действий\яблоня сж..jpg"/>
          <p:cNvPicPr/>
          <p:nvPr/>
        </p:nvPicPr>
        <p:blipFill>
          <a:blip r:embed="rId6"/>
          <a:stretch/>
        </p:blipFill>
        <p:spPr>
          <a:xfrm>
            <a:off x="928800" y="3571920"/>
            <a:ext cx="20700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Users\РиК\Desktop\Последовательность действий\репка 1.jpg"/>
          <p:cNvPicPr/>
          <p:nvPr/>
        </p:nvPicPr>
        <p:blipFill>
          <a:blip r:embed="rId1"/>
          <a:stretch/>
        </p:blipFill>
        <p:spPr>
          <a:xfrm>
            <a:off x="4714920" y="3929040"/>
            <a:ext cx="1711440" cy="2500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Users\РиК\Desktop\Последовательность действий\репка 2.jpg"/>
          <p:cNvPicPr/>
          <p:nvPr/>
        </p:nvPicPr>
        <p:blipFill>
          <a:blip r:embed="rId2"/>
          <a:stretch/>
        </p:blipFill>
        <p:spPr>
          <a:xfrm>
            <a:off x="2571840" y="3929040"/>
            <a:ext cx="1714320" cy="2530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Users\РиК\Desktop\Последовательность действий\репка 3.jpg"/>
          <p:cNvPicPr/>
          <p:nvPr/>
        </p:nvPicPr>
        <p:blipFill>
          <a:blip r:embed="rId3"/>
          <a:stretch/>
        </p:blipFill>
        <p:spPr>
          <a:xfrm>
            <a:off x="3929040" y="785880"/>
            <a:ext cx="1857240" cy="2557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Users\РиК\Desktop\Последовательность действий\репка 4.jpg"/>
          <p:cNvPicPr/>
          <p:nvPr/>
        </p:nvPicPr>
        <p:blipFill>
          <a:blip r:embed="rId4"/>
          <a:stretch/>
        </p:blipFill>
        <p:spPr>
          <a:xfrm>
            <a:off x="1428840" y="785880"/>
            <a:ext cx="1714320" cy="25509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Users\РиК\Desktop\Последовательность действий\репка 5.jpg"/>
          <p:cNvPicPr/>
          <p:nvPr/>
        </p:nvPicPr>
        <p:blipFill>
          <a:blip r:embed="rId5"/>
          <a:stretch/>
        </p:blipFill>
        <p:spPr>
          <a:xfrm>
            <a:off x="357120" y="3929040"/>
            <a:ext cx="1714680" cy="2479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C:\Users\РиК\Desktop\Последовательность действий\репка 7.jpg"/>
          <p:cNvPicPr/>
          <p:nvPr/>
        </p:nvPicPr>
        <p:blipFill>
          <a:blip r:embed="rId6"/>
          <a:stretch/>
        </p:blipFill>
        <p:spPr>
          <a:xfrm>
            <a:off x="6357960" y="714240"/>
            <a:ext cx="1857240" cy="2622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C:\Users\РиК\Desktop\Последовательность действий\репка 8.jpg"/>
          <p:cNvPicPr/>
          <p:nvPr/>
        </p:nvPicPr>
        <p:blipFill>
          <a:blip r:embed="rId7"/>
          <a:stretch/>
        </p:blipFill>
        <p:spPr>
          <a:xfrm>
            <a:off x="6858000" y="3929040"/>
            <a:ext cx="1785960" cy="25686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9"/>
          <p:cNvSpPr/>
          <p:nvPr/>
        </p:nvSpPr>
        <p:spPr>
          <a:xfrm>
            <a:off x="4646520" y="342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2575080" y="342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3932280" y="285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1432080" y="285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360360" y="335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4"/>
          <p:cNvSpPr/>
          <p:nvPr/>
        </p:nvSpPr>
        <p:spPr>
          <a:xfrm>
            <a:off x="6361200" y="214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6861240" y="342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040040" y="714240"/>
            <a:ext cx="776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Вставь пропущенные циф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321560" y="2000160"/>
            <a:ext cx="71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1, 2, 3, …, 5, 6, ... , 8, …,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1250280" y="3500280"/>
            <a:ext cx="71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…</a:t>
            </a:r>
            <a:r>
              <a:rPr b="1" lang="ru-RU" sz="48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, 9, 8, 7, …, 5, 4, …, 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448720" y="50007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6, 7, …, …,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3209400" y="185724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334120" y="185724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  <a:ea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219320" y="3500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075200" y="35002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6218280" y="35002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4718160" y="4929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3789360" y="4929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7004160" y="19288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7718400" y="3429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>
            <a:off x="2197080" y="500040"/>
            <a:ext cx="53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a3"/>
                </a:solidFill>
                <a:latin typeface="Constantia"/>
              </a:rPr>
              <a:t>Найди отлич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Users\РиК\Desktop\Последовательность действий\найди отличия сж..jpg"/>
          <p:cNvPicPr/>
          <p:nvPr/>
        </p:nvPicPr>
        <p:blipFill>
          <a:blip r:embed="rId1"/>
          <a:stretch/>
        </p:blipFill>
        <p:spPr>
          <a:xfrm>
            <a:off x="1000080" y="1357200"/>
            <a:ext cx="7358040" cy="491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0"/>
          <p:cNvSpPr/>
          <p:nvPr/>
        </p:nvSpPr>
        <p:spPr>
          <a:xfrm>
            <a:off x="500040" y="1785960"/>
            <a:ext cx="10717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ый треугольник 12"/>
          <p:cNvSpPr/>
          <p:nvPr/>
        </p:nvSpPr>
        <p:spPr>
          <a:xfrm>
            <a:off x="3643200" y="1785960"/>
            <a:ext cx="1143000" cy="1143000"/>
          </a:xfrm>
          <a:prstGeom prst="rtTriangl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араллелограмм 13"/>
          <p:cNvSpPr/>
          <p:nvPr/>
        </p:nvSpPr>
        <p:spPr>
          <a:xfrm>
            <a:off x="2000160" y="1785960"/>
            <a:ext cx="1214640" cy="1143000"/>
          </a:xfrm>
          <a:prstGeom prst="parallelogram">
            <a:avLst>
              <a:gd name="adj" fmla="val 25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4"/>
          <p:cNvSpPr/>
          <p:nvPr/>
        </p:nvSpPr>
        <p:spPr>
          <a:xfrm>
            <a:off x="5143680" y="1714680"/>
            <a:ext cx="171432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Трапеция 15"/>
          <p:cNvSpPr/>
          <p:nvPr/>
        </p:nvSpPr>
        <p:spPr>
          <a:xfrm>
            <a:off x="7358040" y="1785960"/>
            <a:ext cx="1428840" cy="1143000"/>
          </a:xfrm>
          <a:custGeom>
            <a:avLst/>
            <a:gdLst/>
            <a:ahLst/>
            <a:rect l="l" t="t" r="r" b="b"/>
            <a:pathLst>
              <a:path w="1428750" h="1143000">
                <a:moveTo>
                  <a:pt x="0" y="1143000"/>
                </a:moveTo>
                <a:lnTo>
                  <a:pt x="285750" y="0"/>
                </a:lnTo>
                <a:lnTo>
                  <a:pt x="1143000" y="0"/>
                </a:lnTo>
                <a:lnTo>
                  <a:pt x="1428750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Равнобедренный треугольник 16"/>
          <p:cNvSpPr/>
          <p:nvPr/>
        </p:nvSpPr>
        <p:spPr>
          <a:xfrm>
            <a:off x="285840" y="3286080"/>
            <a:ext cx="1071360" cy="1000080"/>
          </a:xfrm>
          <a:prstGeom prst="triangle">
            <a:avLst>
              <a:gd name="adj" fmla="val 50000"/>
            </a:avLst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ый треугольник 17"/>
          <p:cNvSpPr/>
          <p:nvPr/>
        </p:nvSpPr>
        <p:spPr>
          <a:xfrm>
            <a:off x="1714680" y="3214800"/>
            <a:ext cx="1143000" cy="1071360"/>
          </a:xfrm>
          <a:prstGeom prst="rtTriangle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Равнобедренный треугольник 18"/>
          <p:cNvSpPr/>
          <p:nvPr/>
        </p:nvSpPr>
        <p:spPr>
          <a:xfrm>
            <a:off x="3071880" y="3286080"/>
            <a:ext cx="2286000" cy="1000080"/>
          </a:xfrm>
          <a:prstGeom prst="triangle">
            <a:avLst>
              <a:gd name="adj" fmla="val 50000"/>
            </a:avLst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араллелограмм 19"/>
          <p:cNvSpPr/>
          <p:nvPr/>
        </p:nvSpPr>
        <p:spPr>
          <a:xfrm>
            <a:off x="5572080" y="3214800"/>
            <a:ext cx="1000080" cy="1071360"/>
          </a:xfrm>
          <a:prstGeom prst="parallelogram">
            <a:avLst>
              <a:gd name="adj" fmla="val 25000"/>
            </a:avLst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ый треугольник 20"/>
          <p:cNvSpPr/>
          <p:nvPr/>
        </p:nvSpPr>
        <p:spPr>
          <a:xfrm rot="19007400">
            <a:off x="7066080" y="2538000"/>
            <a:ext cx="1508040" cy="1414440"/>
          </a:xfrm>
          <a:prstGeom prst="rtTriangle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Правильный пятиугольник 21"/>
          <p:cNvGrpSpPr/>
          <p:nvPr/>
        </p:nvGrpSpPr>
        <p:grpSpPr>
          <a:xfrm>
            <a:off x="433440" y="4754520"/>
            <a:ext cx="1346040" cy="1208160"/>
            <a:chOff x="433440" y="4754520"/>
            <a:chExt cx="1346040" cy="1208160"/>
          </a:xfrm>
        </p:grpSpPr>
        <p:pic>
          <p:nvPicPr>
            <p:cNvPr id="223" name="Правильный пятиугольник 21" descr=""/>
            <p:cNvPicPr/>
            <p:nvPr/>
          </p:nvPicPr>
          <p:blipFill>
            <a:blip r:embed="rId1"/>
            <a:stretch/>
          </p:blipFill>
          <p:spPr>
            <a:xfrm>
              <a:off x="433440" y="4754520"/>
              <a:ext cx="134604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31880" y="5038560"/>
              <a:ext cx="7509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Трапеция 22"/>
          <p:cNvGrpSpPr/>
          <p:nvPr/>
        </p:nvGrpSpPr>
        <p:grpSpPr>
          <a:xfrm>
            <a:off x="2077920" y="4754520"/>
            <a:ext cx="1274760" cy="1208160"/>
            <a:chOff x="2077920" y="4754520"/>
            <a:chExt cx="1274760" cy="1208160"/>
          </a:xfrm>
        </p:grpSpPr>
        <p:pic>
          <p:nvPicPr>
            <p:cNvPr id="226" name="Трапеция 22" descr=""/>
            <p:cNvPicPr/>
            <p:nvPr/>
          </p:nvPicPr>
          <p:blipFill>
            <a:blip r:embed="rId2"/>
            <a:stretch/>
          </p:blipFill>
          <p:spPr>
            <a:xfrm>
              <a:off x="2077920" y="4754520"/>
              <a:ext cx="12747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320920" y="4952880"/>
              <a:ext cx="78588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Овал 23"/>
          <p:cNvGrpSpPr/>
          <p:nvPr/>
        </p:nvGrpSpPr>
        <p:grpSpPr>
          <a:xfrm>
            <a:off x="3645000" y="4754520"/>
            <a:ext cx="1780920" cy="1208160"/>
            <a:chOff x="3645000" y="4754520"/>
            <a:chExt cx="1780920" cy="1208160"/>
          </a:xfrm>
        </p:grpSpPr>
        <p:pic>
          <p:nvPicPr>
            <p:cNvPr id="229" name="Овал 23" descr=""/>
            <p:cNvPicPr/>
            <p:nvPr/>
          </p:nvPicPr>
          <p:blipFill>
            <a:blip r:embed="rId3"/>
            <a:stretch/>
          </p:blipFill>
          <p:spPr>
            <a:xfrm>
              <a:off x="3645000" y="4754520"/>
              <a:ext cx="17809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956040" y="4943520"/>
              <a:ext cx="1160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Прямоугольный треугольник 24"/>
          <p:cNvGrpSpPr/>
          <p:nvPr/>
        </p:nvGrpSpPr>
        <p:grpSpPr>
          <a:xfrm>
            <a:off x="6004080" y="4681440"/>
            <a:ext cx="1062000" cy="1281240"/>
            <a:chOff x="6004080" y="4681440"/>
            <a:chExt cx="1062000" cy="1281240"/>
          </a:xfrm>
        </p:grpSpPr>
        <p:pic>
          <p:nvPicPr>
            <p:cNvPr id="232" name="Прямоугольный треугольник 24" descr=""/>
            <p:cNvPicPr/>
            <p:nvPr/>
          </p:nvPicPr>
          <p:blipFill>
            <a:blip r:embed="rId4"/>
            <a:stretch/>
          </p:blipFill>
          <p:spPr>
            <a:xfrm>
              <a:off x="6004080" y="4681440"/>
              <a:ext cx="106200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149880" y="5381640"/>
              <a:ext cx="463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Шестиугольник 25"/>
          <p:cNvGrpSpPr/>
          <p:nvPr/>
        </p:nvGrpSpPr>
        <p:grpSpPr>
          <a:xfrm>
            <a:off x="7291440" y="4614840"/>
            <a:ext cx="1560600" cy="1347840"/>
            <a:chOff x="7291440" y="4614840"/>
            <a:chExt cx="1560600" cy="1347840"/>
          </a:xfrm>
        </p:grpSpPr>
        <p:pic>
          <p:nvPicPr>
            <p:cNvPr id="235" name="Шестиугольник 25" descr=""/>
            <p:cNvPicPr/>
            <p:nvPr/>
          </p:nvPicPr>
          <p:blipFill>
            <a:blip r:embed="rId5"/>
            <a:stretch/>
          </p:blipFill>
          <p:spPr>
            <a:xfrm>
              <a:off x="7291440" y="4614840"/>
              <a:ext cx="1560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578720" y="4830840"/>
              <a:ext cx="9874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6"/>
          <p:cNvSpPr/>
          <p:nvPr/>
        </p:nvSpPr>
        <p:spPr>
          <a:xfrm>
            <a:off x="1315080" y="571680"/>
            <a:ext cx="638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лишнюю фигу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На  какие групп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можно разделить предме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C:\Users\РиК\Desktop\Последовательность действий\1280px-2006HondaCBR600RR-profile.png"/>
          <p:cNvPicPr/>
          <p:nvPr/>
        </p:nvPicPr>
        <p:blipFill>
          <a:blip r:embed="rId1"/>
          <a:stretch/>
        </p:blipFill>
        <p:spPr>
          <a:xfrm>
            <a:off x="5214960" y="3271680"/>
            <a:ext cx="2071800" cy="12430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6567120" y="12142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"/>
              </a:rPr>
              <a:t>Пла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360720" y="492912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зд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C:\Users\РиК\Desktop\Последовательность действий\машина 1.png"/>
          <p:cNvPicPr/>
          <p:nvPr/>
        </p:nvPicPr>
        <p:blipFill>
          <a:blip r:embed="rId2"/>
          <a:stretch/>
        </p:blipFill>
        <p:spPr>
          <a:xfrm>
            <a:off x="357120" y="1785960"/>
            <a:ext cx="2314800" cy="1246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C:\Users\РиК\Desktop\Последовательность действий\велосипед 1.png"/>
          <p:cNvPicPr/>
          <p:nvPr/>
        </p:nvPicPr>
        <p:blipFill>
          <a:blip r:embed="rId3"/>
          <a:stretch/>
        </p:blipFill>
        <p:spPr>
          <a:xfrm>
            <a:off x="6286680" y="5000760"/>
            <a:ext cx="2355840" cy="1380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C:\Users\РиК\Desktop\Последовательность действий\утка 1.png"/>
          <p:cNvPicPr/>
          <p:nvPr/>
        </p:nvPicPr>
        <p:blipFill>
          <a:blip r:embed="rId4"/>
          <a:stretch/>
        </p:blipFill>
        <p:spPr>
          <a:xfrm>
            <a:off x="285840" y="4357800"/>
            <a:ext cx="2330280" cy="2330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C:\Users\РиК\Desktop\Последовательность действий\окунь 1.png"/>
          <p:cNvPicPr/>
          <p:nvPr/>
        </p:nvPicPr>
        <p:blipFill>
          <a:blip r:embed="rId5"/>
          <a:stretch/>
        </p:blipFill>
        <p:spPr>
          <a:xfrm>
            <a:off x="3071880" y="5357880"/>
            <a:ext cx="2476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C:\Users\РиК\Desktop\Последовательность действий\корабль 1.jpg"/>
          <p:cNvPicPr/>
          <p:nvPr/>
        </p:nvPicPr>
        <p:blipFill>
          <a:blip r:embed="rId6"/>
          <a:stretch/>
        </p:blipFill>
        <p:spPr>
          <a:xfrm>
            <a:off x="6500880" y="1785960"/>
            <a:ext cx="2400120" cy="136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C:\Users\РиК\Desktop\Последовательность действий\кит 2.jpg"/>
          <p:cNvPicPr/>
          <p:nvPr/>
        </p:nvPicPr>
        <p:blipFill>
          <a:blip r:embed="rId7"/>
          <a:stretch/>
        </p:blipFill>
        <p:spPr>
          <a:xfrm>
            <a:off x="3571920" y="1500120"/>
            <a:ext cx="2465280" cy="1343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C:\Users\РиК\Desktop\Последовательность действий\квадроцикл.png"/>
          <p:cNvPicPr/>
          <p:nvPr/>
        </p:nvPicPr>
        <p:blipFill>
          <a:blip r:embed="rId8"/>
          <a:stretch/>
        </p:blipFill>
        <p:spPr>
          <a:xfrm>
            <a:off x="2643120" y="3286080"/>
            <a:ext cx="2214720" cy="161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7 -0.05811 C 0.1592 0.05254 0.29653 0.16319 0.34618 0.21666 C 0.39583 0.27014 0.32465 0.25532 0.32031 0.26296 E">
                                      <p:cBhvr>
                                        <p:cTn id="10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C -0.11059 -0.06921 -0.22066 -0.13796 -0.26129 -0.17153 C -0.30157 -0.20416 -0.27344 -0.20393 -0.24445 -0.20278 E">
                                      <p:cBhvr>
                                        <p:cTn id="11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34 -0.05625 C -0.31042 -0.11551 -0.54149 -0.17454 -0.64149 -0.20787 C -0.74149 -0.2412 -0.67309 -0.24815 -0.67934 -0.25625 E">
                                      <p:cBhvr>
                                        <p:cTn id="11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C 0.12222 0.03379 0.24462 0.06782 0.3 0.0544 C 0.35538 0.04097 0.34358 -0.01991 0.33195 -0.08079 E">
                                      <p:cBhvr>
                                        <p:cTn id="11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7.40741E-006 C 0.16736 7.40741E-006 0.33472 7.40741E-006 0.40156 7.40741E-006 E">
                                      <p:cBhvr>
                                        <p:cTn id="122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372400" y="535788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онедель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16360" y="6027840"/>
            <a:ext cx="229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втор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531560" y="6027840"/>
            <a:ext cx="16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ср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223240" y="6027840"/>
            <a:ext cx="21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четвер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13320" y="535788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ят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669040" y="6027840"/>
            <a:ext cx="22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суб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5778360" y="5357880"/>
            <a:ext cx="33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воскресен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0"/>
          <p:cNvSpPr/>
          <p:nvPr/>
        </p:nvSpPr>
        <p:spPr>
          <a:xfrm>
            <a:off x="2228040" y="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Расположи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РиК\Desktop\Последовательность действий\календарь 1.png"/>
          <p:cNvPicPr/>
          <p:nvPr/>
        </p:nvPicPr>
        <p:blipFill>
          <a:blip r:embed="rId1"/>
          <a:stretch/>
        </p:blipFill>
        <p:spPr>
          <a:xfrm>
            <a:off x="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76 -0.06129 C 0.23299 -0.32493 0.25538 -0.58835 0.21389 -0.69033 C 0.1724 -0.79232 0.00347 -0.67669 -0.03854 -0.67391 E">
                                      <p:cBhvr>
                                        <p:cTn id="14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47 -0.0148 C 0.0375 -0.28954 -0.0033 -0.56406 0.02309 -0.6746 C 0.04948 -0.78515 0.20139 -0.67807 0.23698 -0.67877 E">
                                      <p:cBhvr>
                                        <p:cTn id="1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2983 C -0.04166 -0.27012 -0.06423 -0.51017 -0.14809 -0.60569 C -0.23194 -0.7012 -0.45955 -0.60384 -0.52187 -0.6036 E">
                                      <p:cBhvr>
                                        <p:cTn id="148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-0.02914 C -0.20989 -0.15402 -0.40399 -0.27867 -0.44965 -0.36101 C -0.49531 -0.44334 -0.31631 -0.49583 -0.28958 -0.52289 E">
                                      <p:cBhvr>
                                        <p:cTn id="15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0.02452 C 0.30955 -0.14269 0.55365 -0.26064 0.58854 -0.31152 C 0.62344 -0.3624 0.32847 -0.32632 0.27465 -0.33002 C 0.22083 -0.33372 0.24306 -0.33395 0.26545 -0.33395 E">
                                      <p:cBhvr>
                                        <p:cTn id="156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84 -0.02104 C 0.20156 -0.07632 0.31128 -0.13136 0.2934 -0.18709 C 0.27552 -0.24283 0.03628 -0.32608 -0.0158 -0.35499 E">
                                      <p:cBhvr>
                                        <p:cTn id="16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9334E-006 C -0.17049 -0.06846 -0.3408 -0.13645 -0.40868 -0.16305 E">
                                      <p:cBhvr>
                                        <p:cTn id="16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646080" y="478620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подъ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434880" y="58579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заря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6579000" y="585792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завт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11200" y="528624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уроки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5932800" y="478620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об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074600" y="47862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4444200" y="528624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4930920" y="58579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отд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2575440" y="58579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уж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4006440" y="585792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3"/>
          <p:cNvSpPr/>
          <p:nvPr/>
        </p:nvSpPr>
        <p:spPr>
          <a:xfrm>
            <a:off x="648360" y="135720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одъ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6"/>
          <p:cNvSpPr/>
          <p:nvPr/>
        </p:nvSpPr>
        <p:spPr>
          <a:xfrm>
            <a:off x="580320" y="200016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заря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7"/>
          <p:cNvSpPr/>
          <p:nvPr/>
        </p:nvSpPr>
        <p:spPr>
          <a:xfrm>
            <a:off x="651600" y="264312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завт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8"/>
          <p:cNvSpPr/>
          <p:nvPr/>
        </p:nvSpPr>
        <p:spPr>
          <a:xfrm>
            <a:off x="585360" y="328608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4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уроки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9"/>
          <p:cNvSpPr/>
          <p:nvPr/>
        </p:nvSpPr>
        <p:spPr>
          <a:xfrm>
            <a:off x="574200" y="400068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5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об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0"/>
          <p:cNvSpPr/>
          <p:nvPr/>
        </p:nvSpPr>
        <p:spPr>
          <a:xfrm>
            <a:off x="4719240" y="13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6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1"/>
          <p:cNvSpPr/>
          <p:nvPr/>
        </p:nvSpPr>
        <p:spPr>
          <a:xfrm>
            <a:off x="4716360" y="200016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7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2"/>
          <p:cNvSpPr/>
          <p:nvPr/>
        </p:nvSpPr>
        <p:spPr>
          <a:xfrm>
            <a:off x="4719240" y="26431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8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отд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4721040" y="328608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9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уж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4"/>
          <p:cNvSpPr/>
          <p:nvPr/>
        </p:nvSpPr>
        <p:spPr>
          <a:xfrm>
            <a:off x="4652280" y="400068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0. </a:t>
            </a: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6"/>
          <p:cNvSpPr/>
          <p:nvPr/>
        </p:nvSpPr>
        <p:spPr>
          <a:xfrm>
            <a:off x="2649240" y="50004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Твой режим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4" descr="C:\Users\РиК\Desktop\Последовательность действий\часы 1.jpeg"/>
          <p:cNvPicPr/>
          <p:nvPr/>
        </p:nvPicPr>
        <p:blipFill>
          <a:blip r:embed="rId1"/>
          <a:stretch/>
        </p:blipFill>
        <p:spPr>
          <a:xfrm>
            <a:off x="7572240" y="773280"/>
            <a:ext cx="1571760" cy="145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"/>
          <p:cNvSpPr/>
          <p:nvPr/>
        </p:nvSpPr>
        <p:spPr>
          <a:xfrm>
            <a:off x="3078000" y="18572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3064680" y="257184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о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149640" y="32148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3286800" y="3857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3494880" y="4500720"/>
            <a:ext cx="8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222720" y="51436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3222000" y="57862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з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C:\Users\РиК\Desktop\Последовательность действий\радуга 1.png"/>
          <p:cNvPicPr/>
          <p:nvPr/>
        </p:nvPicPr>
        <p:blipFill>
          <a:blip r:embed="rId1"/>
          <a:stretch/>
        </p:blipFill>
        <p:spPr>
          <a:xfrm>
            <a:off x="0" y="357120"/>
            <a:ext cx="7605720" cy="5000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630520" y="28584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Кем (чем) буд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РиК\Desktop\Последовательность действий\54b83aeb8833.png"/>
          <p:cNvPicPr/>
          <p:nvPr/>
        </p:nvPicPr>
        <p:blipFill>
          <a:blip r:embed="rId1"/>
          <a:stretch/>
        </p:blipFill>
        <p:spPr>
          <a:xfrm>
            <a:off x="357120" y="928800"/>
            <a:ext cx="1143000" cy="1296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Users\РиК\Desktop\Последовательность действий\83.png"/>
          <p:cNvPicPr/>
          <p:nvPr/>
        </p:nvPicPr>
        <p:blipFill>
          <a:blip r:embed="rId2"/>
          <a:stretch/>
        </p:blipFill>
        <p:spPr>
          <a:xfrm>
            <a:off x="1714680" y="1785960"/>
            <a:ext cx="1471320" cy="1714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Users\РиК\Desktop\Последовательность действий\wheat_(1).png"/>
          <p:cNvPicPr/>
          <p:nvPr/>
        </p:nvPicPr>
        <p:blipFill>
          <a:blip r:embed="rId3"/>
          <a:stretch/>
        </p:blipFill>
        <p:spPr>
          <a:xfrm>
            <a:off x="4714920" y="714240"/>
            <a:ext cx="1757160" cy="286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C:\Users\РиК\Desktop\Последовательность действий\Watermelon-Seeds.jpg"/>
          <p:cNvPicPr/>
          <p:nvPr/>
        </p:nvPicPr>
        <p:blipFill>
          <a:blip r:embed="rId4"/>
          <a:stretch/>
        </p:blipFill>
        <p:spPr>
          <a:xfrm>
            <a:off x="4786200" y="492912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C:\Users\РиК\Desktop\Последовательность действий\арбуз 1.png"/>
          <p:cNvPicPr/>
          <p:nvPr/>
        </p:nvPicPr>
        <p:blipFill>
          <a:blip r:embed="rId5"/>
          <a:stretch/>
        </p:blipFill>
        <p:spPr>
          <a:xfrm>
            <a:off x="6715080" y="3500280"/>
            <a:ext cx="2133720" cy="1914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C:\Users\РиК\Desktop\Последовательность действий\желудь 1.png"/>
          <p:cNvPicPr/>
          <p:nvPr/>
        </p:nvPicPr>
        <p:blipFill>
          <a:blip r:embed="rId6"/>
          <a:stretch/>
        </p:blipFill>
        <p:spPr>
          <a:xfrm>
            <a:off x="0" y="36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C:\Users\РиК\Desktop\Последовательность действий\мука 1.jpg"/>
          <p:cNvPicPr/>
          <p:nvPr/>
        </p:nvPicPr>
        <p:blipFill>
          <a:blip r:embed="rId7"/>
          <a:stretch/>
        </p:blipFill>
        <p:spPr>
          <a:xfrm>
            <a:off x="6715080" y="928800"/>
            <a:ext cx="2200320" cy="2368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C:\Users\РиК\Desktop\Последовательность действий\дуб 1.png"/>
          <p:cNvPicPr/>
          <p:nvPr/>
        </p:nvPicPr>
        <p:blipFill>
          <a:blip r:embed="rId8"/>
          <a:stretch/>
        </p:blipFill>
        <p:spPr>
          <a:xfrm>
            <a:off x="1714680" y="42148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6:19:37Z</dcterms:created>
  <dc:creator>ИРИША</dc:creator>
  <dc:description/>
  <dc:language>en-US</dc:language>
  <cp:lastModifiedBy>ira</cp:lastModifiedBy>
  <dcterms:modified xsi:type="dcterms:W3CDTF">2019-10-15T17:08:35Z</dcterms:modified>
  <cp:revision>55</cp:revision>
  <dc:subject/>
  <dc:title>Слайд 1</dc:title>
</cp:coreProperties>
</file>