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4EFE-AD30-43BE-8E74-135368E69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2A53-F054-40E3-9A1D-68694BD2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88E5-B8A2-47CA-8E63-EC37014E7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94BA-F918-46FE-AF91-7160FB8F0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5C8F-F568-4EC0-BB71-DE2B7750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B845-E3D8-4B87-BE4C-F9A700A0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3BF2-D366-4E6D-834C-74FC2200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F667-A7E5-46A3-96C3-01BF201D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379C-D1BC-48BF-8DEB-EEA619A4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74B4-00C1-4547-9AB0-C4FE2B7D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114D-628A-4542-89F3-93AA7B03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2BB7-21D9-4FC7-9950-F1066895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E5AB-D242-43AD-B6CB-5FDAB7651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333360"/>
            <a:ext cx="720108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99"/>
                </a:solidFill>
                <a:latin typeface="Arial"/>
              </a:rPr>
              <a:t>Фёдор Михайлович Достоевски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1821-1881 гг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54240" y="0"/>
            <a:ext cx="483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22640" y="0"/>
            <a:ext cx="469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30240"/>
            <a:ext cx="8569080" cy="6740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404640"/>
            <a:ext cx="89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Больница, где родился писател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516564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651640" y="1557360"/>
            <a:ext cx="349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Отец писател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48360" y="4292640"/>
            <a:ext cx="39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Михаил Андрееви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51847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724360" y="1844640"/>
            <a:ext cx="31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Мать писател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83280" y="4797360"/>
            <a:ext cx="39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Мария Федоров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332000" y="5516640"/>
            <a:ext cx="62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Брат Достоевског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852640"/>
            <a:ext cx="27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ихаил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920" y="1046160"/>
            <a:ext cx="8748720" cy="5811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55640" y="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Инженерное  училищ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42920" y="530064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Инженерный замо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3736800" cy="6912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24360" y="1197000"/>
            <a:ext cx="48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Достоевский в Петербург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488880"/>
            <a:ext cx="914400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22640" y="0"/>
            <a:ext cx="469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216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924360" y="189000"/>
            <a:ext cx="521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99"/>
                </a:solidFill>
                <a:latin typeface="Arial"/>
              </a:rPr>
              <a:t>Буташевич -Петрашевски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5280" y="5121360"/>
            <a:ext cx="85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99"/>
                </a:solidFill>
                <a:latin typeface="Arial"/>
              </a:rPr>
              <a:t>Петропавсловская крепос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332000" y="5516640"/>
            <a:ext cx="70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Казнь   петрашевце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34824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300720" y="1341360"/>
            <a:ext cx="284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В ссылк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92480" y="0"/>
            <a:ext cx="4559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2195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24000" y="458136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Семипалатинск времен Достоевског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10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95280" y="537372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Дом   в  Семипалатинск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3960720" cy="6669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427640" y="1125360"/>
            <a:ext cx="446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Чокан Валихан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069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572000" y="260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Первая же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43280" y="2708280"/>
            <a:ext cx="478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Мария Дмитриевна Исае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81000"/>
            <a:ext cx="8642160" cy="6696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4000" y="189000"/>
            <a:ext cx="74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Редакция журналов «Эпоха» и «Время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4000" y="5734080"/>
            <a:ext cx="83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Похороны Достоевског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496872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356000" y="1268280"/>
            <a:ext cx="453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99"/>
                </a:solidFill>
                <a:latin typeface="Arial"/>
              </a:rPr>
              <a:t>АполлинарияСусло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181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572000" y="549360"/>
            <a:ext cx="439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Анна Григорьевна Снитки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32360" y="4149720"/>
            <a:ext cx="421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Вторая же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75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04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01480" y="5546880"/>
            <a:ext cx="864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десь написан  роман «Преступление и наказани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46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295280" y="566100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Дом   в   Женев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67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63640" y="5661000"/>
            <a:ext cx="65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99"/>
                </a:solidFill>
                <a:latin typeface="Arial"/>
              </a:rPr>
              <a:t>Город   Вев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2124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643280" y="134136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Дом  во  Флоренц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66708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79280" y="256536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де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97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284720" y="1341360"/>
            <a:ext cx="43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50727"/>
                </a:solidFill>
                <a:latin typeface="Arial"/>
              </a:rPr>
              <a:t>Дочь Люб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28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716360" y="213372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ын Фёдо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6984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258920" y="530064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Дом в Старой Русс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848360" cy="67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35240" y="0"/>
            <a:ext cx="647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6670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788000" y="765000"/>
            <a:ext cx="48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кабин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11280" y="58680"/>
            <a:ext cx="7921440" cy="67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35240" y="0"/>
            <a:ext cx="467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544824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012000" y="1341360"/>
            <a:ext cx="31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878 г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28000" cy="4510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4570560"/>
            <a:ext cx="8713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Выступление Достоевского на открытии памятника Пушкин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82680" y="0"/>
            <a:ext cx="4778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66880" y="0"/>
            <a:ext cx="561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36840" y="0"/>
            <a:ext cx="427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5T11:53:00Z</dcterms:created>
  <dc:creator>Andrey</dc:creator>
  <dc:description/>
  <dc:language>en-US</dc:language>
  <cp:lastModifiedBy>Andrey</cp:lastModifiedBy>
  <dcterms:modified xsi:type="dcterms:W3CDTF">2004-02-05T12:37:48Z</dcterms:modified>
  <cp:revision>17</cp:revision>
  <dc:subject/>
  <dc:title>Слайд 1</dc:title>
</cp:coreProperties>
</file>