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B87-4399-4734-AB41-D4A21FA7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DF3-F5BF-4E35-9020-0115F229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04D-46BE-4962-B766-767E3493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C22-F6C7-49EC-ADDE-48F3F6A5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DB8E-2F2A-4C62-9FE0-61DD4397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04BD-58DE-4909-9694-459785B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3907-6BA0-4AD7-BBBE-41BE6CC9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A9E7-2A47-4DFC-AD04-668AD22B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46AC-A5FB-4191-A4A9-691CD3B8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9DB7-45B4-473F-8C1A-C63E6523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0547-1DAA-4CB5-9427-075EBCCF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E29-9D8D-4C69-8E5B-5DEB3D0B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B2E7-5FAC-4114-ACDD-E4E1603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9775-6FA5-4749-A0A7-5F2BBC5F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E9ED-DD15-40EB-AA4A-164B94D8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2BF8-E196-4840-B91D-DE8F54D5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5BE2-4839-4266-94D5-A59DBB2B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A2C-A70B-41F1-B5CD-01F388C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7C0-14DA-437B-B371-DFB610C1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D0A-C61E-4123-8C5B-88121F0A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6F6-966A-4613-B704-DE756D9F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321-4A21-4292-8FF9-972A68D3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276-CAF4-45A8-A15A-FF790009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180-ED31-4027-AFC3-4533326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694C-3AD5-4101-870B-B3F692F5421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33cc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41BE-F3AC-4767-B527-CF8E24A2A7E0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ПРЕЗЕНТАЦИЯ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ЛЕПБУ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4724280"/>
            <a:ext cx="7345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6b00"/>
                </a:solidFill>
                <a:latin typeface="Arial"/>
              </a:rPr>
              <a:t>ЭТИКЕТ ДЛЯ ДОШКОЛЯ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042920" y="1916280"/>
            <a:ext cx="705816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User\Desktop\Новая папка (3)\DSCN2172.JPG"/>
          <p:cNvPicPr/>
          <p:nvPr/>
        </p:nvPicPr>
        <p:blipFill>
          <a:blip r:embed="rId1"/>
          <a:stretch/>
        </p:blipFill>
        <p:spPr>
          <a:xfrm rot="19502400">
            <a:off x="611280" y="1072800"/>
            <a:ext cx="4902120" cy="367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User\Desktop\Новая папка (3)\DSCN2176.JPG"/>
          <p:cNvPicPr/>
          <p:nvPr/>
        </p:nvPicPr>
        <p:blipFill>
          <a:blip r:embed="rId2"/>
          <a:stretch/>
        </p:blipFill>
        <p:spPr>
          <a:xfrm rot="2183400">
            <a:off x="3628800" y="1860480"/>
            <a:ext cx="4902120" cy="3676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2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Выводы: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3640" y="907560"/>
            <a:ext cx="85215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Реализация данного пособия сближает всех детей и воспитателя. У детей расширяется кругозор, совершенствуется мыслительная деятельность. Приносит воспитателю пополнение предметно-развивающей среды в виде серии эксклюзивных интерактивных папок о этик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В результате реализации пособия подтвердилась гипотеза, что лэпбук – это отличный способ получения, расширения и закрепления знаний по определенн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Значение лэпбука для дошкольников:</a:t>
            </a:r>
            <a:br>
              <a:rPr sz="4000"/>
            </a:br>
            <a:br>
              <a:rPr sz="40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4920" y="1341360"/>
            <a:ext cx="8450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способствует пониманию и запоминанию информации по тем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способствует повторению и закреплению материала по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Заключ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1197000"/>
            <a:ext cx="81612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собие направлено на решение задач в воспитании этикета. Содержание папки способствует расширению  представлений и закрепление понятий по теме «Этикет». В ходе работы с тематическим материалом ребенок проводит наблюдения, выполняет задания, изучает и закрепляет информацию. Впоследствии, имея под рукой готовую тематическую папку, ребенок может освежить свои знания по той или иной те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ser\Desktop\Новая папка (3)\DSCN2160.JPG"/>
          <p:cNvPicPr/>
          <p:nvPr/>
        </p:nvPicPr>
        <p:blipFill>
          <a:blip r:embed="rId1"/>
          <a:stretch/>
        </p:blipFill>
        <p:spPr>
          <a:xfrm rot="20465400">
            <a:off x="610920" y="404280"/>
            <a:ext cx="3678120" cy="4902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User\Desktop\Новая папка (3)\DSCN2161.JPG"/>
          <p:cNvPicPr/>
          <p:nvPr/>
        </p:nvPicPr>
        <p:blipFill>
          <a:blip r:embed="rId2"/>
          <a:stretch/>
        </p:blipFill>
        <p:spPr>
          <a:xfrm rot="982200">
            <a:off x="4063680" y="1301760"/>
            <a:ext cx="3838680" cy="5119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User\Desktop\Новая папка (3)\DSCN2159.JPG"/>
          <p:cNvPicPr/>
          <p:nvPr/>
        </p:nvPicPr>
        <p:blipFill>
          <a:blip r:embed="rId1"/>
          <a:stretch/>
        </p:blipFill>
        <p:spPr>
          <a:xfrm rot="4449600">
            <a:off x="1820520" y="1388880"/>
            <a:ext cx="5705280" cy="4280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244080"/>
            <a:ext cx="83026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Black"/>
              </a:rPr>
              <a:t>Цель данного пособ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280" y="836640"/>
            <a:ext cx="8209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ировать навыки культурного по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 Black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ривлекать родителей к культурному воспитанию детей в сем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изучать понятия «этикет» и «культурный человек»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формировать культурное поведение в разнообразных жизненных ситуац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активизировать творческие способности, воображение, любознательность, мышление, коммуникативные навыки, познавательный интерес к этическим правилам и норм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закреплять знания детей о речевом этикете в определенных бытовых ситуац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формировать умения самостоятельно анализировать и систематизировать полученные знания, расширять словарный запас, развивать связную ре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воспитывать у детей нравственные качества, необходимые в общ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48428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Дидактическое пособие лэпбук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«Эикет для дошколят»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дназначено для детей старшего дошкольного возраста. Дети совместно с воспитателем или самостоятельно могут участвовать в изучении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620280"/>
            <a:ext cx="8594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Разделы этикета в лепбу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риветствие и прощание».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Цель: Ввести в речевой обиход вежливые формы приветствия и прощ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 транспорте».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Цель: продолжать формировать положительные моральные качества. Развивать способность оценивать свое отношение к позитивным и негативным поступка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ведение за столом»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теория и практика). 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Цель: Учить детей накрывать стол, расширять знания детей о правилах хорошего тона за столом. Воспитывать хорошие манеры.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Закреплять умение сохранять правильную позу во время еды.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Совершенствовать умение пользоваться столовыми приборами ( ложки, вилки, ножи, тарелки разного назначения и др.).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Учить различным видам сервировки, стола, приемам складывания тканевой салфетки. Продолжать знакомить с тем, что, как и чем едя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8920" y="188640"/>
            <a:ext cx="8666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Культура внешнего вида».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Цель: Учить детей быть опрятными, чистыми, уметь замечать красоту костюма, его оригинальность, стиль, моду. Аккуратно и бережно складывать и хранить одежду, соблюдать чистоту места пользования вещами (шкаф, полки). Следить за внешним обликом, не забывать причесыв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Ходим в гости», «Принимаем гостей»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Цель: Продолжать знакомство детей с понятием "этикет", приобретать навыки общения, поведения дома, на улице, в транспорте и т.д. Закреплять умение дарить и получать подарки. Развивать связную речь, способность к самостоятельным суждениям, умение вести диалог. Воспитывать умение вести себя в обществе, стремление проявлять заботу о других, создавать радостно—эмоциональное настро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 общественных места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Цель: Воспитание детей, умеющих достойно себя вести в обществе и стать впоследствии гармонично развитой лич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6993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Black"/>
              </a:rPr>
              <a:t>Содержание лепбука:</a:t>
            </a:r>
            <a:br>
              <a:rPr sz="5400"/>
            </a:br>
            <a:br>
              <a:rPr sz="54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апки скоросшивател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Схемы поведения в разных ситуациях, раскраски по теме, картинки по теме, стихи с иллюстрациями по теме, вопросы по теме, иллюстрации столовых приборов по этике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нверты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Настольно-печатные игры по теме, книжки-малышки со стихами, рассказами, загадками, пословицами и поговорками по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Users\User\Desktop\Новая папка (3)\DSCN2174.JPG"/>
          <p:cNvPicPr/>
          <p:nvPr/>
        </p:nvPicPr>
        <p:blipFill>
          <a:blip r:embed="rId1"/>
          <a:stretch/>
        </p:blipFill>
        <p:spPr>
          <a:xfrm rot="20095800">
            <a:off x="514080" y="812520"/>
            <a:ext cx="4602240" cy="345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User\Desktop\Новая папка (3)\DSCN2174.JPG"/>
          <p:cNvPicPr/>
          <p:nvPr/>
        </p:nvPicPr>
        <p:blipFill>
          <a:blip r:embed="rId2"/>
          <a:stretch/>
        </p:blipFill>
        <p:spPr>
          <a:xfrm rot="2190000">
            <a:off x="4114440" y="2503440"/>
            <a:ext cx="4470480" cy="3354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4:49:21Z</dcterms:created>
  <dc:creator>pptforschool.ru</dc:creator>
  <dc:description/>
  <dc:language>en-US</dc:language>
  <cp:lastModifiedBy>User</cp:lastModifiedBy>
  <dcterms:modified xsi:type="dcterms:W3CDTF">2018-08-28T17:40:15Z</dcterms:modified>
  <cp:revision>44</cp:revision>
  <dc:subject/>
  <dc:title>Slajd 1</dc:title>
</cp:coreProperties>
</file>