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C734-71C4-44FD-A356-A0459FA84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BA98-2A06-42AA-B9AB-2AFD7C0539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2FE-4955-4E5C-8D32-5539F217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FF2-9A64-42AE-81FC-F4811425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578-9FB9-43E7-8CFF-F3F9E602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879-ECA2-4DD6-BCB4-8F11C2AE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CF0-6249-4600-9B4E-10A1FFA5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E73C-97FC-4264-823D-8BFB0290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E906-6DCC-434F-8A7C-5C72D0BD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0BA9-3468-4418-B6C9-2EC49402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6527-39B5-4556-BA5E-422741B3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7D84-2D2F-4328-A9B2-368A01A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BE53-DB79-4B90-AED4-24BFAC84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047-C0E4-4D27-8D7B-3FF25112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E223-4F72-4D04-9A45-DBA2024B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C5C3-8158-4A92-B587-33283BF2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45E7-FBC5-4073-A509-28489D81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A827-B535-46E5-9E48-6B87FFD2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297A-1B55-4EC0-AF56-70AC04E4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6703-0847-4D03-9B9F-CCE704DA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C7E9-3431-40B2-849A-4F9BB599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8BC2-3C03-420A-A5A9-FC313AB3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3DDA-1FBC-44E2-966A-412010E4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C126-0609-4A55-8DA0-D75DCF61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A3D-24E0-414E-9300-3F2D7B5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14C5-0935-400D-842C-7AFB9C54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C4FB-89B6-495C-A6B0-BFA3718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D1CB4-DA2D-4ED8-ACDB-082C988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AB77-2360-45BA-83D3-4A5DBE9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30E2-5E35-4212-B9CB-23ACC9F3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191B-06AA-4207-A72C-F1296B30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8131-A1C3-4F2D-A974-C553EF63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0714-4C2F-40E1-B652-6D15A130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A96D-8A19-4746-8C18-090FE20B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4E50-C7A2-4044-9095-9E03D396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296-CBF6-4B46-93E1-5992AE24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0AD8-9F8B-4631-888A-59B1E40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1E8F-42DA-414D-9EF3-B4A7A84B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0F9D-F7A0-4E62-911F-CCB79AF8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C4221-CE73-4FF2-9320-583A6B0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353A-5A32-4724-95A6-9944ED7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4AE4-EDCE-4172-AEA0-02B9F8E1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54172-EE5E-4885-984E-3276373C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667B3-D626-4D00-9FB6-F1DFC23E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C06D-76ED-4348-A436-CE013959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BB9A9-C232-40EA-9AF3-024315A9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EBF-4222-410B-B478-732C7A05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5609-D709-4C99-AACD-5C9B5CA5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A46D9-763A-48F0-8AF6-E67B661A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95A18-22E7-40DF-8CD3-60FB77D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9EF4A-9DA1-4BA9-84FD-96311BE8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25DD0-A6C9-4C92-A252-716C8F8B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2A59-BFDD-4DB7-AD1C-36D0871D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60A95-E8ED-4155-ADF3-B0F3FBE8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555E-109D-44D7-BE8A-5D6D6F3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FEDB-A39A-4556-B004-F5E102FE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F5E97-0C1D-4013-9451-486FC5C1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5C3-1559-437C-B929-EB19104C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3161F-9659-4249-B015-3F74923B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582-5A53-4320-8C3C-A77B17C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E41-412E-48BD-B9D9-DDF6EA0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497-AB13-427F-B7A3-6FB3D01F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4D9-6319-4E40-9325-C40A85845FE8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E8BC-CAA7-401D-B770-693E5EE094C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FDFC-8D9E-4E64-BB96-88240960960D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F0D3-A2B5-477C-BBE2-DDAB68C45BB9}" type="slidenum"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E7F2-ACE6-4311-B33C-9E5BC1BE2A37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6264360" cy="50990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367080" y="662760"/>
            <a:ext cx="5105520" cy="182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214200" y="691920"/>
            <a:ext cx="7858080" cy="398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int - Pétersbourg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click?url=http%3A%2F%2Fvmoskvy"/>
          <p:cNvPicPr/>
          <p:nvPr/>
        </p:nvPicPr>
        <p:blipFill>
          <a:blip r:embed="rId1"/>
          <a:stretch/>
        </p:blipFill>
        <p:spPr>
          <a:xfrm>
            <a:off x="1000080" y="1643040"/>
            <a:ext cx="6000840" cy="4286160"/>
          </a:xfrm>
          <a:prstGeom prst="rect">
            <a:avLst/>
          </a:prstGeom>
          <a:ln w="0">
            <a:noFill/>
          </a:ln>
        </p:spPr>
      </p:pic>
      <p:pic>
        <p:nvPicPr>
          <p:cNvPr id="231" name="Заголовок 2" descr=""/>
          <p:cNvPicPr/>
          <p:nvPr/>
        </p:nvPicPr>
        <p:blipFill>
          <a:blip r:embed="rId2"/>
          <a:stretch/>
        </p:blipFill>
        <p:spPr>
          <a:xfrm>
            <a:off x="-6480" y="317520"/>
            <a:ext cx="7255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&amp;Rcy;&amp;ucy;&amp;scy;&amp;scy;&amp;kcy;&amp;icy;&amp;jcy; &amp;mcy;&amp;ucy;&amp;zcy;&amp;iecy;&amp;jcy; &amp;Scy;&amp;acy;&amp;ncy;&amp;kcy;&amp;tcy;-&amp;Pcy;&amp;iecy;&amp;tcy;&amp;iecy;&amp;rcy;&amp;bcy;&amp;ucy;&amp;rcy;&amp;gcy;"/>
          <p:cNvPicPr/>
          <p:nvPr/>
        </p:nvPicPr>
        <p:blipFill>
          <a:blip r:embed="rId1"/>
          <a:stretch/>
        </p:blipFill>
        <p:spPr>
          <a:xfrm>
            <a:off x="1357200" y="2071800"/>
            <a:ext cx="5400720" cy="3525840"/>
          </a:xfrm>
          <a:prstGeom prst="rect">
            <a:avLst/>
          </a:prstGeom>
          <a:ln w="0">
            <a:noFill/>
          </a:ln>
        </p:spPr>
      </p:pic>
      <p:pic>
        <p:nvPicPr>
          <p:cNvPr id="233" name="Заголовок 2" descr=""/>
          <p:cNvPicPr/>
          <p:nvPr/>
        </p:nvPicPr>
        <p:blipFill>
          <a:blip r:embed="rId2"/>
          <a:stretch/>
        </p:blipFill>
        <p:spPr>
          <a:xfrm>
            <a:off x="-6480" y="317520"/>
            <a:ext cx="7255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7:53:56Z</dcterms:created>
  <dc:creator>USER</dc:creator>
  <dc:description/>
  <dc:language>en-US</dc:language>
  <cp:lastModifiedBy>BOSS</cp:lastModifiedBy>
  <dcterms:modified xsi:type="dcterms:W3CDTF">2019-10-15T17:27:18Z</dcterms:modified>
  <cp:revision>16</cp:revision>
  <dc:subject/>
  <dc:title>Слайд 1</dc:title>
</cp:coreProperties>
</file>