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0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6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BA42-66D3-4073-A933-752B31E958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B1109-A054-474B-A94C-DB15FC4C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909D-4D7F-43DA-89FC-5001AE13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B078-6F21-4952-BCBA-8356E4CBBA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BCCE9-CF24-4032-A5A9-15CCE1BBD6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65EA6-F163-4F6C-A426-6FEF3968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AD30E-C7EC-4F99-B5C1-6CF2054F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D067D-2109-4CBC-8CEB-D864D40E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E57AB-7B2F-4746-A11E-5E0E22CA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6B136-0A5F-4543-BB84-8D14B6CF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0475B-BEF8-4F5A-B04A-16D1367F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6A49-1620-4F50-8E2D-06B7B0F3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E273A-A08F-4993-955D-2D6A763A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64C17-5DC4-4193-8306-E0BBEC64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3CFC8-CC47-4E2D-AA14-8C1CF87A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1E1AA-B07F-48D9-80E4-266339BE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C0C6D-F92C-4F50-9DAD-E9B8929C25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0712-D155-4840-B20D-443832E86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74F8-CFDD-4E7C-84DA-81ABD89B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E748-C795-49AF-A327-A77C6AA6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CB8B-39AB-48A1-9D74-309B91BD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B189-2EAA-4790-9D8B-FA2245AE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F92C-6C84-4B41-97B2-E83BCE27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2B13-190C-483F-95EF-D3FFB70B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F121-1899-4BD1-9FB8-4ADD4983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3EE4-0AB3-40C0-965A-FEDE2FD9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6443-7A8E-4975-8718-252E63C8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1B1A-B13C-42A1-B2D5-383F1BF3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B7B9-9C0B-4262-BB32-373EF3F5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EABC-1BC7-4E6D-A04F-4CAE570F13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346B-747A-4B51-B5AB-4FAAE48B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F4C4-5600-470A-88D2-B4A58C56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6693-8CBC-431E-A237-9E3A121C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DFAF-9C7B-4FDA-AA02-03B64CF8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0E52-59C1-4F99-A1C8-186A73BF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7B2E-8AE3-4E39-8C8E-851743D4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977C5-3FB9-4D55-AEA8-7C9942774D7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75B15-8DFB-4DD4-9F35-7DA86FD39ED0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2632C-D021-4307-B32A-9DFC271067B0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4360" y="503280"/>
            <a:ext cx="6227640" cy="53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АЗБУКА </a:t>
            </a:r>
            <a:br>
              <a:rPr sz="6000"/>
            </a:br>
            <a:r>
              <a:rPr b="1" i="1" lang="ru-RU" sz="5800" spc="-1" strike="noStrike">
                <a:solidFill>
                  <a:srgbClr val="ffcc00"/>
                </a:solidFill>
                <a:latin typeface="Times New Roman"/>
              </a:rPr>
              <a:t>БЕЗОПАСНОСТИ</a:t>
            </a:r>
            <a:br>
              <a:rPr sz="6000"/>
            </a:b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Выполнила: воспитатель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твинова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ександра Владимировна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03960" y="3311640"/>
            <a:ext cx="1976400" cy="3024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492120" y="503280"/>
            <a:ext cx="8148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900"/>
            </a:br>
            <a:r>
              <a:rPr b="1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«Детский сад № </a:t>
            </a:r>
            <a:r>
              <a:rPr b="1" lang="en-US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9</a:t>
            </a:r>
            <a:r>
              <a:rPr b="1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» г. Краснодар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рогие ребят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иглашаю вас совершить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увлекательное путешествие в страну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авил дорожного движе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и дорожных знаков!!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перед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792000" y="431640"/>
            <a:ext cx="75679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Бывает так, что в месте, где нужно перейти дорогу, зебры нет. Что делать? Тогда следует искат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Segoe UI"/>
              </a:rPr>
              <a:t>надземные или подземные пешеходные переходы.</a:t>
            </a: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934920" y="3240000"/>
            <a:ext cx="3600720" cy="3002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1440000" y="1474920"/>
            <a:ext cx="2087280" cy="190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4540320" y="1566720"/>
            <a:ext cx="36669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27352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144360" y="4103640"/>
            <a:ext cx="180036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3"/>
          <p:cNvSpPr/>
          <p:nvPr/>
        </p:nvSpPr>
        <p:spPr>
          <a:xfrm>
            <a:off x="863640" y="14436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420e"/>
          </a:solidFill>
          <a:ln w="82800">
            <a:solidFill>
              <a:srgbClr val="ffd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аходясь на остановке, переходи дорогу только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тогда, когда общественный транспорт отойдет о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. Если транспорт не отходи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язательно нужно отойти о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 на безопас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расстояние так, чтобы видеть едущ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справа и слева маш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SV</cp:lastModifiedBy>
  <dcterms:modified xsi:type="dcterms:W3CDTF">2019-10-15T11:45:33Z</dcterms:modified>
  <cp:revision>4</cp:revision>
  <dc:subject/>
  <dc:title>Слайд 1</dc:title>
</cp:coreProperties>
</file>