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11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1B819-A886-4884-A445-D1274C8B4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979C8-2693-4B6D-B6EA-7B35631EC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849C9-0F3A-422E-BEF4-2602191AD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B8770-D704-4815-879A-0C946A533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DA7EE5-1BE3-43B9-A1A6-8A82E33BA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8AA016-F8DC-435C-A0AC-ABCAF2EA4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FF5F77-2986-4FB7-B4C3-E473212BE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656A13-FCA7-49E8-B1E3-9F920F928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8A41E3-259A-43DB-AC63-E0215F5B2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E77757-2ADA-4AE4-A4AE-95F99488A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B4A30F-2898-446A-9248-A9C26EA27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6C041-CF15-49E8-8F51-AE8CDA52C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0AB199-F918-4128-B69B-F41E4AE1B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6F04FB-3D1A-4725-BCD1-A0C0B7FF4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85AA4A-0E68-4140-AAC1-84B15EA4E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6032FC-93FC-45DF-9447-8249373AF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B33195-D19E-43F8-984E-C179B6DBE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A244A-8234-48F1-8E13-16004164B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2A07C-6141-497C-A379-9E9FAB10E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36C96-28AE-4F19-B0BF-33944D211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9F901-4146-4501-8B13-5F54A989E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237A0-38CC-424E-9B7A-4C6BC279C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7E0D9-E83D-45FD-AFB4-BC20BBD6F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07A05-7589-4BA3-BD5B-0ACD446CC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43978-6757-458E-9278-3FF702FB6D9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65830-CDD5-46AB-9C81-060A05987F51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Решение экспериментальных задач по теме : «Давление  жидкостей и газов. Сообщающиеся сосуды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7 класс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Автор: Газтдинова Зиля Габбасов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Преподаватель физики и математики МОБУ СОШ с.Буриказганово Стерлитамакского района Республики Башкортостан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3" name=""/>
          <p:cNvGraphicFramePr/>
          <p:nvPr/>
        </p:nvGraphicFramePr>
        <p:xfrm>
          <a:off x="684360" y="1268280"/>
          <a:ext cx="8146800" cy="4657680"/>
        </p:xfrm>
        <a:graphic>
          <a:graphicData uri="http://schemas.openxmlformats.org/drawingml/2006/table">
            <a:tbl>
              <a:tblPr/>
              <a:tblGrid>
                <a:gridCol w="7138800"/>
                <a:gridCol w="1008000"/>
              </a:tblGrid>
              <a:tr h="154944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ысота</a:t>
                      </a:r>
                      <a:r>
                        <a:rPr b="1" i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i="1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оды</a:t>
                      </a:r>
                      <a:r>
                        <a:rPr b="1" i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h</a:t>
                      </a:r>
                      <a:r>
                        <a:rPr b="1" i="1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1,</a:t>
                      </a:r>
                      <a:r>
                        <a:rPr b="1" i="1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см</a:t>
                      </a:r>
                      <a:r>
                        <a:rPr b="0" i="1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04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ысота неизвестной жидкости </a:t>
                      </a:r>
                      <a:r>
                        <a:rPr b="1" i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h</a:t>
                      </a:r>
                      <a:r>
                        <a:rPr b="1" i="1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2</a:t>
                      </a:r>
                      <a:r>
                        <a:rPr b="1" i="1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, см</a:t>
                      </a:r>
                      <a:r>
                        <a:rPr b="0" i="1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9964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лотность воды, г/см3</a:t>
                      </a:r>
                      <a:r>
                        <a:rPr b="0" i="1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481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лотность неизвестной жидкости , г/см3</a:t>
                      </a:r>
                      <a:r>
                        <a:rPr b="0" i="1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?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104" name="Object 43"/>
              <p:cNvSpPr txBox="1"/>
              <p:nvPr/>
            </p:nvSpPr>
            <p:spPr>
              <a:xfrm>
                <a:off x="1258920" y="6524640"/>
                <a:ext cx="6095880" cy="10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ыводы к задаче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Во сколько раз плотность одной жидкости больше плотности другой, во столько раз меньше высота ее столба при равенстве давлени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i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Плотность исследуемой жидкости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i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,9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i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/см3. исследуемая жидкость - </a:t>
            </a:r>
            <a:r>
              <a:rPr b="0" i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асло   машинна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i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дача 2.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пределить избыточное давление в сосуде Приборы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 группа-</a:t>
            </a:r>
            <a:r>
              <a:rPr b="0" i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жидкостный манометр, шприц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 группа -микроманометр, сосуд с водой , гофрированная коробочк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0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просы к задач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29600" cy="46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Почему при погружении коробку в воду изменяются уровни жидкости в коленах  манометра?(Работа по рисунку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Что такое избыточное давление и как его определить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 помощи жидкостного манометра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*.Как перевести см, мм  водяного столба в Па 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*.Устройство и принцип работы микроманометр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Picture 4" descr=""/>
          <p:cNvPicPr/>
          <p:nvPr/>
        </p:nvPicPr>
        <p:blipFill>
          <a:blip r:embed="rId1"/>
          <a:stretch/>
        </p:blipFill>
        <p:spPr>
          <a:xfrm>
            <a:off x="3276720" y="4076640"/>
            <a:ext cx="3384360" cy="2637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97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ыполнение работ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Снимите показания приборов, переведите см (мм) водяного столба в Паскаль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Рассчитайте избыточное давление р=р0+р1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ормальное атмосферное давлени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0=101300</a:t>
            </a:r>
            <a:r>
              <a:rPr b="0" i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1= ρ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h</a:t>
            </a:r>
            <a:r>
              <a:rPr b="0" i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,  ρ=1000кг/м3 (воды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Rectangle 4"/>
          <p:cNvSpPr/>
          <p:nvPr/>
        </p:nvSpPr>
        <p:spPr>
          <a:xfrm>
            <a:off x="3687840" y="3716280"/>
            <a:ext cx="177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Rectangle 5"/>
          <p:cNvSpPr/>
          <p:nvPr/>
        </p:nvSpPr>
        <p:spPr>
          <a:xfrm>
            <a:off x="395280" y="3055320"/>
            <a:ext cx="84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Rectangle 6"/>
          <p:cNvSpPr/>
          <p:nvPr/>
        </p:nvSpPr>
        <p:spPr>
          <a:xfrm>
            <a:off x="3938040" y="324576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ыполнение работы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8" name="Picture 2" descr="C:\Users\Admin\Desktop\Новая папка (2)\IMG_20190206_125652.jpg"/>
          <p:cNvPicPr/>
          <p:nvPr/>
        </p:nvPicPr>
        <p:blipFill>
          <a:blip r:embed="rId1"/>
          <a:stretch/>
        </p:blipFill>
        <p:spPr>
          <a:xfrm>
            <a:off x="1187280" y="1965240"/>
            <a:ext cx="3086280" cy="41148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6" descr="C:\Users\Admin\Desktop\Новая папка (2)\IMG_20190205_124552.jpg"/>
          <p:cNvPicPr/>
          <p:nvPr/>
        </p:nvPicPr>
        <p:blipFill>
          <a:blip r:embed="rId2"/>
          <a:stretch/>
        </p:blipFill>
        <p:spPr>
          <a:xfrm>
            <a:off x="5219640" y="12790440"/>
            <a:ext cx="3417840" cy="45561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7" descr=""/>
          <p:cNvPicPr/>
          <p:nvPr/>
        </p:nvPicPr>
        <p:blipFill>
          <a:blip r:embed="rId3"/>
          <a:stretch/>
        </p:blipFill>
        <p:spPr>
          <a:xfrm>
            <a:off x="5403960" y="1965240"/>
            <a:ext cx="3097080" cy="4127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дведение итогов. Рефлекси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i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егодня я научился 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0" i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Я понял, что 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0" i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ыло трудно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0" i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еперь я могу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машнее задани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шить задачу №575. Определить давление газа  в баллоне </a:t>
            </a:r>
            <a:r>
              <a:rPr b="0" i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 нормальном атмосферном давлении (В манометре находится ртуть.) </a:t>
            </a:r>
            <a:r>
              <a:rPr b="0" i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В.И.Лукашик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дание 8( №5), страница 36 по учебнику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сточники информации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 "Сборник задач по физике 7-9кл", В.И.Лукашик, М. Просв.2012г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   Учебник "Физика 8 класс",Н.С.Пурышева, Н.Е. Важеевская"Дрофа", М.2013г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Прямоугольник 3" descr=""/>
          <p:cNvPicPr/>
          <p:nvPr/>
        </p:nvPicPr>
        <p:blipFill>
          <a:blip r:embed="rId1"/>
          <a:stretch/>
        </p:blipFill>
        <p:spPr>
          <a:xfrm>
            <a:off x="1341360" y="1195560"/>
            <a:ext cx="5815080" cy="339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                   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Эпиграф: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       «Опыт ценнее тысячи мнений,     рожденных воображением»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                                  М.В Ломоносов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Цели урока</a:t>
            </a: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: развивать умение применять  полученные знания на практике, сформировать практические навыки у учащихся при решении экспериментальных задач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Задачи урока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Образовательная 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пособствовать формированию у учащихся теоретических  знаний по теме; интеллектуальных и практических умений и навыков, в том числе выполнять простые измерения и опыт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Развивающая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– способствовать развитию мышления учащихся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Воспитательная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- 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спитание чувства коллективизма, взаимовыручки, аккуратности, бережного отношения к оборудованию кабинета, умения слушать и быть услышанным, способствовать развитию самостоятельност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Прямоугольник 2"/>
          <p:cNvSpPr/>
          <p:nvPr/>
        </p:nvSpPr>
        <p:spPr>
          <a:xfrm>
            <a:off x="324000" y="1704960"/>
            <a:ext cx="8569080" cy="46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32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Актуализация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Какой закон проявляется на опыте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формулируйте его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Почему струи воды вытекает из отверстий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 одинаково? Дайте объяснение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В трех сосудах с одинаковой площадью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на налита вода до одного уровня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динаково ли давление воды на дно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этих сосудах?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9" name="Рисунок 5" descr="http://festival.1september.ru/articles/416480/Image235.gif"/>
          <p:cNvPicPr/>
          <p:nvPr/>
        </p:nvPicPr>
        <p:blipFill>
          <a:blip r:embed="rId1"/>
          <a:stretch/>
        </p:blipFill>
        <p:spPr>
          <a:xfrm>
            <a:off x="7337520" y="295200"/>
            <a:ext cx="752400" cy="2819520"/>
          </a:xfrm>
          <a:prstGeom prst="rect">
            <a:avLst/>
          </a:prstGeom>
          <a:ln w="0">
            <a:noFill/>
          </a:ln>
        </p:spPr>
      </p:pic>
      <p:pic>
        <p:nvPicPr>
          <p:cNvPr id="90" name="Рисунок 6" descr="http://festival.1september.ru/articles/416480/Image236.gif"/>
          <p:cNvPicPr/>
          <p:nvPr/>
        </p:nvPicPr>
        <p:blipFill>
          <a:blip r:embed="rId2"/>
          <a:stretch/>
        </p:blipFill>
        <p:spPr>
          <a:xfrm>
            <a:off x="6732720" y="3213000"/>
            <a:ext cx="1962000" cy="1657440"/>
          </a:xfrm>
          <a:prstGeom prst="rect">
            <a:avLst/>
          </a:prstGeom>
          <a:ln w="0">
            <a:noFill/>
          </a:ln>
        </p:spPr>
      </p:pic>
      <p:pic>
        <p:nvPicPr>
          <p:cNvPr id="91" name="Рисунок 7" descr="http://festival.1september.ru/articles/416480/Image237.gif"/>
          <p:cNvPicPr/>
          <p:nvPr/>
        </p:nvPicPr>
        <p:blipFill>
          <a:blip r:embed="rId3"/>
          <a:stretch/>
        </p:blipFill>
        <p:spPr>
          <a:xfrm>
            <a:off x="6994440" y="5064120"/>
            <a:ext cx="1685880" cy="114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Решение экспериментальных задач.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дача 1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одной колене сообщающихся сосудов находится вода, а в другой- неизвестная  жидкость. Определите плотность неизвестной жидкост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орудование : 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общающиеся сосуды с водой  и неизвестной жидкостью, школьная линейка, уровень, таблица плотностей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0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просы к задаче</a:t>
            </a:r>
            <a:r>
              <a:rPr b="0" i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Почему  в сообщающихся сосудах уровни  жидкостей разные?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Каково соотношение между высотами столба жидкостей разной плотности в сообщающихся сосудах и их плотностями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Как определить плотность неизвестной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жидкости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0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-108000" y="2599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65200" y="184464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Р1=Р2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ρ1 h1  = ρ2 h2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Rectangle 2"/>
          <p:cNvSpPr/>
          <p:nvPr/>
        </p:nvSpPr>
        <p:spPr>
          <a:xfrm>
            <a:off x="108000" y="290520"/>
            <a:ext cx="8229600" cy="1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Picture 6" descr="Сообщающиеся сосуды. фото"/>
          <p:cNvPicPr/>
          <p:nvPr/>
        </p:nvPicPr>
        <p:blipFill>
          <a:blip r:embed="rId1"/>
          <a:srcRect l="0" t="-560" r="0" b="9110"/>
          <a:stretch/>
        </p:blipFill>
        <p:spPr>
          <a:xfrm>
            <a:off x="3218040" y="982800"/>
            <a:ext cx="2952720" cy="309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4" descr="C:\Users\Admin\Desktop\Новая папка (2)\IMG_20190206_125420.jpg"/>
          <p:cNvPicPr/>
          <p:nvPr/>
        </p:nvPicPr>
        <p:blipFill>
          <a:blip r:embed="rId1"/>
          <a:stretch/>
        </p:blipFill>
        <p:spPr>
          <a:xfrm>
            <a:off x="755640" y="3500280"/>
            <a:ext cx="3164040" cy="30974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3" descr="C:\Users\Admin\Desktop\Новая папка (2)\IMG_20190205_130242.jpg"/>
          <p:cNvPicPr/>
          <p:nvPr/>
        </p:nvPicPr>
        <p:blipFill>
          <a:blip r:embed="rId2"/>
          <a:stretch/>
        </p:blipFill>
        <p:spPr>
          <a:xfrm>
            <a:off x="5148360" y="3467160"/>
            <a:ext cx="3168720" cy="3124080"/>
          </a:xfrm>
          <a:prstGeom prst="rect">
            <a:avLst/>
          </a:prstGeom>
          <a:ln w="0">
            <a:noFill/>
          </a:ln>
        </p:spPr>
      </p:pic>
      <p:sp>
        <p:nvSpPr>
          <p:cNvPr id="102" name="TextBox 1"/>
          <p:cNvSpPr/>
          <p:nvPr/>
        </p:nvSpPr>
        <p:spPr>
          <a:xfrm flipH="1">
            <a:off x="468360" y="476280"/>
            <a:ext cx="8136000" cy="27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ыполнение работы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Измерьте высоты жидкостей и запишите данные в таблицу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Рассчитайте плотность неизвестной жидкости и по таблице плотностей определите название вещества. Сделайте вывод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11:46:07Z</dcterms:created>
  <dc:creator>1</dc:creator>
  <dc:description/>
  <dc:language>en-US</dc:language>
  <cp:lastModifiedBy>Admin</cp:lastModifiedBy>
  <dcterms:modified xsi:type="dcterms:W3CDTF">2019-10-03T17:03:43Z</dcterms:modified>
  <cp:revision>69</cp:revision>
  <dc:subject/>
  <dc:title>Тема: «Усиление практической направленности в процессе  обучения  физики» Выполнила: учительница физики МБОУ СОШ с. Буриказган Газтдинова Зиля Габбасовна</dc:title>
</cp:coreProperties>
</file>