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028-7399-46FE-ABDA-CE40B5BF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D37-7A04-4EA5-9942-29FD9E20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A3D-FFDD-40E9-B794-C089A1D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EDD-CC5C-4D62-B261-591A672E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BE05-60B8-4C69-A7F0-DEF6996F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FF67-9726-4B68-9BF5-C97B183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392-FDAF-4E22-AA3F-44CC5C85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D14-7869-46C5-A41C-D8B7E28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65C-2D11-4E58-A288-79FEB79C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68A9-7265-47A6-AA04-481EBD2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66F9-13A1-4106-8084-B6F3405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C0A-FB7F-4F37-A1EC-A6E5D65E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5711-20C0-4C49-97D8-614ED4D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CC5C-34E6-4436-8EF3-47138B6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D839-86B1-4044-8EE5-03BF9691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F5CD-4209-41FE-93C9-B81F23A0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8229-A0AF-41CA-A87C-B0D974AE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80747-FF5C-4022-A33E-E650CCB5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942E6-A08F-4D2D-A78A-08AE1FC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16D3-1B09-4D73-81E7-EA4A71B8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EAFB2-B9DC-4915-9D73-326B76E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02CE1-212E-438D-B7DD-0D6DCFC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6EE-75DA-4764-B77C-4B02B946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51C1F-CB7E-428E-ADC5-DB62021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EEAE4-00AD-4DD7-A77D-B5DE797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DB96E-A8CA-4D3B-A76E-6587998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CD24C-B000-4905-89AD-0D8A77A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4B2D3-BE51-4B34-A539-5741CEA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722ED-17ED-4756-A879-371156FB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C997C-1002-4CC3-AF7E-DAEE8E4E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D4AE-6774-424F-A507-433DBBB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0A24-9EAB-4058-9B20-AA2A8AA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FF5B-4B1A-4FF7-B975-5A837D1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C07-0D34-41B9-874C-0404FE6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56C8-2F61-4A27-B854-7BEB9381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6A35-B023-4BC8-B79F-8D21F7E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7090-15C1-47D4-A3D9-9E305F6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8598-B889-4AAF-8943-54BCB44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0408-FE39-47B9-859B-06A333B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C870-A3B2-40DC-8DBE-C8CF3AE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C016-A4A9-4378-BF0C-8EE2323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E637-328F-4405-A3F7-3AD24079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DFE3-A54E-4CAC-8025-2DF7DAA4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B2535-EE62-4D05-B6FF-7DB1E601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A44-60F8-4EFF-A8D7-BFEF2FF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CF336-B08F-46B0-8062-A06B882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CEBE7-5363-4F3B-A017-FB41A5EA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2CA71-0B10-4512-80B3-80A548F6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5A223-683F-4E53-BB8F-A109F77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6F534-DC4B-4BFB-9C91-2E1D9AA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A50C5-0657-42D3-B57F-F35EF348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97067-EE89-4C78-9674-0AB53A9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4DA8D-92ED-4F99-974B-BE43E3A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C44C7-16D9-401D-8B12-DE72511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04CD3-8B8C-46B6-A283-589909C4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29D-5D6B-426D-8E43-9F5E69D7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65E48-A6CB-4BC9-8925-2053DF19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F4724-A320-4D5F-933A-4FF7DBE6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632A4-BBD9-4B79-B46B-8D745C34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9FF75-493D-4B40-BE26-C845947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4C071-AC1D-41FB-B673-B78DE0B0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2977E-12B0-456E-9DA0-79C043D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E3B7F-1016-488A-897A-DAF76708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C1973-67F4-4C93-826D-D67406A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CAB6B-15D1-4D8F-B699-C30D250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EAD04-C4FE-4019-81A6-472C096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7D6-BB3D-4FB1-99ED-70835BC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70735-7E84-42BA-B948-D3AA5AC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18037-29A2-46AA-9CE5-C1CFC074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28281-2033-4460-928C-C28F0468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CD113-8262-4EE6-9AD9-197D79B0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E5ED6-21AF-47BA-98B3-04C0294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7D170-2E3C-4CE8-BD88-B1CA949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1B7A8-E6C0-496C-947E-2085E8E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3C786-C86E-40D0-9E2F-1F13E28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3331C-CE73-4FD6-9E64-4B648B1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FA20E-C4B6-4683-B4B1-01C340E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3F1-9A73-4C3A-894E-1F20A57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43A32-219B-4B62-B9BC-FAD6539C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0A78E-A838-49BB-A672-A249F74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0AE24-70A8-430B-A557-03FC983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5FE6A-6D16-4CC5-9EAF-404A670D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59467-5079-4279-990A-560B6575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C5B-765C-4082-AB6C-1589F8B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903A-0A90-46EC-B8F5-071E0598C1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711-AB2E-479B-86EB-FFC9E7C09A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C88-7610-4282-A4DD-B2E860AE44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622D-6A48-488B-9C13-6A899150C1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7CF-EBC4-46D4-8939-FABA67487D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2D45-CE08-4E31-9AED-F25E2E0329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A63-2EA6-4DA0-94EE-9A2F0340EB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8343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ff3300"/>
                </a:solidFill>
                <a:latin typeface="Century Schoolbook"/>
              </a:rPr>
              <a:t>УРОК ХИМИИ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ff3300"/>
                </a:solidFill>
                <a:latin typeface="Century Schoolbook"/>
              </a:rPr>
              <a:t>8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 КЛАСС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979640" y="407664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471840" y="49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2786040" y="4929120"/>
            <a:ext cx="601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Times New Roman"/>
              </a:rPr>
              <a:t>Рогачева Наталья Васи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Times New Roman"/>
              </a:rPr>
              <a:t>учитель химии первой катег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Times New Roman"/>
              </a:rPr>
              <a:t>МБОУ «Рождествен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357120" y="785880"/>
          <a:ext cx="8358120" cy="4572000"/>
        </p:xfrm>
        <a:graphic>
          <a:graphicData uri="http://schemas.openxmlformats.org/drawingml/2006/table">
            <a:tbl>
              <a:tblPr/>
              <a:tblGrid>
                <a:gridCol w="3500640"/>
                <a:gridCol w="48574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 +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l + 3Cu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Al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C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 2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 +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extBox 5"/>
          <p:cNvSpPr/>
          <p:nvPr/>
        </p:nvSpPr>
        <p:spPr>
          <a:xfrm>
            <a:off x="571680" y="9288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7"/>
          <p:cNvSpPr/>
          <p:nvPr/>
        </p:nvSpPr>
        <p:spPr>
          <a:xfrm>
            <a:off x="4429080" y="928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50004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9"/>
          <p:cNvSpPr/>
          <p:nvPr/>
        </p:nvSpPr>
        <p:spPr>
          <a:xfrm>
            <a:off x="442908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2"/>
          <p:cNvSpPr/>
          <p:nvPr/>
        </p:nvSpPr>
        <p:spPr>
          <a:xfrm>
            <a:off x="1071720" y="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Тренажерная карта (отве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00040" y="579600"/>
          <a:ext cx="8143920" cy="627840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реакция ра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кция за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акция ра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еакция 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реакция соеди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642960" y="1501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57120" y="2018520"/>
            <a:ext cx="5643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OH + 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  <a:ea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2000160" y="3429000"/>
            <a:ext cx="650088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+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Сu(OH)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Прямоугольник 10"/>
          <p:cNvSpPr/>
          <p:nvPr/>
        </p:nvSpPr>
        <p:spPr>
          <a:xfrm>
            <a:off x="3960" y="2071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73320" y="2872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715000" y="250020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214200" y="2270880"/>
            <a:ext cx="3351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a3d01"/>
                </a:solidFill>
                <a:latin typeface="Arial"/>
              </a:rPr>
              <a:t>Cu(OH)</a:t>
            </a:r>
            <a:r>
              <a:rPr b="1" lang="ru-RU" sz="48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9a3d01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381920" y="2571840"/>
            <a:ext cx="456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CuO</a:t>
            </a:r>
            <a:r>
              <a:rPr b="1" lang="en-US" sz="6000" spc="-1" strike="noStrike">
                <a:solidFill>
                  <a:srgbClr val="9a3d01"/>
                </a:solidFill>
                <a:latin typeface="Times New Roman"/>
              </a:rPr>
              <a:t>  +  </a:t>
            </a: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H</a:t>
            </a:r>
            <a:r>
              <a:rPr b="1" lang="en-US" sz="54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9a3d01"/>
                </a:solidFill>
                <a:latin typeface="Arial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3502080" y="2571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3d01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444960" y="35856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3429000" y="314316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9"/>
          <p:cNvSpPr/>
          <p:nvPr/>
        </p:nvSpPr>
        <p:spPr>
          <a:xfrm>
            <a:off x="857160" y="24289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Cu +</a:t>
            </a:r>
            <a:r>
              <a:rPr b="1" lang="ru-RU" sz="7200" spc="-1" strike="noStrike">
                <a:solidFill>
                  <a:srgbClr val="9a3d0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"/>
          <p:cNvSpPr/>
          <p:nvPr/>
        </p:nvSpPr>
        <p:spPr>
          <a:xfrm>
            <a:off x="3419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Прямоугольник 8"/>
          <p:cNvSpPr/>
          <p:nvPr/>
        </p:nvSpPr>
        <p:spPr>
          <a:xfrm>
            <a:off x="5214960" y="2428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2C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Прямоугольник 9"/>
          <p:cNvSpPr/>
          <p:nvPr/>
        </p:nvSpPr>
        <p:spPr>
          <a:xfrm>
            <a:off x="214200" y="2428920"/>
            <a:ext cx="3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4357800" y="300024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0" y="2947320"/>
            <a:ext cx="428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Z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4821480" y="2947320"/>
            <a:ext cx="4087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Zn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7"/>
          <p:cNvSpPr/>
          <p:nvPr/>
        </p:nvSpPr>
        <p:spPr>
          <a:xfrm>
            <a:off x="3857760" y="350028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Третий лиш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Прямоугольник 3"/>
          <p:cNvSpPr/>
          <p:nvPr/>
        </p:nvSpPr>
        <p:spPr>
          <a:xfrm>
            <a:off x="571680" y="733320"/>
            <a:ext cx="67150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4P  +  5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 =  2P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Fe  +  S =  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2HgO  =  2Hg  +  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Прямоугольник 3"/>
          <p:cNvSpPr/>
          <p:nvPr/>
        </p:nvSpPr>
        <p:spPr>
          <a:xfrm>
            <a:off x="714240" y="4786200"/>
            <a:ext cx="45720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O =  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 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Ca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 =  CaO  +  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Cu  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= 2C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Прямоугольник 4"/>
          <p:cNvSpPr/>
          <p:nvPr/>
        </p:nvSpPr>
        <p:spPr>
          <a:xfrm>
            <a:off x="642960" y="2714760"/>
            <a:ext cx="70009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Cl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2KCl  +  3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K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+  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Zn  +  2HCl  =  ZnCl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H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57120" y="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арточка 2 (ответы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Прямоугольник 8"/>
          <p:cNvSpPr/>
          <p:nvPr/>
        </p:nvSpPr>
        <p:spPr>
          <a:xfrm>
            <a:off x="285840" y="571680"/>
            <a:ext cx="88581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9a3d01"/>
                </a:solidFill>
                <a:latin typeface="Times New Roman"/>
              </a:rPr>
              <a:t>(1 балл)</a:t>
            </a:r>
            <a:r>
              <a:rPr b="1" lang="en-US" sz="2600" spc="-1" strike="noStrike">
                <a:solidFill>
                  <a:srgbClr val="9a3d01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g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9a3d01"/>
                </a:solidFill>
                <a:latin typeface="Times New Roman"/>
              </a:rPr>
              <a:t>(1 балл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OH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9a3d01"/>
                </a:solidFill>
                <a:latin typeface="Times New Roman"/>
              </a:rPr>
              <a:t>(1 балл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Zn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Zn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9a3d01"/>
                </a:solidFill>
                <a:latin typeface="Times New Roman"/>
              </a:rPr>
              <a:t>(1 балл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Б 2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O – реакция соеди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) KCl + AgN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KN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AgCl↓ – реакция обме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) Mg(OH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Mg(N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O – реакция обме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) Cu +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Cl = Cu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реакция замещ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) Fe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3NaOH = Fe(OH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3NaCl –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еакция обме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) N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O  = 2NaOH -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еакция соединения  </a:t>
            </a:r>
            <a:r>
              <a:rPr b="1" lang="ru-RU" sz="2000" spc="-1" strike="noStrike">
                <a:solidFill>
                  <a:srgbClr val="9a3d01"/>
                </a:solidFill>
                <a:latin typeface="Times New Roman"/>
              </a:rPr>
              <a:t>(6 ошибо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того за карточку 2 –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max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12 б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5"/>
          <p:cNvSpPr/>
          <p:nvPr/>
        </p:nvSpPr>
        <p:spPr>
          <a:xfrm>
            <a:off x="571680" y="1351080"/>
            <a:ext cx="7429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ритерии выставления отм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-2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- отметка  «5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-18 баллов - отметка  «4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-10 баллов - отметка  «3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3" name="image03.png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620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5"/>
          <p:cNvGrpSpPr/>
          <p:nvPr/>
        </p:nvGrpSpPr>
        <p:grpSpPr>
          <a:xfrm>
            <a:off x="-115920" y="-42840"/>
            <a:ext cx="3571920" cy="1042920"/>
            <a:chOff x="-115920" y="-42840"/>
            <a:chExt cx="3571920" cy="1042920"/>
          </a:xfrm>
        </p:grpSpPr>
        <p:pic>
          <p:nvPicPr>
            <p:cNvPr id="35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15920" y="-42840"/>
              <a:ext cx="3571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Прямоугольник 7"/>
          <p:cNvGrpSpPr/>
          <p:nvPr/>
        </p:nvGrpSpPr>
        <p:grpSpPr>
          <a:xfrm>
            <a:off x="-122400" y="1030320"/>
            <a:ext cx="2865600" cy="3078000"/>
            <a:chOff x="-122400" y="1030320"/>
            <a:chExt cx="2865600" cy="3078000"/>
          </a:xfrm>
        </p:grpSpPr>
        <p:pic>
          <p:nvPicPr>
            <p:cNvPr id="359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122400" y="1030320"/>
              <a:ext cx="286560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0" y="1071720"/>
              <a:ext cx="257184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Задание: </a:t>
              </a: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заполните пустые овалы соответствующей информацией. Раскройте каждый признак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6"/>
          <p:cNvGrpSpPr/>
          <p:nvPr/>
        </p:nvGrpSpPr>
        <p:grpSpPr>
          <a:xfrm>
            <a:off x="2714760" y="500040"/>
            <a:ext cx="5715000" cy="5643720"/>
            <a:chOff x="2714760" y="500040"/>
            <a:chExt cx="5715000" cy="5643720"/>
          </a:xfrm>
        </p:grpSpPr>
        <p:sp>
          <p:nvSpPr>
            <p:cNvPr id="362" name="Oval 7"/>
            <p:cNvSpPr/>
            <p:nvPr/>
          </p:nvSpPr>
          <p:spPr>
            <a:xfrm>
              <a:off x="407340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8"/>
            <p:cNvSpPr/>
            <p:nvPr/>
          </p:nvSpPr>
          <p:spPr>
            <a:xfrm>
              <a:off x="652968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9"/>
            <p:cNvSpPr/>
            <p:nvPr/>
          </p:nvSpPr>
          <p:spPr>
            <a:xfrm>
              <a:off x="5610960" y="500040"/>
              <a:ext cx="1841760" cy="6080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10"/>
            <p:cNvSpPr/>
            <p:nvPr/>
          </p:nvSpPr>
          <p:spPr>
            <a:xfrm>
              <a:off x="5351040" y="2576160"/>
              <a:ext cx="2006640" cy="7398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11"/>
            <p:cNvSpPr/>
            <p:nvPr/>
          </p:nvSpPr>
          <p:spPr>
            <a:xfrm>
              <a:off x="3721320" y="1146600"/>
              <a:ext cx="1583280" cy="66492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AutoShape 12"/>
            <p:cNvCxnSpPr/>
            <p:nvPr/>
          </p:nvCxnSpPr>
          <p:spPr>
            <a:xfrm flipH="1">
              <a:off x="5031720" y="3168000"/>
              <a:ext cx="443520" cy="390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13"/>
            <p:cNvCxnSpPr/>
            <p:nvPr/>
          </p:nvCxnSpPr>
          <p:spPr>
            <a:xfrm>
              <a:off x="6385320" y="3315960"/>
              <a:ext cx="367560" cy="17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9" name="Text Box 14"/>
            <p:cNvSpPr/>
            <p:nvPr/>
          </p:nvSpPr>
          <p:spPr>
            <a:xfrm>
              <a:off x="5610960" y="2739960"/>
              <a:ext cx="153288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AutoShape 15"/>
            <p:cNvCxnSpPr/>
            <p:nvPr/>
          </p:nvCxnSpPr>
          <p:spPr>
            <a:xfrm flipH="1" flipV="1">
              <a:off x="5350680" y="2575440"/>
              <a:ext cx="49680" cy="22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6"/>
            <p:cNvCxnSpPr/>
            <p:nvPr/>
          </p:nvCxnSpPr>
          <p:spPr>
            <a:xfrm flipV="1">
              <a:off x="6222600" y="2180880"/>
              <a:ext cx="406440" cy="39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17"/>
            <p:cNvCxnSpPr/>
            <p:nvPr/>
          </p:nvCxnSpPr>
          <p:spPr>
            <a:xfrm flipH="1" flipV="1">
              <a:off x="4651200" y="1872000"/>
              <a:ext cx="195120" cy="25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AutoShape 18"/>
            <p:cNvCxnSpPr/>
            <p:nvPr/>
          </p:nvCxnSpPr>
          <p:spPr>
            <a:xfrm flipH="1" flipV="1">
              <a:off x="6627960" y="1145880"/>
              <a:ext cx="124200" cy="53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Text Box 19"/>
            <p:cNvSpPr/>
            <p:nvPr/>
          </p:nvSpPr>
          <p:spPr>
            <a:xfrm>
              <a:off x="4215600" y="3558240"/>
              <a:ext cx="7358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6529680" y="3558240"/>
              <a:ext cx="984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AutoShape 21"/>
            <p:cNvCxnSpPr/>
            <p:nvPr/>
          </p:nvCxnSpPr>
          <p:spPr>
            <a:xfrm flipH="1">
              <a:off x="3557880" y="38228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AutoShape 22"/>
            <p:cNvCxnSpPr/>
            <p:nvPr/>
          </p:nvCxnSpPr>
          <p:spPr>
            <a:xfrm flipH="1">
              <a:off x="6085080" y="38696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23"/>
            <p:cNvCxnSpPr/>
            <p:nvPr/>
          </p:nvCxnSpPr>
          <p:spPr>
            <a:xfrm>
              <a:off x="4645080" y="3937320"/>
              <a:ext cx="201240" cy="41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24"/>
            <p:cNvCxnSpPr/>
            <p:nvPr/>
          </p:nvCxnSpPr>
          <p:spPr>
            <a:xfrm flipH="1">
              <a:off x="6529320" y="3937320"/>
              <a:ext cx="477360" cy="122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25"/>
            <p:cNvCxnSpPr/>
            <p:nvPr/>
          </p:nvCxnSpPr>
          <p:spPr>
            <a:xfrm>
              <a:off x="7513560" y="3870000"/>
              <a:ext cx="253080" cy="32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1" name="Oval 26"/>
            <p:cNvSpPr/>
            <p:nvPr/>
          </p:nvSpPr>
          <p:spPr>
            <a:xfrm>
              <a:off x="7273440" y="419400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215600" y="4350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28"/>
            <p:cNvSpPr/>
            <p:nvPr/>
          </p:nvSpPr>
          <p:spPr>
            <a:xfrm>
              <a:off x="2791800" y="440172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29"/>
            <p:cNvSpPr/>
            <p:nvPr/>
          </p:nvSpPr>
          <p:spPr>
            <a:xfrm>
              <a:off x="5689080" y="511452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30"/>
            <p:cNvSpPr/>
            <p:nvPr/>
          </p:nvSpPr>
          <p:spPr>
            <a:xfrm>
              <a:off x="5539680" y="444888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31"/>
            <p:cNvSpPr/>
            <p:nvPr/>
          </p:nvSpPr>
          <p:spPr>
            <a:xfrm>
              <a:off x="7340760" y="498276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AutoShape 32"/>
            <p:cNvCxnSpPr/>
            <p:nvPr/>
          </p:nvCxnSpPr>
          <p:spPr>
            <a:xfrm>
              <a:off x="7149600" y="3928680"/>
              <a:ext cx="191160" cy="12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Oval 33"/>
            <p:cNvSpPr/>
            <p:nvPr/>
          </p:nvSpPr>
          <p:spPr>
            <a:xfrm>
              <a:off x="6529680" y="568404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AutoShape 34"/>
            <p:cNvCxnSpPr/>
            <p:nvPr/>
          </p:nvCxnSpPr>
          <p:spPr>
            <a:xfrm>
              <a:off x="7093080" y="3937680"/>
              <a:ext cx="1080" cy="174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0" name="Oval 35"/>
            <p:cNvSpPr/>
            <p:nvPr/>
          </p:nvSpPr>
          <p:spPr>
            <a:xfrm>
              <a:off x="2714760" y="346860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3447000" y="2856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AutoShape 37"/>
            <p:cNvCxnSpPr/>
            <p:nvPr/>
          </p:nvCxnSpPr>
          <p:spPr>
            <a:xfrm flipH="1">
              <a:off x="3803040" y="3650400"/>
              <a:ext cx="270360" cy="1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Oval 38"/>
            <p:cNvSpPr/>
            <p:nvPr/>
          </p:nvSpPr>
          <p:spPr>
            <a:xfrm>
              <a:off x="6222960" y="1736640"/>
              <a:ext cx="1920960" cy="620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39"/>
            <p:cNvSpPr/>
            <p:nvPr/>
          </p:nvSpPr>
          <p:spPr>
            <a:xfrm>
              <a:off x="4000320" y="2130120"/>
              <a:ext cx="18086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5" name="AutoShape 33"/>
          <p:cNvCxnSpPr>
            <a:stCxn id="362" idx="0"/>
          </p:cNvCxnSpPr>
          <p:nvPr/>
        </p:nvCxnSpPr>
        <p:spPr>
          <a:xfrm flipH="1" flipV="1">
            <a:off x="4214160" y="3285360"/>
            <a:ext cx="3848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85880" y="2142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Century Schoolbook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071720" y="3643200"/>
          <a:ext cx="6730920" cy="2133720"/>
        </p:xfrm>
        <a:graphic>
          <a:graphicData uri="http://schemas.openxmlformats.org/drawingml/2006/table">
            <a:tbl>
              <a:tblPr/>
              <a:tblGrid>
                <a:gridCol w="3674880"/>
                <a:gridCol w="30560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CuCl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Zn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Fe(OH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KI + Pb(N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Ca + 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7"/>
          <p:cNvSpPr/>
          <p:nvPr/>
        </p:nvSpPr>
        <p:spPr>
          <a:xfrm>
            <a:off x="214200" y="837720"/>
            <a:ext cx="78343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конспект (приложение №1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ажнение 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 (карточка №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шите практически осуществимые уравнения реакций, расставьте коэффициенты, укажите типы ре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5"/>
          <p:cNvGrpSpPr/>
          <p:nvPr/>
        </p:nvGrpSpPr>
        <p:grpSpPr>
          <a:xfrm>
            <a:off x="-115920" y="-42840"/>
            <a:ext cx="3571920" cy="1042920"/>
            <a:chOff x="-115920" y="-42840"/>
            <a:chExt cx="3571920" cy="1042920"/>
          </a:xfrm>
        </p:grpSpPr>
        <p:pic>
          <p:nvPicPr>
            <p:cNvPr id="397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15920" y="-42840"/>
              <a:ext cx="3571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00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7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AutoShape 14"/>
            <p:cNvCxnSpPr>
              <a:endCxn id="402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2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9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5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6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8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3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Прямоугольник 5"/>
          <p:cNvGrpSpPr/>
          <p:nvPr/>
        </p:nvGrpSpPr>
        <p:grpSpPr>
          <a:xfrm>
            <a:off x="-115920" y="-42840"/>
            <a:ext cx="3571920" cy="1042920"/>
            <a:chOff x="-115920" y="-42840"/>
            <a:chExt cx="3571920" cy="1042920"/>
          </a:xfrm>
        </p:grpSpPr>
        <p:pic>
          <p:nvPicPr>
            <p:cNvPr id="43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15920" y="-42840"/>
              <a:ext cx="3571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38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14"/>
            <p:cNvCxnSpPr>
              <a:endCxn id="440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0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2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7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3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4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5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8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1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Прямоугольник 5"/>
          <p:cNvGrpSpPr/>
          <p:nvPr/>
        </p:nvGrpSpPr>
        <p:grpSpPr>
          <a:xfrm>
            <a:off x="-115920" y="-42840"/>
            <a:ext cx="3571920" cy="1042920"/>
            <a:chOff x="-115920" y="-42840"/>
            <a:chExt cx="3571920" cy="1042920"/>
          </a:xfrm>
        </p:grpSpPr>
        <p:pic>
          <p:nvPicPr>
            <p:cNvPr id="47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15920" y="-42840"/>
              <a:ext cx="3571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76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Calibri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2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3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AutoShape 14"/>
            <p:cNvCxnSpPr>
              <a:endCxn id="478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0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5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изменение цве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25"/>
            <p:cNvSpPr/>
            <p:nvPr/>
          </p:nvSpPr>
          <p:spPr>
            <a:xfrm>
              <a:off x="5715000" y="51436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га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адо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запа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ыделение тепло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5"/>
          <p:cNvSpPr/>
          <p:nvPr/>
        </p:nvSpPr>
        <p:spPr>
          <a:xfrm>
            <a:off x="928800" y="1928880"/>
            <a:ext cx="74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Тема уро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Типы химических реакци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0" y="214200"/>
            <a:ext cx="87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рточ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ыполняется ли закон сохранения массы в следующих схемах химических реакци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85880" y="1571760"/>
          <a:ext cx="7643880" cy="4572000"/>
        </p:xfrm>
        <a:graphic>
          <a:graphicData uri="http://schemas.openxmlformats.org/drawingml/2006/table">
            <a:tbl>
              <a:tblPr/>
              <a:tblGrid>
                <a:gridCol w="4214880"/>
                <a:gridCol w="3429000"/>
              </a:tblGrid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ы химических реа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Ca + 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Ca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2C + 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2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Fe(OH)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FeO +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Ca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aO + 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2Zn + HCl → Zn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Fe + Cu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u + Fe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 Аg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NaCl → AgCl + Na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  Na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Ba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NaCl + BaS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0" y="214200"/>
            <a:ext cx="87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рточ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ыполняется ли закон сохранения массы в следующих схемах химических реакци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85880" y="1571760"/>
          <a:ext cx="7643880" cy="4572000"/>
        </p:xfrm>
        <a:graphic>
          <a:graphicData uri="http://schemas.openxmlformats.org/drawingml/2006/table">
            <a:tbl>
              <a:tblPr/>
              <a:tblGrid>
                <a:gridCol w="4143240"/>
                <a:gridCol w="3500640"/>
              </a:tblGrid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ы химических реа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Ca + 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Ca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2C + 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2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Fe(OH)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FeO +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Ca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aO + 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2Zn + HCl → Zn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Fe + Cu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u + Fe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 Аg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NaCl → AgCl + Na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  Na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Ba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NaCl + BaS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0" y="214200"/>
            <a:ext cx="87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рточ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ыполняется ли закон сохранения массы в следующих схемах химических реакци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785880" y="1571760"/>
          <a:ext cx="7643880" cy="4572000"/>
        </p:xfrm>
        <a:graphic>
          <a:graphicData uri="http://schemas.openxmlformats.org/drawingml/2006/table">
            <a:tbl>
              <a:tblPr/>
              <a:tblGrid>
                <a:gridCol w="4429080"/>
                <a:gridCol w="3214800"/>
              </a:tblGrid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14480"/>
                          <a:tab algn="r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ы химических реа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Ca + 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Ca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2C + 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Fe(OH)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FeO +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Ca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aO + C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 Zn 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→ ZnCl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H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 Fe + Cu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Cu + FeC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  Аg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NaCl → AgCl + NaN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   Na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BaCl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l + BaS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4:09:36Z</dcterms:created>
  <dc:creator>metodroom</dc:creator>
  <dc:description/>
  <dc:language>en-US</dc:language>
  <cp:lastModifiedBy>Рогачева Наталья</cp:lastModifiedBy>
  <dcterms:modified xsi:type="dcterms:W3CDTF">2015-04-14T10:51:11Z</dcterms:modified>
  <cp:revision>61</cp:revision>
  <dc:subject/>
  <dc:title>Проблемный урок - эффективное средство развития учащихся</dc:title>
</cp:coreProperties>
</file>