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0A7-3139-4E9F-A873-52436D4E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334-40D6-4CB5-9226-7F3FF68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93B00-768E-4AD7-879F-37B0452F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843D5-573A-4413-B9E8-88EE44D1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7DAA7-31C1-4BDA-B48C-8E8F04E2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4C3B3-C26F-461C-946B-4FFE2FB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1C369-67BF-4167-85D3-18FB80E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1C08-133B-4FD1-9D34-3AB927A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05728-B488-4A45-A745-4D46ED2C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52947-51C8-48FF-B036-73476207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B3B44-C6BE-436A-ABE3-3D7FEFF9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E38-04F9-4C36-84D4-7FCB933D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CC8-85CD-46B2-ABA0-9389F92B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EEDF-25CB-4B9E-A159-537CCFFC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7E3A-F66D-438A-B3F9-A665B9B9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0211-92F4-4E64-83A8-91127981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1BC6-845B-47A2-9CBE-A6E4DA9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4BE-FD9B-4B57-BDFB-F5BB821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225E-DF0D-421D-BEFA-41984189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9675-F147-43EB-B342-F88DF0E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E1E-D36B-41C5-BC99-00AAB053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6E2B-29AB-4214-859F-6A78A59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61F6-BB99-4231-84E2-D372EF64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515B-D1A5-47AE-845B-15CA9BFF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D328-CB72-4D65-B7A6-5E97263E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36D2-7EFD-4C75-84F7-7173874D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74BB-9ED8-434B-91E7-1DFA9380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941B-7441-435F-BAEF-488BCA4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E699-BB03-4C7B-9C46-AC30112F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84C0-E1FD-4109-8161-19B56A08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632E-C29D-475A-A323-9644221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9D8-656E-4AC5-8EDF-E27A45B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A81B-F710-4A3D-B5AE-7BDFA5FB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8F83-F1E0-4583-985E-369F028F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7BCB-9898-4BA3-98F4-38F34C93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6FC8-2211-4B02-BDD1-B58A3D1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2BD6-67F1-474B-A57C-2BBD003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C43E-40B4-4BAE-9459-A440C475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8598-546A-4F62-B8A3-B311C24B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CB87-B167-47F3-825D-19C0B492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3A2A-1B1F-473D-8078-A2B7A2E6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5E79-11DE-4641-8BF6-584DD0F0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C64-3737-4CB2-9FDD-3766D92A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02A9-90D8-4737-A4C4-B3AB702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AF06-472E-4C3C-922D-28B20392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6B77-43B8-4C15-AF7C-3F6DC5D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947F-0AE6-4766-8D7E-D1B9DEF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168E-EBA3-49C5-8F32-F0EB5E73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BFBC-7031-4F4E-9416-0AA9335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4899-282E-486C-8089-D49E89D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C2AA-A1EA-46D2-9D6B-06D6A863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A02E-A685-4F57-B3EB-C4425E83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BC27-D181-4AB6-8C0E-297CD57A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9E1-364F-455A-8201-DC16084F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9AA2C-3975-4461-9C44-53959D83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98457-3EC8-4B6C-BFFE-62724867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9ED1-5347-4D36-81B2-FD82EB35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1AF3-9BFA-483C-BD1C-ED4620AB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25A0-27CF-4377-9978-69357EC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CFDC-E411-4D54-B09B-E6074C8A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23FE5-4FEB-4A3E-A106-6D424A4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FA6F-CAC7-49D9-8F34-C2450E1B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894F-08E1-4585-B19A-69CC814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194F-FE19-4315-8B9C-0B44F2A7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7A5-7CFE-4386-A90B-3A6BBAD5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7312-128F-4F99-9540-6B450735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9B54E-C167-434A-8C0C-F5B71126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ACA72-0614-48C4-8DEF-C5B5B0DE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C3CEC-B187-468C-8DEF-EDA234D2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6D2A-A77E-41D3-A530-7E76236D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D8961-030F-4406-AE8F-A5A82F3A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4E58E-B8E9-4563-93D8-0A2C669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3EB1-9A5F-46D2-8738-3741EAD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9FFF-E368-4263-9664-2B329BD5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C1BC0-2A96-466A-A6D1-2E9FD53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436-D5F9-4636-B825-FED0479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98F6-EE9A-4DF1-8719-5A4D2B51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7F75D-EC19-47F0-B844-B420DBA5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C3F0-3846-4015-918C-D4BF60C5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48E57-BF3A-4FDE-B0BE-F849089C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A3745-CD2B-4DC3-A4CE-ABB427D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BA96-3739-4B21-93FB-F75ECE12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5823-7439-438E-8C2B-2CB2E41B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067E-8AAE-46A3-BA47-85747014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0B00-ED60-4E44-82E8-BF7B90B6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555E-D392-4C39-A676-A936034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86C-3B11-49FC-9A58-179932CA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318A-58C4-484B-B86D-63FAADD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5477-C0BB-4BCC-95D3-47169BA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78BD-EDC2-47D7-B891-B6DB7D14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1C05D-A3C0-419E-AFA2-4BA1F554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B6AAF-D221-4205-A0F7-A81B97DB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B028A-7D26-489E-87B8-FDCB2591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1761-1CBE-4940-B5EB-A3D1B691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D6B02-FFB8-462A-A55C-E8AA5EB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04C9B-8E21-4CCF-B381-DDB82D35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5DCB5-1DD0-4413-BB91-D1887C6A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805-F4B0-4301-A7B2-71ACE1E9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DCF3-4FC6-48B7-A78B-961A319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1E63-9331-4052-9122-89EA85F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3DA15-B6BD-4FE0-B8F9-5931CDD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48DD-5C5C-4970-94D7-C27A8267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61C5D-F638-48FF-946B-BFA04D4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39D99-B6D8-41D3-81A5-3B3D6379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ED54E-8098-4A06-BB45-D4737713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4D62-BE6E-45C0-A7AA-CE0C5D42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720C5-E082-4559-B735-9930ABBD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61078-F853-4E41-885C-0D58E5E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5C5-EB4D-473B-B6EC-73C795390FD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080E-D762-4F63-BDE2-4E05487D491E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D02D-44E0-4C79-9C8A-9F44D164052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4814-D0CD-42E1-87A5-60CFE9DB3A7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DE5A-3D66-4428-937F-9E687C2C41C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D710-0C7F-4D1A-95B0-7529AE830A8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AF7-ADE2-4ADA-B890-92F6FBD6A060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950-3C03-42E6-85F6-B1792EB09024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B32-D57B-4FA6-969D-C47AEAD8576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10" descr=""/>
          <p:cNvPicPr/>
          <p:nvPr/>
        </p:nvPicPr>
        <p:blipFill>
          <a:blip r:embed="rId1"/>
          <a:stretch/>
        </p:blipFill>
        <p:spPr>
          <a:xfrm>
            <a:off x="1066680" y="60480"/>
            <a:ext cx="8253360" cy="310356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13" descr="галя 028.jpg"/>
          <p:cNvPicPr/>
          <p:nvPr/>
        </p:nvPicPr>
        <p:blipFill>
          <a:blip r:embed="rId2"/>
          <a:stretch/>
        </p:blipFill>
        <p:spPr>
          <a:xfrm>
            <a:off x="4071960" y="3500280"/>
            <a:ext cx="4191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4" descr=""/>
          <p:cNvPicPr/>
          <p:nvPr/>
        </p:nvPicPr>
        <p:blipFill>
          <a:blip r:embed="rId1"/>
          <a:stretch/>
        </p:blipFill>
        <p:spPr>
          <a:xfrm>
            <a:off x="-36360" y="-152280"/>
            <a:ext cx="9448560" cy="33591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5440" y="2428560"/>
            <a:ext cx="84582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Cette fleur était le symbole des rois de France. 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Documents and Settings\VAL\Мои документы\мои рисунки фото красная гвоздика\2009-11-23, галя\галя 086.jpg"/>
          <p:cNvPicPr/>
          <p:nvPr/>
        </p:nvPicPr>
        <p:blipFill>
          <a:blip r:embed="rId1"/>
          <a:srcRect l="0" t="3048" r="3400" b="3048"/>
          <a:stretch/>
        </p:blipFill>
        <p:spPr>
          <a:xfrm>
            <a:off x="714240" y="1571760"/>
            <a:ext cx="6500880" cy="4143240"/>
          </a:xfrm>
          <a:prstGeom prst="rect">
            <a:avLst/>
          </a:prstGeom>
          <a:ln w="0">
            <a:noFill/>
          </a:ln>
        </p:spPr>
      </p:pic>
      <p:pic>
        <p:nvPicPr>
          <p:cNvPr id="430" name="Заголовок 2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4" descr=""/>
          <p:cNvPicPr/>
          <p:nvPr/>
        </p:nvPicPr>
        <p:blipFill>
          <a:blip r:embed="rId1"/>
          <a:stretch/>
        </p:blipFill>
        <p:spPr>
          <a:xfrm>
            <a:off x="-36360" y="-152280"/>
            <a:ext cx="9448560" cy="3359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5440" y="2428560"/>
            <a:ext cx="84582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Franklin Gothic Book"/>
              </a:rPr>
              <a:t>Ces fleurs jaunes ressemblent aux petits poussins.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C:\Documents and Settings\VAL\Мои документы\мои рисунки фото красная гвоздика\2009-11-23, галя\галя 074.jpg"/>
          <p:cNvPicPr/>
          <p:nvPr/>
        </p:nvPicPr>
        <p:blipFill>
          <a:blip r:embed="rId1"/>
          <a:srcRect l="52143" t="29645" r="2815" b="1696"/>
          <a:stretch/>
        </p:blipFill>
        <p:spPr>
          <a:xfrm>
            <a:off x="642960" y="1500120"/>
            <a:ext cx="5143320" cy="4214880"/>
          </a:xfrm>
          <a:prstGeom prst="rect">
            <a:avLst/>
          </a:prstGeom>
          <a:ln w="0">
            <a:noFill/>
          </a:ln>
        </p:spPr>
      </p:pic>
      <p:pic>
        <p:nvPicPr>
          <p:cNvPr id="434" name="Заголовок 2" descr=""/>
          <p:cNvPicPr/>
          <p:nvPr/>
        </p:nvPicPr>
        <p:blipFill>
          <a:blip r:embed="rId2"/>
          <a:stretch/>
        </p:blipFill>
        <p:spPr>
          <a:xfrm>
            <a:off x="298440" y="55440"/>
            <a:ext cx="91630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4" descr=""/>
          <p:cNvPicPr/>
          <p:nvPr/>
        </p:nvPicPr>
        <p:blipFill>
          <a:blip r:embed="rId1"/>
          <a:stretch/>
        </p:blipFill>
        <p:spPr>
          <a:xfrm>
            <a:off x="-36360" y="-152280"/>
            <a:ext cx="9448560" cy="33591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685440" y="2356920"/>
            <a:ext cx="84582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   </a:t>
            </a: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Cette fleur symbolise les hautes montagnes. Les alpinistes les connaissent bien.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VAL\Мои документы\мои рисунки фото красная гвоздика\2009-11-23, галя\галя 075.jpg"/>
          <p:cNvPicPr/>
          <p:nvPr/>
        </p:nvPicPr>
        <p:blipFill>
          <a:blip r:embed="rId1"/>
          <a:srcRect l="29353" t="58687" r="5376" b="0"/>
          <a:stretch/>
        </p:blipFill>
        <p:spPr>
          <a:xfrm>
            <a:off x="2714760" y="1643040"/>
            <a:ext cx="6072120" cy="3643200"/>
          </a:xfrm>
          <a:prstGeom prst="rect">
            <a:avLst/>
          </a:prstGeom>
          <a:ln w="0">
            <a:noFill/>
          </a:ln>
        </p:spPr>
      </p:pic>
      <p:pic>
        <p:nvPicPr>
          <p:cNvPr id="438" name="Заголовок 2" descr=""/>
          <p:cNvPicPr/>
          <p:nvPr/>
        </p:nvPicPr>
        <p:blipFill>
          <a:blip r:embed="rId2"/>
          <a:stretch/>
        </p:blipFill>
        <p:spPr>
          <a:xfrm>
            <a:off x="-79200" y="19080"/>
            <a:ext cx="90770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8" descr="галя 019.jpg"/>
          <p:cNvPicPr/>
          <p:nvPr/>
        </p:nvPicPr>
        <p:blipFill>
          <a:blip r:embed="rId1"/>
          <a:srcRect l="0" t="3439" r="3864" b="3590"/>
          <a:stretch/>
        </p:blipFill>
        <p:spPr>
          <a:xfrm>
            <a:off x="357120" y="2643120"/>
            <a:ext cx="3000600" cy="1928880"/>
          </a:xfrm>
          <a:prstGeom prst="rect">
            <a:avLst/>
          </a:prstGeom>
          <a:ln w="0">
            <a:noFill/>
          </a:ln>
        </p:spPr>
      </p:pic>
      <p:pic>
        <p:nvPicPr>
          <p:cNvPr id="402" name="Содержимое 7" descr="галя 029.jpg"/>
          <p:cNvPicPr/>
          <p:nvPr/>
        </p:nvPicPr>
        <p:blipFill>
          <a:blip r:embed="rId2"/>
          <a:srcRect l="0" t="2811" r="2349" b="7041"/>
          <a:stretch/>
        </p:blipFill>
        <p:spPr>
          <a:xfrm>
            <a:off x="5286240" y="4214880"/>
            <a:ext cx="3143520" cy="228600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14" descr=""/>
          <p:cNvPicPr/>
          <p:nvPr/>
        </p:nvPicPr>
        <p:blipFill>
          <a:blip r:embed="rId3"/>
          <a:stretch/>
        </p:blipFill>
        <p:spPr>
          <a:xfrm>
            <a:off x="-96840" y="176040"/>
            <a:ext cx="6869160" cy="259092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7" descr="галя 044.jpg"/>
          <p:cNvPicPr/>
          <p:nvPr/>
        </p:nvPicPr>
        <p:blipFill>
          <a:blip r:embed="rId4"/>
          <a:srcRect l="3489" t="0" r="5827" b="0"/>
          <a:stretch/>
        </p:blipFill>
        <p:spPr>
          <a:xfrm>
            <a:off x="4786200" y="1714680"/>
            <a:ext cx="3714840" cy="136512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4" descr="галя 068.jpg"/>
          <p:cNvPicPr/>
          <p:nvPr/>
        </p:nvPicPr>
        <p:blipFill>
          <a:blip r:embed="rId5"/>
          <a:srcRect l="0" t="6106" r="0" b="8444"/>
          <a:stretch/>
        </p:blipFill>
        <p:spPr>
          <a:xfrm>
            <a:off x="2857680" y="3714840"/>
            <a:ext cx="1852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857160" y="357120"/>
            <a:ext cx="6572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Franklin Gothic Medium"/>
              </a:rPr>
              <a:t>Le symbole de la Hollande</a:t>
            </a:r>
            <a:r>
              <a:rPr b="1" lang="ru-RU" sz="8000" spc="-1" strike="noStrike">
                <a:solidFill>
                  <a:srgbClr val="7030a0"/>
                </a:solidFill>
                <a:latin typeface="Franklin Gothic Medium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Содержимое 5" descr="галя 032.jpg"/>
          <p:cNvPicPr/>
          <p:nvPr/>
        </p:nvPicPr>
        <p:blipFill>
          <a:blip r:embed="rId1"/>
          <a:srcRect l="0" t="0" r="9488" b="10133"/>
          <a:stretch/>
        </p:blipFill>
        <p:spPr>
          <a:xfrm>
            <a:off x="857160" y="31431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6" descr="галя 033.jpg"/>
          <p:cNvPicPr/>
          <p:nvPr/>
        </p:nvPicPr>
        <p:blipFill>
          <a:blip r:embed="rId2"/>
          <a:srcRect l="0" t="0" r="8535" b="6811"/>
          <a:stretch/>
        </p:blipFill>
        <p:spPr>
          <a:xfrm>
            <a:off x="3571920" y="342900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5" descr="галя 031.jpg"/>
          <p:cNvPicPr/>
          <p:nvPr/>
        </p:nvPicPr>
        <p:blipFill>
          <a:blip r:embed="rId3"/>
          <a:srcRect l="0" t="0" r="8443" b="8444"/>
          <a:stretch/>
        </p:blipFill>
        <p:spPr>
          <a:xfrm>
            <a:off x="6858000" y="1857240"/>
            <a:ext cx="1428840" cy="21434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галя 030.jpg"/>
          <p:cNvPicPr/>
          <p:nvPr/>
        </p:nvPicPr>
        <p:blipFill>
          <a:blip r:embed="rId4"/>
          <a:srcRect l="8880" t="6660" r="4563" b="0"/>
          <a:stretch/>
        </p:blipFill>
        <p:spPr>
          <a:xfrm>
            <a:off x="5429160" y="4500720"/>
            <a:ext cx="27860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одержимое 4" descr="галя 025.jpg"/>
          <p:cNvPicPr/>
          <p:nvPr/>
        </p:nvPicPr>
        <p:blipFill>
          <a:blip r:embed="rId1"/>
          <a:srcRect l="0" t="6660" r="0" b="6811"/>
          <a:stretch/>
        </p:blipFill>
        <p:spPr>
          <a:xfrm>
            <a:off x="1000080" y="2214720"/>
            <a:ext cx="2631960" cy="185724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5" descr="галя 024.jpg"/>
          <p:cNvPicPr/>
          <p:nvPr/>
        </p:nvPicPr>
        <p:blipFill>
          <a:blip r:embed="rId2"/>
          <a:stretch/>
        </p:blipFill>
        <p:spPr>
          <a:xfrm>
            <a:off x="4572000" y="2143080"/>
            <a:ext cx="2244600" cy="18543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928800" y="3571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anklin Gothic Medium"/>
              </a:rPr>
              <a:t>L’orchidée, plante etonnante</a:t>
            </a:r>
            <a:r>
              <a:rPr b="0" lang="ru-RU" sz="5400" spc="-1" strike="noStrike">
                <a:solidFill>
                  <a:srgbClr val="ff0000"/>
                </a:solidFill>
                <a:latin typeface="Franklin Gothic Medium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Содержимое 7" descr="галя 036.jpg"/>
          <p:cNvPicPr/>
          <p:nvPr/>
        </p:nvPicPr>
        <p:blipFill>
          <a:blip r:embed="rId3"/>
          <a:srcRect l="5636" t="2707" r="4216" b="0"/>
          <a:stretch/>
        </p:blipFill>
        <p:spPr>
          <a:xfrm>
            <a:off x="6215040" y="4071960"/>
            <a:ext cx="2286000" cy="2562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C:\Documents and Settings\VAL\Мои документы\мои рисунки фото красная гвоздика\2009-11-23, галя\галя 023.jpg"/>
          <p:cNvPicPr/>
          <p:nvPr/>
        </p:nvPicPr>
        <p:blipFill>
          <a:blip r:embed="rId4"/>
          <a:srcRect l="0" t="0" r="5221" b="2327"/>
          <a:stretch/>
        </p:blipFill>
        <p:spPr>
          <a:xfrm>
            <a:off x="1357200" y="4429080"/>
            <a:ext cx="3143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одержимое 7" descr="галя 071.jpg"/>
          <p:cNvPicPr/>
          <p:nvPr/>
        </p:nvPicPr>
        <p:blipFill>
          <a:blip r:embed="rId1"/>
          <a:srcRect l="0" t="8785" r="0" b="9184"/>
          <a:stretch/>
        </p:blipFill>
        <p:spPr>
          <a:xfrm>
            <a:off x="1143000" y="1928880"/>
            <a:ext cx="3022560" cy="200016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8" descr="галя 070.jpg"/>
          <p:cNvPicPr/>
          <p:nvPr/>
        </p:nvPicPr>
        <p:blipFill>
          <a:blip r:embed="rId2"/>
          <a:srcRect l="0" t="6322" r="1314" b="5111"/>
          <a:stretch/>
        </p:blipFill>
        <p:spPr>
          <a:xfrm>
            <a:off x="4429080" y="3000240"/>
            <a:ext cx="4286160" cy="3000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9"/>
          <p:cNvSpPr/>
          <p:nvPr/>
        </p:nvSpPr>
        <p:spPr>
          <a:xfrm>
            <a:off x="857160" y="4287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46422"/>
                </a:solidFill>
                <a:latin typeface="Franklin Gothic Medium"/>
              </a:rPr>
              <a:t>La pomme de terre</a:t>
            </a:r>
            <a:r>
              <a:rPr b="0" lang="ru-RU" sz="5400" spc="-1" strike="noStrike">
                <a:solidFill>
                  <a:srgbClr val="546422"/>
                </a:solidFill>
                <a:latin typeface="Franklin Gothic Medium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4" descr=""/>
          <p:cNvPicPr/>
          <p:nvPr/>
        </p:nvPicPr>
        <p:blipFill>
          <a:blip r:embed="rId1"/>
          <a:stretch/>
        </p:blipFill>
        <p:spPr>
          <a:xfrm>
            <a:off x="-36360" y="-152280"/>
            <a:ext cx="9448560" cy="33591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440" y="2428560"/>
            <a:ext cx="84582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C’ EST LA REINE DES FLEURS</a:t>
            </a: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3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185904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7" descr="галя 100.jpg"/>
          <p:cNvPicPr/>
          <p:nvPr/>
        </p:nvPicPr>
        <p:blipFill>
          <a:blip r:embed="rId2"/>
          <a:stretch/>
        </p:blipFill>
        <p:spPr>
          <a:xfrm>
            <a:off x="1785960" y="1714680"/>
            <a:ext cx="6929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4" descr=""/>
          <p:cNvPicPr/>
          <p:nvPr/>
        </p:nvPicPr>
        <p:blipFill>
          <a:blip r:embed="rId1"/>
          <a:stretch/>
        </p:blipFill>
        <p:spPr>
          <a:xfrm>
            <a:off x="-36360" y="-152280"/>
            <a:ext cx="9448560" cy="33591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2356920"/>
            <a:ext cx="84582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Franklin Gothic Book"/>
              </a:rPr>
              <a:t>   </a:t>
            </a: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Ces fleurs blanches, élégantes et très parfumées apparaissent dans nos forêts au mois de mai.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C:\Documents and Settings\VAL\Мои документы\мои рисунки фото красная гвоздика\2009-11-23, галя\галя 014.jpg"/>
          <p:cNvPicPr/>
          <p:nvPr/>
        </p:nvPicPr>
        <p:blipFill>
          <a:blip r:embed="rId1"/>
          <a:srcRect l="0" t="4940" r="1164" b="4884"/>
          <a:stretch/>
        </p:blipFill>
        <p:spPr>
          <a:xfrm>
            <a:off x="1857240" y="1928880"/>
            <a:ext cx="6831000" cy="4429080"/>
          </a:xfrm>
          <a:prstGeom prst="rect">
            <a:avLst/>
          </a:prstGeom>
          <a:ln w="0">
            <a:noFill/>
          </a:ln>
        </p:spPr>
      </p:pic>
      <p:pic>
        <p:nvPicPr>
          <p:cNvPr id="426" name="Заголовок 4" descr=""/>
          <p:cNvPicPr/>
          <p:nvPr/>
        </p:nvPicPr>
        <p:blipFill>
          <a:blip r:embed="rId2"/>
          <a:stretch/>
        </p:blipFill>
        <p:spPr>
          <a:xfrm>
            <a:off x="298440" y="115920"/>
            <a:ext cx="91202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0:42:06Z</dcterms:created>
  <dc:creator>VAL</dc:creator>
  <dc:description/>
  <dc:language>en-US</dc:language>
  <cp:lastModifiedBy>BOSS</cp:lastModifiedBy>
  <dcterms:modified xsi:type="dcterms:W3CDTF">2019-10-15T17:57:55Z</dcterms:modified>
  <cp:revision>58</cp:revision>
  <dc:subject/>
  <dc:title>Слайд 1</dc:title>
</cp:coreProperties>
</file>