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wmf" ContentType="image/x-wmf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001-3AF6-43BA-A580-514147DA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CDB-FE85-45CD-9ED5-72C2C305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D876D-A02D-420F-A991-DB94BE1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CC71E-4B71-4146-B2D4-B0EDAC4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3BB7-B5A2-4B89-A63B-3AA9C69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FB10-052F-4F5E-9E18-B6DF483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A9481-3AB9-4E78-ABBB-409090E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C93DE-3A62-4C08-9147-2FB03F0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24919-FBF1-43E6-BAB0-1D422FAE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AB50-579D-4F9A-811A-4CE5D4C9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C71E0-64AC-4F16-8F43-90A936CB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20A02-E4CA-429A-82A6-97B83BA8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A0E-DBE5-4116-86FE-212EA212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B2CB7-B27E-4D6F-BC3B-9C60AB5E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36192-56FA-4D64-A707-58EFEEF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D3E0C-F5BE-47BA-9B23-4A66EFB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4B0B6-E8CB-499D-8B9F-00C1DEF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38AF1-EA10-419C-A690-E01B445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F8CF9-50E1-4D26-8173-1835F8B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BC1D1-C239-43BF-892D-3288670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CA1D9-7589-48DC-8AFA-76BFF7F0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A4198-B946-4FCB-8C33-36F34EF5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C6318-362D-4BFA-BC97-B7FEE811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BD8-449E-4F9E-84F9-80CC05BB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B7862-3B7F-42AD-AED9-A9CF4E4B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7B0E8-9E10-4089-88A4-98B913F4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C34A0-BCA8-4678-A9D6-2008037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62347-D7BE-4C89-A287-07885C4C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047EB-2B2C-4DBA-8824-C169E91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3B31B-E978-4A8B-9EAF-E7379C33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07CB-EBAB-4F42-856A-A50D9B5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DF395-8D81-400F-A50D-14BC598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6D924-2156-43BD-AB43-753F5F6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5E585-C3B0-45FB-B838-931DDAD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D63-AB21-4743-AC37-D445D419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8745-CEBA-41AD-9E2B-D027E47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DECB5-C7CC-4977-ACD1-D0A81CD6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2A791-30A7-4B53-9693-51AFF46C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7A73-F024-4D5B-B8A9-05995F49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4292-C79B-474B-931E-6A2781FD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F0D-7EDC-4C16-80BF-4288FAE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C546-E410-4BCA-8439-A3D7680C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1E21-DEC7-4220-9982-4387311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74D-CF05-4260-938B-A2F1835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159-211F-4D40-9C70-D2B066D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806-EA69-407D-BAF4-2DFCAB5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0DE5-AEF3-459D-AD25-F7FE144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B03-E350-4629-B485-68A95C01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4897-61CC-4358-A817-134B677C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1D5-56F2-4ABE-8F7D-63E92DF9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E6F0-2D97-493B-8FCA-896C0554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FB65-7E67-4B8F-8039-49D8D8D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91F8-B05E-4D5D-A7DF-D4B4F6C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98B6-0860-45BF-A1F8-DB48CFC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ECAF-0A36-4AA6-BDB4-B1A3E32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F04-5548-467B-B2DF-1DB9B68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AC00-191F-4468-90EB-22040749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BCDA-71A4-4092-9C56-04AFC96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3B99-4340-4A62-AE3D-493B454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129E-4D58-47FF-8032-DE4183E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A56A-19CF-4EA4-B628-2D950D11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DD66-8D63-42F7-8D10-826BA061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1D49-609D-4557-A243-8A706D23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D57D-6830-4D53-8234-66796264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4C7D-4C48-4FDD-8F61-D0071BA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6CF0-F067-4568-92A1-051C3C7A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71E-021C-48DA-874F-60E37AC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EFCE-794D-4B36-BC28-6A4381D5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81A8-42A9-477A-BC31-8BC3C38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0212-6EEC-4040-9523-925A683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55E1-C191-4E38-AEDB-CF44AF0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0838-53AB-4574-BFA7-E21A49E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6CA0-B2C5-437C-AC1D-755B4C8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668D-6129-4026-8E55-09019884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5DBB-B526-46C3-BEAD-0906CDAC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A48E-918E-42CE-B248-F2B2496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20AA-88F0-451F-92BD-4CC1E8F7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FFA-7BAF-4F9A-85A6-4200D8A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2180-A8C5-4B25-BEC3-8D3EE0D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005D-CD9D-4FFF-9401-52C7EB9F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2F11-6C62-434E-A1CA-10BA18D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EF68-B186-4A14-A270-252E609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0FC8-2550-4CF4-B596-363E52F3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9CC1-6DE9-4065-8DB4-71C54CF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C806-398E-4087-967F-513DF99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9830-F89D-4D74-B96A-28B001A8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AFE5-54A0-411C-87C5-381BF34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2D81-38C2-4215-A25E-B892447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BBC-5508-4D0E-A6DD-26E5845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ACAC-274A-4016-907C-19F82A4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7B52-424B-4A37-BF1A-FB601F59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096B-1A64-4DED-81B8-EA40C7F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6435-F1B6-45E5-9D2A-D20F0E4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150D-9186-46F9-BFFA-4067FF0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5D73-F3F0-435A-8517-0566AB8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D515-C1DA-4C64-976A-089D22B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CF27-346D-4CED-8BCD-8946534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6D91-5CBC-4394-8516-0EA1042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1991-0D1B-46E3-B468-177F0F7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267-DC1F-4DBA-8425-B95A609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C68E-E8AD-4CAA-B63A-A9F5A6B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96774-8EFF-4E29-A445-DBAD0C1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2705-B01B-4BA4-9B16-861051FB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AA79-F36A-4EA5-B4E1-88FD26A3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1B7A-D5F2-4040-A273-38823E2E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B74B-1D60-419C-B448-666AB339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143A3-A6A4-4886-9DB1-FC7647B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758F-1784-4B89-A60F-D2681173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96C5-E1D8-4E6F-B59E-73E92BF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E8A6-8D5C-41F5-8727-F197E0F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1F6-498F-4FF4-A59C-8F537E7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3DDF-D990-4DFB-A51B-2B48358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A511-C7FA-4AC9-9789-E2849E9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FCA8-35DC-44A4-A779-A6105D8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07BC-C11E-486B-9F87-CF491DF6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A08C-F887-4F08-B493-B9408C7A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32052-2A61-458B-9B95-F59CA438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CE04-3CE9-49D7-973C-23CBDF20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448A3-32D9-4840-8157-61CA615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E013-7773-4073-A2CE-C63D8E0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6BBC-CC2F-471E-9C99-65E5F4C8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1A3-8944-434D-AF7D-CF35179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E0CA0-2F13-4726-B04F-1DF880DD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FE21-9C7B-4FA3-9341-B6EE199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01AE-9B4A-4EE3-80DA-B2450F3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3BCF2-76AC-4C5C-B241-1443450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8E8C-619D-456A-BFDC-C7F622D4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AEBB-3FFE-437C-B545-DEEC4114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419E-302C-4FF0-B5C0-2D2EFF67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58753-AD7F-4982-9EB1-A7137720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E6A6-AEAC-4E50-B13F-52E4BC31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436B-48DB-4BA1-AA9F-E334E23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EF96-4251-4D10-B62D-AD895BF18E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EC48-FE8F-4C16-AE71-1520D4839F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D3A-0FE1-4229-8C4E-68C3F483B5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51F-383B-4F49-A31C-5F54B9CEE3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F0C1-9F86-428B-B099-99CE10C51F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D80-8F51-427D-8AB8-593631DE83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B217-7994-4FDC-9811-1B879F1232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DD5A-E247-47A0-AAC6-862F8FAF93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8F2D-2F84-4F05-884B-0A07A6831D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BE9A-98B6-40B1-9CEA-B3DC9E1FD7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003-B569-4136-AD44-D07FB77922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1040"/>
          <p:cNvSpPr txBox="1"/>
          <p:nvPr/>
        </p:nvSpPr>
        <p:spPr>
          <a:xfrm>
            <a:off x="1428840" y="1928880"/>
            <a:ext cx="6553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Заголовок 7" descr=""/>
          <p:cNvPicPr/>
          <p:nvPr/>
        </p:nvPicPr>
        <p:blipFill>
          <a:blip r:embed="rId1"/>
          <a:stretch/>
        </p:blipFill>
        <p:spPr>
          <a:xfrm>
            <a:off x="-23760" y="4651200"/>
            <a:ext cx="8869320" cy="14320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                    </a:t>
            </a: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Костырина О.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МОУ № 3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5"/>
          <p:cNvSpPr/>
          <p:nvPr/>
        </p:nvSpPr>
        <p:spPr>
          <a:xfrm>
            <a:off x="2209680" y="175248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 образные выражения, характеризующие разные природные зоны. О каких природных зонах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6"/>
          <p:cNvSpPr txBox="1"/>
          <p:nvPr/>
        </p:nvSpPr>
        <p:spPr>
          <a:xfrm rot="5400000">
            <a:off x="4381560" y="316692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33" name="WordArt 9"/>
          <p:cNvSpPr txBox="1"/>
          <p:nvPr/>
        </p:nvSpPr>
        <p:spPr>
          <a:xfrm rot="82800">
            <a:off x="847440" y="1741320"/>
            <a:ext cx="1285920" cy="175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PMingLiU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PMingLiU"/>
              <a:ea typeface="PMingLiU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304920" y="36576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ство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ство льда и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 т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лнечного ог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ство мхов и лишай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76960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5"/>
          <p:cNvSpPr txBox="1"/>
          <p:nvPr/>
        </p:nvSpPr>
        <p:spPr>
          <a:xfrm>
            <a:off x="3124080" y="2286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оверь себя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3"/>
          <p:cNvSpPr txBox="1"/>
          <p:nvPr/>
        </p:nvSpPr>
        <p:spPr>
          <a:xfrm>
            <a:off x="2743200" y="30492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литератур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8" name="Picture 5" descr="STACK2"/>
          <p:cNvPicPr/>
          <p:nvPr/>
        </p:nvPicPr>
        <p:blipFill>
          <a:blip r:embed="rId1"/>
          <a:stretch/>
        </p:blipFill>
        <p:spPr>
          <a:xfrm>
            <a:off x="304920" y="1447920"/>
            <a:ext cx="2103480" cy="4343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2971800" y="1752480"/>
            <a:ext cx="5486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оведение: Учеб.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кл. (1-4). А.А.Плеш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 учеба и игра:            природовед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И. Тараб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438280" y="3808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7924680" y="60199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Введ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Ледяная зо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Зона тунд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 action="ppaction://hlinksldjump"/>
              </a:rPr>
              <a:t>Зона лес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 action="ppaction://hlinksldjump"/>
              </a:rPr>
              <a:t>Зона степ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 action="ppaction://hlinksldjump"/>
              </a:rPr>
              <a:t>Зона пустын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ь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итера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WordArt 6"/>
          <p:cNvSpPr txBox="1"/>
          <p:nvPr/>
        </p:nvSpPr>
        <p:spPr>
          <a:xfrm>
            <a:off x="3124080" y="4572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1" descr="01"/>
          <p:cNvPicPr/>
          <p:nvPr/>
        </p:nvPicPr>
        <p:blipFill>
          <a:blip r:embed="rId1"/>
          <a:stretch/>
        </p:blipFill>
        <p:spPr>
          <a:xfrm>
            <a:off x="0" y="1371600"/>
            <a:ext cx="5562720" cy="37339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181120" y="1219320"/>
            <a:ext cx="36608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рода России очень разнообраз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направлении с севера на юг в нашей стране сменяют друг друга природные зоны: ледяная зона, зона тундры, зона лесов, зона степей, зона пусты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AutoShape 8"/>
          <p:cNvSpPr/>
          <p:nvPr/>
        </p:nvSpPr>
        <p:spPr>
          <a:xfrm>
            <a:off x="7162920" y="60958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3048120" y="3049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веде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96840" y="225360"/>
            <a:ext cx="872316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Object 3"/>
          <p:cNvGraphicFramePr/>
          <p:nvPr/>
        </p:nvGraphicFramePr>
        <p:xfrm>
          <a:off x="228600" y="1506600"/>
          <a:ext cx="8529480" cy="48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06600"/>
                    <a:ext cx="85294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9" descr="anm0024"/>
          <p:cNvPicPr/>
          <p:nvPr/>
        </p:nvPicPr>
        <p:blipFill>
          <a:blip r:embed="rId1"/>
          <a:stretch/>
        </p:blipFill>
        <p:spPr>
          <a:xfrm>
            <a:off x="0" y="20574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12408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 островах Арктики расположена ледяная зо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лнце в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рктик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никогда не поднимается высоко над горизонтом. Его лучи скользят по поверхности земли, давая ей мало тепла.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от почему здесь – царство снега и льда. К жизни в суровых условиях Арктики приспособились немногие растения и животны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7620120" y="6248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3124080" y="30492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ледяная зон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2895480" cy="3962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819520" y="13716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Южнее ледяной зоны вдоль берегов северных морей протянулась зона тундры. На тысячи километров с запада на восток – холодная безлесная равнина… Природные условия тундры похожи на природные условия Арктики, но менее суровы. Основное занятие местного населения – оленеводство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7696080" y="58672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WordArt 10"/>
          <p:cNvSpPr txBox="1"/>
          <p:nvPr/>
        </p:nvSpPr>
        <p:spPr>
          <a:xfrm>
            <a:off x="2819520" y="380880"/>
            <a:ext cx="3809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она тундры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Опять рысь!!!"/>
          <p:cNvPicPr/>
          <p:nvPr/>
        </p:nvPicPr>
        <p:blipFill>
          <a:blip r:embed="rId1"/>
          <a:stretch/>
        </p:blipFill>
        <p:spPr>
          <a:xfrm>
            <a:off x="0" y="1771560"/>
            <a:ext cx="3809880" cy="3257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429000" y="1294920"/>
            <a:ext cx="526104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она лесов занимает больше половины территории России. В зону лесов входят хвойные, смешанные и широколиственные леса. Растения и животные лесов очень разнообразны. Многие из них нуждаются в охран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7620120" y="6172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9"/>
          <p:cNvSpPr txBox="1"/>
          <p:nvPr/>
        </p:nvSpPr>
        <p:spPr>
          <a:xfrm>
            <a:off x="3048120" y="4572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она лесов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9" descr="Mf0343"/>
          <p:cNvPicPr/>
          <p:nvPr/>
        </p:nvPicPr>
        <p:blipFill>
          <a:blip r:embed="rId1"/>
          <a:stretch/>
        </p:blipFill>
        <p:spPr>
          <a:xfrm>
            <a:off x="0" y="1631880"/>
            <a:ext cx="3581280" cy="37782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428640" y="1219320"/>
            <a:ext cx="5715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степной зоне очень теплое, продолжительное, засушливое лето. В прошлом в степной зоне были бескрайние степи. Теперь они почти везде распаханы. Их место заняли поля, сады. Сохранившиеся участки степей с их замечательным растительным и животным миром необходимо оберегать.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8077320" y="59436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13"/>
          <p:cNvSpPr txBox="1"/>
          <p:nvPr/>
        </p:nvSpPr>
        <p:spPr>
          <a:xfrm>
            <a:off x="3200400" y="3049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она степей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Mf0549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657600" y="1219320"/>
            <a:ext cx="50292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России пустыни занимают небольшую площадь – по берегам Каспийского моря, к западу и к востоку от низовьев Волги. В пустынях очень жаркое, засушливое лето. Но многие растения и животные приспособились к этим условия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8001000" y="60958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9"/>
          <p:cNvSpPr txBox="1"/>
          <p:nvPr/>
        </p:nvSpPr>
        <p:spPr>
          <a:xfrm>
            <a:off x="3048120" y="380880"/>
            <a:ext cx="3047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она пустынь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4:09:31Z</dcterms:created>
  <dc:creator>ков</dc:creator>
  <dc:description/>
  <dc:language>en-US</dc:language>
  <cp:lastModifiedBy>1</cp:lastModifiedBy>
  <dcterms:modified xsi:type="dcterms:W3CDTF">2009-06-04T17:55:29Z</dcterms:modified>
  <cp:revision>48</cp:revision>
  <dc:subject/>
  <dc:title>Природные зоны.</dc:title>
</cp:coreProperties>
</file>