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D1D2-114A-4C8B-94FB-70BFBC5DE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F80F-0FB0-42B7-BBFF-C7FF7A488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B151-9D08-485D-A719-B9C6C06A5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C9AD-C9D3-4991-8326-443ABE5DA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A7466-06D7-4A97-B890-29CBC5D8D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50D70-3CEF-4F76-B898-6D5C51C0B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2C24D-88B0-4B87-96D7-14C73832A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D67E6-F636-43DC-8A03-C8B3D6FB7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853C6-A50D-4D8A-BEF4-D119E192B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1E698-E523-402F-9729-B0A1565F5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C0B70-872B-4B3D-AC35-CA82D8B0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103B-B914-4F94-892C-6EB2FF21C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46DC0-9E72-4B8F-94E6-A070C30C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6C2B4-B4E7-448C-8260-A3AD0C42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96A35-224F-4622-BE8B-B33E966F6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84503-1DE5-4B57-9AC8-DC461C080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EDD7F-1641-491E-AA2A-73278A133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6A92-4F10-4A9B-8C27-20642F12F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2B19-C0FA-4F8B-91EA-1D3C77AC9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E88C-AD79-4291-A9A1-F9E593815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5892-2B21-4E40-A37A-5A7ED5EF7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3490-0D5F-4A76-A5B5-8AAD0716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4791-61D1-4EF2-87CF-E2E1104B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E58D-49C5-4F29-A652-934DAFD8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cc3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33cc3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cc33">
                    <a:alpha val="0"/>
                  </a:srgbClr>
                </a:gs>
                <a:gs pos="100000">
                  <a:srgbClr val="2aa72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cd24c"/>
                </a:gs>
                <a:gs pos="100000">
                  <a:srgbClr val="33cc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4cd24c"/>
                </a:gs>
                <a:gs pos="100000">
                  <a:srgbClr val="33cc3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cc33">
                    <a:alpha val="0"/>
                  </a:srgbClr>
                </a:gs>
                <a:gs pos="100000">
                  <a:srgbClr val="2aa72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cd24c"/>
                </a:gs>
                <a:gs pos="100000">
                  <a:srgbClr val="33cc33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267F5-CD98-4AC3-A142-B79AD91F4D7D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33cc3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cc3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cc33">
                    <a:alpha val="0"/>
                  </a:srgbClr>
                </a:gs>
                <a:gs pos="100000">
                  <a:srgbClr val="2aa72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cc33">
                    <a:alpha val="0"/>
                  </a:srgbClr>
                </a:gs>
                <a:gs pos="100000">
                  <a:srgbClr val="2aa72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cd24c"/>
                </a:gs>
                <a:gs pos="100000">
                  <a:srgbClr val="33cc3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cd24c"/>
                </a:gs>
                <a:gs pos="100000">
                  <a:srgbClr val="33cc3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32E41-BDBC-46EC-A631-C5A0E99162C7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71640" y="4724280"/>
            <a:ext cx="7345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e6b00"/>
              </a:solidFill>
              <a:latin typeface="Arial"/>
            </a:endParaRPr>
          </a:p>
        </p:txBody>
      </p:sp>
      <p:sp>
        <p:nvSpPr>
          <p:cNvPr id="100" name="WordArt 4"/>
          <p:cNvSpPr txBox="1"/>
          <p:nvPr/>
        </p:nvSpPr>
        <p:spPr>
          <a:xfrm>
            <a:off x="1042920" y="1916280"/>
            <a:ext cx="7058160" cy="120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1" lang="en-US" sz="44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781760" cy="58370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3" name="Picture 4" descr="C:\Users\User\Desktop\Новая папка (3)\img14.jpg"/>
          <p:cNvPicPr/>
          <p:nvPr/>
        </p:nvPicPr>
        <p:blipFill>
          <a:blip r:embed="rId1"/>
          <a:stretch/>
        </p:blipFill>
        <p:spPr>
          <a:xfrm>
            <a:off x="611280" y="333360"/>
            <a:ext cx="7969320" cy="59752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70c0"/>
              </a:solidFill>
              <a:latin typeface="Arial Black"/>
            </a:endParaRPr>
          </a:p>
        </p:txBody>
      </p:sp>
      <p:pic>
        <p:nvPicPr>
          <p:cNvPr id="105" name="Picture 4" descr="C:\Users\User\Desktop\Новая папка (3)\slide_17.jpg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62643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C:\Users\User\Desktop\Новая папка (3)\img2.jpg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8" name="Picture 4" descr="C:\Users\User\Desktop\Новая папка (3)\img3.jpg"/>
          <p:cNvPicPr/>
          <p:nvPr/>
        </p:nvPicPr>
        <p:blipFill>
          <a:blip r:embed="rId1"/>
          <a:stretch/>
        </p:blipFill>
        <p:spPr>
          <a:xfrm>
            <a:off x="360360" y="333360"/>
            <a:ext cx="8448840" cy="63356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51832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Приёмы ТРИЗ-технологии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7720" y="1557360"/>
            <a:ext cx="800748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61616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161616"/>
                </a:solidFill>
                <a:latin typeface="Arial"/>
              </a:rPr>
              <a:t>Круги Лулл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161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161616"/>
                </a:solidFill>
                <a:latin typeface="Arial"/>
              </a:rPr>
              <a:t>Игра «Хорошо – плохо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161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161616"/>
                </a:solidFill>
                <a:latin typeface="Arial"/>
              </a:rPr>
              <a:t>Дразнил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1616"/>
                </a:solidFill>
                <a:latin typeface="Arial"/>
              </a:rPr>
              <a:t>Схемы(мнемотехник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1616"/>
                </a:solidFill>
                <a:latin typeface="Arial"/>
              </a:rPr>
              <a:t>Игра «Объедини в группы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1616"/>
                </a:solidFill>
                <a:latin typeface="Arial"/>
              </a:rPr>
              <a:t>Игра «Что ещё? Кто ещё?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70c0"/>
                </a:solidFill>
                <a:latin typeface="Arial Black"/>
              </a:rPr>
              <a:t>СПАСИБО ЗА ВНИМА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 spd="slow" advTm="10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8T04:49:21Z</dcterms:created>
  <dc:creator>pptforschool.ru</dc:creator>
  <dc:description/>
  <dc:language>en-US</dc:language>
  <cp:lastModifiedBy>User</cp:lastModifiedBy>
  <dcterms:modified xsi:type="dcterms:W3CDTF">2018-10-05T05:52:14Z</dcterms:modified>
  <cp:revision>35</cp:revision>
  <dc:subject/>
  <dc:title>Slajd 1</dc:title>
</cp:coreProperties>
</file>